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652A-CF83-4FD6-811B-9931FB3B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1122-7C12-4B6D-B42F-9ABD4D7A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45CA-129A-47D1-B2ED-8FE4533A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583C-109D-4342-BFFC-B2E30714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51E-C1AF-4DD1-99E6-82774D18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BCF-EF2C-4988-8087-79D56B16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C19-3A61-4D56-A171-CC047DEA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1B2-E74E-4834-86FA-3242B277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6A81-7B28-49F6-9F47-4DC70BB4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1520-B9DE-4B54-8078-840E0885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6AD-DDDF-420C-B34F-FDA36DE7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886-3709-4698-B6A3-12F58B5E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C191-1EFA-431B-BE62-D808CC1C4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volution of th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6840" y="0"/>
            <a:ext cx="2895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ther tilted toward or away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isphere gets “medium amount” of direc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2"/>
          <p:cNvSpPr/>
          <p:nvPr/>
        </p:nvSpPr>
        <p:spPr>
          <a:xfrm flipH="1">
            <a:off x="3274560" y="1440"/>
            <a:ext cx="324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1143000" y="1752480"/>
            <a:ext cx="6629400" cy="4724640"/>
            <a:chOff x="1143000" y="1752480"/>
            <a:chExt cx="6629400" cy="4724640"/>
          </a:xfrm>
        </p:grpSpPr>
        <p:pic>
          <p:nvPicPr>
            <p:cNvPr id="177" name="Picture 13" descr="seasons"/>
            <p:cNvPicPr/>
            <p:nvPr/>
          </p:nvPicPr>
          <p:blipFill>
            <a:blip r:embed="rId1"/>
            <a:stretch/>
          </p:blipFill>
          <p:spPr>
            <a:xfrm>
              <a:off x="1143000" y="1752480"/>
              <a:ext cx="6629400" cy="46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Line 14"/>
            <p:cNvSpPr/>
            <p:nvPr/>
          </p:nvSpPr>
          <p:spPr>
            <a:xfrm>
              <a:off x="144792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7"/>
            <p:cNvGrpSpPr/>
            <p:nvPr/>
          </p:nvGrpSpPr>
          <p:grpSpPr>
            <a:xfrm>
              <a:off x="1143000" y="5181480"/>
              <a:ext cx="609480" cy="1295640"/>
              <a:chOff x="1143000" y="5181480"/>
              <a:chExt cx="609480" cy="1295640"/>
            </a:xfrm>
          </p:grpSpPr>
          <p:sp>
            <p:nvSpPr>
              <p:cNvPr id="180" name="Line 15"/>
              <p:cNvSpPr/>
              <p:nvPr/>
            </p:nvSpPr>
            <p:spPr>
              <a:xfrm>
                <a:off x="1371600" y="64771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6"/>
              <p:cNvSpPr/>
              <p:nvPr/>
            </p:nvSpPr>
            <p:spPr>
              <a:xfrm flipV="1">
                <a:off x="1143000" y="51814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38098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rn Hemisp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4114800" y="4572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ons are oppo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7"/>
          <p:cNvSpPr/>
          <p:nvPr/>
        </p:nvSpPr>
        <p:spPr>
          <a:xfrm flipH="1">
            <a:off x="2895480" y="0"/>
            <a:ext cx="7632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08opposite-hemispheres-flashlight-sm"/>
          <p:cNvPicPr/>
          <p:nvPr/>
        </p:nvPicPr>
        <p:blipFill>
          <a:blip r:embed="rId1"/>
          <a:stretch/>
        </p:blipFill>
        <p:spPr>
          <a:xfrm>
            <a:off x="228600" y="1982880"/>
            <a:ext cx="86868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304920" y="30492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olution of th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rip around the sun (one orb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er-clockwise when looking down on the sola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365 da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 y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ctually 365 ¼ d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j0219099"/>
          <p:cNvPicPr/>
          <p:nvPr/>
        </p:nvPicPr>
        <p:blipFill>
          <a:blip r:embed="rId1"/>
          <a:stretch/>
        </p:blipFill>
        <p:spPr>
          <a:xfrm>
            <a:off x="3352680" y="5257800"/>
            <a:ext cx="1190880" cy="96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arth_revolution"/>
          <p:cNvPicPr/>
          <p:nvPr/>
        </p:nvPicPr>
        <p:blipFill>
          <a:blip r:embed="rId2"/>
          <a:stretch/>
        </p:blipFill>
        <p:spPr>
          <a:xfrm>
            <a:off x="3124080" y="28195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9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1"/>
          <p:cNvSpPr/>
          <p:nvPr/>
        </p:nvSpPr>
        <p:spPr>
          <a:xfrm flipH="1">
            <a:off x="2588760" y="1297080"/>
            <a:ext cx="3240" cy="55623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ason for the Sea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dist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u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orbits in the sun in a shape called an el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ipses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3733920" y="4343400"/>
            <a:ext cx="20574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8"/>
          <p:cNvSpPr/>
          <p:nvPr/>
        </p:nvSpPr>
        <p:spPr>
          <a:xfrm>
            <a:off x="6934320" y="41148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9"/>
          <p:cNvSpPr/>
          <p:nvPr/>
        </p:nvSpPr>
        <p:spPr>
          <a:xfrm>
            <a:off x="0" y="1295280"/>
            <a:ext cx="9144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1"/>
          <p:cNvSpPr/>
          <p:nvPr/>
        </p:nvSpPr>
        <p:spPr>
          <a:xfrm flipH="1">
            <a:off x="2819520" y="1373040"/>
            <a:ext cx="77760" cy="54849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151920"/>
            <a:ext cx="304812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El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j0237272"/>
          <p:cNvPicPr/>
          <p:nvPr/>
        </p:nvPicPr>
        <p:blipFill>
          <a:blip r:embed="rId1"/>
          <a:stretch/>
        </p:blipFill>
        <p:spPr>
          <a:xfrm>
            <a:off x="5105520" y="304920"/>
            <a:ext cx="2209680" cy="22683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17"/>
          <p:cNvGrpSpPr/>
          <p:nvPr/>
        </p:nvGrpSpPr>
        <p:grpSpPr>
          <a:xfrm>
            <a:off x="3352680" y="3886200"/>
            <a:ext cx="5790960" cy="2628720"/>
            <a:chOff x="3352680" y="3886200"/>
            <a:chExt cx="5790960" cy="2628720"/>
          </a:xfrm>
        </p:grpSpPr>
        <p:pic>
          <p:nvPicPr>
            <p:cNvPr id="59" name="Picture 6" descr="MCj04325690000[1]"/>
            <p:cNvPicPr/>
            <p:nvPr/>
          </p:nvPicPr>
          <p:blipFill>
            <a:blip r:embed="rId2"/>
            <a:stretch/>
          </p:blipFill>
          <p:spPr>
            <a:xfrm>
              <a:off x="8571960" y="4822560"/>
              <a:ext cx="57168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5" descr="MCj04325690000[1]"/>
            <p:cNvPicPr/>
            <p:nvPr/>
          </p:nvPicPr>
          <p:blipFill>
            <a:blip r:embed="rId3"/>
            <a:stretch/>
          </p:blipFill>
          <p:spPr>
            <a:xfrm>
              <a:off x="3352680" y="4894560"/>
              <a:ext cx="57168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9" descr="MCj04325690000[1]"/>
            <p:cNvPicPr/>
            <p:nvPr/>
          </p:nvPicPr>
          <p:blipFill>
            <a:blip r:embed="rId4"/>
            <a:stretch/>
          </p:blipFill>
          <p:spPr>
            <a:xfrm>
              <a:off x="6140880" y="5974920"/>
              <a:ext cx="53640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2" descr="MCj04325690000[1]"/>
            <p:cNvPicPr/>
            <p:nvPr/>
          </p:nvPicPr>
          <p:blipFill>
            <a:blip r:embed="rId5"/>
            <a:stretch/>
          </p:blipFill>
          <p:spPr>
            <a:xfrm>
              <a:off x="6069240" y="3886200"/>
              <a:ext cx="57204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3" descr="MCj02321720000[1]"/>
            <p:cNvPicPr/>
            <p:nvPr/>
          </p:nvPicPr>
          <p:blipFill>
            <a:blip r:embed="rId6"/>
            <a:stretch/>
          </p:blipFill>
          <p:spPr>
            <a:xfrm>
              <a:off x="7284960" y="4750200"/>
              <a:ext cx="92916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Oval 14"/>
            <p:cNvSpPr/>
            <p:nvPr/>
          </p:nvSpPr>
          <p:spPr>
            <a:xfrm>
              <a:off x="3638520" y="4102200"/>
              <a:ext cx="5123520" cy="223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5"/>
          <p:cNvSpPr/>
          <p:nvPr/>
        </p:nvSpPr>
        <p:spPr>
          <a:xfrm>
            <a:off x="5791320" y="2819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4"/>
          <p:cNvSpPr/>
          <p:nvPr/>
        </p:nvSpPr>
        <p:spPr>
          <a:xfrm flipH="1">
            <a:off x="3045960" y="1440"/>
            <a:ext cx="324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00earthorbit3s"/>
          <p:cNvPicPr/>
          <p:nvPr/>
        </p:nvPicPr>
        <p:blipFill>
          <a:blip r:embed="rId1"/>
          <a:stretch/>
        </p:blipFill>
        <p:spPr>
          <a:xfrm>
            <a:off x="838080" y="0"/>
            <a:ext cx="7286760" cy="5649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457200" y="58672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 closely, when in the Earth actually closer to the su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990360"/>
            <a:ext cx="3352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1"/>
          <p:cNvSpPr/>
          <p:nvPr/>
        </p:nvSpPr>
        <p:spPr>
          <a:xfrm>
            <a:off x="5791320" y="5410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7"/>
          <p:cNvGrpSpPr/>
          <p:nvPr/>
        </p:nvGrpSpPr>
        <p:grpSpPr>
          <a:xfrm>
            <a:off x="3581280" y="4114800"/>
            <a:ext cx="2243160" cy="2533680"/>
            <a:chOff x="3581280" y="4114800"/>
            <a:chExt cx="2243160" cy="2533680"/>
          </a:xfrm>
        </p:grpSpPr>
        <p:grpSp>
          <p:nvGrpSpPr>
            <p:cNvPr id="72" name="Group 10"/>
            <p:cNvGrpSpPr/>
            <p:nvPr/>
          </p:nvGrpSpPr>
          <p:grpSpPr>
            <a:xfrm>
              <a:off x="3581280" y="4114800"/>
              <a:ext cx="2243160" cy="2533680"/>
              <a:chOff x="3581280" y="4114800"/>
              <a:chExt cx="2243160" cy="2533680"/>
            </a:xfrm>
          </p:grpSpPr>
          <p:sp>
            <p:nvSpPr>
              <p:cNvPr id="73" name="AutoShape 9"/>
              <p:cNvSpPr/>
              <p:nvPr/>
            </p:nvSpPr>
            <p:spPr>
              <a:xfrm>
                <a:off x="3581280" y="4114800"/>
                <a:ext cx="2243160" cy="25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1"/>
              <p:cNvSpPr/>
              <p:nvPr/>
            </p:nvSpPr>
            <p:spPr>
              <a:xfrm>
                <a:off x="3605040" y="4343400"/>
                <a:ext cx="2189160" cy="2273400"/>
              </a:xfrm>
              <a:custGeom>
                <a:avLst/>
                <a:gdLst>
                  <a:gd name="textAreaLeft" fmla="*/ 0 w 2189160"/>
                  <a:gd name="textAreaRight" fmla="*/ 2189520 w 2189160"/>
                  <a:gd name="textAreaTop" fmla="*/ 0 h 2273400"/>
                  <a:gd name="textAreaBottom" fmla="*/ 2273760 h 2273400"/>
                </a:gdLst>
                <a:ahLst/>
                <a:rect l="textAreaLeft" t="textAreaTop" r="textAreaRight" b="textAreaBottom"/>
                <a:pathLst>
                  <a:path w="2758" h="2865">
                    <a:moveTo>
                      <a:pt x="1513" y="0"/>
                    </a:moveTo>
                    <a:lnTo>
                      <a:pt x="1813" y="78"/>
                    </a:lnTo>
                    <a:lnTo>
                      <a:pt x="2076" y="200"/>
                    </a:lnTo>
                    <a:lnTo>
                      <a:pt x="2372" y="428"/>
                    </a:lnTo>
                    <a:lnTo>
                      <a:pt x="2623" y="747"/>
                    </a:lnTo>
                    <a:lnTo>
                      <a:pt x="2731" y="1076"/>
                    </a:lnTo>
                    <a:lnTo>
                      <a:pt x="2758" y="1401"/>
                    </a:lnTo>
                    <a:lnTo>
                      <a:pt x="2737" y="1764"/>
                    </a:lnTo>
                    <a:lnTo>
                      <a:pt x="2610" y="2124"/>
                    </a:lnTo>
                    <a:lnTo>
                      <a:pt x="2486" y="2340"/>
                    </a:lnTo>
                    <a:lnTo>
                      <a:pt x="2543" y="2603"/>
                    </a:lnTo>
                    <a:lnTo>
                      <a:pt x="2553" y="2745"/>
                    </a:lnTo>
                    <a:lnTo>
                      <a:pt x="2024" y="2808"/>
                    </a:lnTo>
                    <a:lnTo>
                      <a:pt x="1179" y="2865"/>
                    </a:lnTo>
                    <a:lnTo>
                      <a:pt x="865" y="2415"/>
                    </a:lnTo>
                    <a:lnTo>
                      <a:pt x="654" y="2329"/>
                    </a:lnTo>
                    <a:lnTo>
                      <a:pt x="422" y="2181"/>
                    </a:lnTo>
                    <a:lnTo>
                      <a:pt x="255" y="1987"/>
                    </a:lnTo>
                    <a:lnTo>
                      <a:pt x="120" y="1749"/>
                    </a:lnTo>
                    <a:lnTo>
                      <a:pt x="23" y="1479"/>
                    </a:lnTo>
                    <a:lnTo>
                      <a:pt x="0" y="1156"/>
                    </a:lnTo>
                    <a:lnTo>
                      <a:pt x="740" y="335"/>
                    </a:lnTo>
                    <a:lnTo>
                      <a:pt x="1513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2"/>
              <p:cNvSpPr/>
              <p:nvPr/>
            </p:nvSpPr>
            <p:spPr>
              <a:xfrm>
                <a:off x="3820680" y="4554720"/>
                <a:ext cx="1771920" cy="2044800"/>
              </a:xfrm>
              <a:custGeom>
                <a:avLst/>
                <a:gdLst>
                  <a:gd name="textAreaLeft" fmla="*/ 0 w 1771920"/>
                  <a:gd name="textAreaRight" fmla="*/ 1772280 w 1771920"/>
                  <a:gd name="textAreaTop" fmla="*/ 0 h 2044800"/>
                  <a:gd name="textAreaBottom" fmla="*/ 2045160 h 2044800"/>
                </a:gdLst>
                <a:ahLst/>
                <a:rect l="textAreaLeft" t="textAreaTop" r="textAreaRight" b="textAreaBottom"/>
                <a:pathLst>
                  <a:path w="2231" h="2576">
                    <a:moveTo>
                      <a:pt x="1709" y="0"/>
                    </a:moveTo>
                    <a:lnTo>
                      <a:pt x="1868" y="110"/>
                    </a:lnTo>
                    <a:lnTo>
                      <a:pt x="2022" y="285"/>
                    </a:lnTo>
                    <a:lnTo>
                      <a:pt x="2153" y="502"/>
                    </a:lnTo>
                    <a:lnTo>
                      <a:pt x="2214" y="755"/>
                    </a:lnTo>
                    <a:lnTo>
                      <a:pt x="2231" y="981"/>
                    </a:lnTo>
                    <a:lnTo>
                      <a:pt x="2203" y="1226"/>
                    </a:lnTo>
                    <a:lnTo>
                      <a:pt x="2110" y="1483"/>
                    </a:lnTo>
                    <a:lnTo>
                      <a:pt x="1998" y="1658"/>
                    </a:lnTo>
                    <a:lnTo>
                      <a:pt x="1851" y="1837"/>
                    </a:lnTo>
                    <a:lnTo>
                      <a:pt x="1840" y="2000"/>
                    </a:lnTo>
                    <a:lnTo>
                      <a:pt x="1920" y="2103"/>
                    </a:lnTo>
                    <a:lnTo>
                      <a:pt x="2026" y="2405"/>
                    </a:lnTo>
                    <a:lnTo>
                      <a:pt x="990" y="2576"/>
                    </a:lnTo>
                    <a:lnTo>
                      <a:pt x="939" y="2086"/>
                    </a:lnTo>
                    <a:lnTo>
                      <a:pt x="787" y="2057"/>
                    </a:lnTo>
                    <a:lnTo>
                      <a:pt x="570" y="2000"/>
                    </a:lnTo>
                    <a:lnTo>
                      <a:pt x="399" y="1920"/>
                    </a:lnTo>
                    <a:lnTo>
                      <a:pt x="196" y="1801"/>
                    </a:lnTo>
                    <a:lnTo>
                      <a:pt x="0" y="1420"/>
                    </a:lnTo>
                    <a:lnTo>
                      <a:pt x="462" y="856"/>
                    </a:lnTo>
                    <a:lnTo>
                      <a:pt x="1709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3"/>
              <p:cNvSpPr/>
              <p:nvPr/>
            </p:nvSpPr>
            <p:spPr>
              <a:xfrm>
                <a:off x="4358880" y="4875480"/>
                <a:ext cx="1119240" cy="139212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392120"/>
                  <a:gd name="textAreaBottom" fmla="*/ 1392120 h 1392120"/>
                </a:gdLst>
                <a:ahLst/>
                <a:rect l="textAreaLeft" t="textAreaTop" r="textAreaRight" b="textAreaBottom"/>
                <a:pathLst>
                  <a:path w="1410" h="1755">
                    <a:moveTo>
                      <a:pt x="1298" y="0"/>
                    </a:moveTo>
                    <a:lnTo>
                      <a:pt x="1364" y="188"/>
                    </a:lnTo>
                    <a:lnTo>
                      <a:pt x="1410" y="365"/>
                    </a:lnTo>
                    <a:lnTo>
                      <a:pt x="1404" y="580"/>
                    </a:lnTo>
                    <a:lnTo>
                      <a:pt x="1353" y="816"/>
                    </a:lnTo>
                    <a:lnTo>
                      <a:pt x="1229" y="1065"/>
                    </a:lnTo>
                    <a:lnTo>
                      <a:pt x="1091" y="1213"/>
                    </a:lnTo>
                    <a:lnTo>
                      <a:pt x="948" y="1346"/>
                    </a:lnTo>
                    <a:lnTo>
                      <a:pt x="887" y="1515"/>
                    </a:lnTo>
                    <a:lnTo>
                      <a:pt x="1013" y="1755"/>
                    </a:lnTo>
                    <a:lnTo>
                      <a:pt x="448" y="1629"/>
                    </a:lnTo>
                    <a:lnTo>
                      <a:pt x="0" y="1441"/>
                    </a:lnTo>
                    <a:lnTo>
                      <a:pt x="0" y="1259"/>
                    </a:lnTo>
                    <a:lnTo>
                      <a:pt x="1298" y="0"/>
                    </a:lnTo>
                    <a:close/>
                  </a:path>
                </a:pathLst>
              </a:custGeom>
              <a:solidFill>
                <a:srgbClr val="8a8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4"/>
              <p:cNvSpPr/>
              <p:nvPr/>
            </p:nvSpPr>
            <p:spPr>
              <a:xfrm>
                <a:off x="4535280" y="6301080"/>
                <a:ext cx="777960" cy="284040"/>
              </a:xfrm>
              <a:custGeom>
                <a:avLst/>
                <a:gdLst>
                  <a:gd name="textAreaLeft" fmla="*/ 0 w 777960"/>
                  <a:gd name="textAreaRight" fmla="*/ 778320 w 77796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981" h="357">
                    <a:moveTo>
                      <a:pt x="40" y="156"/>
                    </a:moveTo>
                    <a:lnTo>
                      <a:pt x="891" y="0"/>
                    </a:lnTo>
                    <a:lnTo>
                      <a:pt x="981" y="159"/>
                    </a:lnTo>
                    <a:lnTo>
                      <a:pt x="350" y="296"/>
                    </a:lnTo>
                    <a:lnTo>
                      <a:pt x="0" y="357"/>
                    </a:lnTo>
                    <a:lnTo>
                      <a:pt x="40" y="156"/>
                    </a:lnTo>
                    <a:close/>
                  </a:path>
                </a:pathLst>
              </a:custGeom>
              <a:solidFill>
                <a:srgbClr val="cc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5"/>
              <p:cNvSpPr/>
              <p:nvPr/>
            </p:nvSpPr>
            <p:spPr>
              <a:xfrm>
                <a:off x="4079520" y="6288120"/>
                <a:ext cx="486000" cy="308160"/>
              </a:xfrm>
              <a:custGeom>
                <a:avLst/>
                <a:gdLst>
                  <a:gd name="textAreaLeft" fmla="*/ 0 w 486000"/>
                  <a:gd name="textAreaRight" fmla="*/ 486360 w 48600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612" h="387">
                    <a:moveTo>
                      <a:pt x="89" y="0"/>
                    </a:moveTo>
                    <a:lnTo>
                      <a:pt x="612" y="180"/>
                    </a:lnTo>
                    <a:lnTo>
                      <a:pt x="582" y="387"/>
                    </a:lnTo>
                    <a:lnTo>
                      <a:pt x="0" y="137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e6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6"/>
              <p:cNvSpPr/>
              <p:nvPr/>
            </p:nvSpPr>
            <p:spPr>
              <a:xfrm>
                <a:off x="4171680" y="6186600"/>
                <a:ext cx="1028880" cy="244440"/>
              </a:xfrm>
              <a:custGeom>
                <a:avLst/>
                <a:gdLst>
                  <a:gd name="textAreaLeft" fmla="*/ 0 w 1028880"/>
                  <a:gd name="textAreaRight" fmla="*/ 1029240 w 102888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296" h="308">
                    <a:moveTo>
                      <a:pt x="490" y="27"/>
                    </a:moveTo>
                    <a:lnTo>
                      <a:pt x="0" y="120"/>
                    </a:lnTo>
                    <a:lnTo>
                      <a:pt x="527" y="308"/>
                    </a:lnTo>
                    <a:lnTo>
                      <a:pt x="1296" y="147"/>
                    </a:lnTo>
                    <a:lnTo>
                      <a:pt x="698" y="0"/>
                    </a:lnTo>
                    <a:lnTo>
                      <a:pt x="696" y="139"/>
                    </a:lnTo>
                    <a:lnTo>
                      <a:pt x="576" y="164"/>
                    </a:lnTo>
                    <a:lnTo>
                      <a:pt x="511" y="141"/>
                    </a:lnTo>
                    <a:lnTo>
                      <a:pt x="490" y="27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7"/>
              <p:cNvSpPr/>
              <p:nvPr/>
            </p:nvSpPr>
            <p:spPr>
              <a:xfrm>
                <a:off x="4570200" y="6097680"/>
                <a:ext cx="154080" cy="2253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194" h="283">
                    <a:moveTo>
                      <a:pt x="0" y="13"/>
                    </a:moveTo>
                    <a:lnTo>
                      <a:pt x="194" y="0"/>
                    </a:lnTo>
                    <a:lnTo>
                      <a:pt x="188" y="264"/>
                    </a:lnTo>
                    <a:lnTo>
                      <a:pt x="78" y="283"/>
                    </a:lnTo>
                    <a:lnTo>
                      <a:pt x="4" y="25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8"/>
              <p:cNvSpPr/>
              <p:nvPr/>
            </p:nvSpPr>
            <p:spPr>
              <a:xfrm>
                <a:off x="4611600" y="5558040"/>
                <a:ext cx="676080" cy="396720"/>
              </a:xfrm>
              <a:custGeom>
                <a:avLst/>
                <a:gdLst>
                  <a:gd name="textAreaLeft" fmla="*/ 0 w 676080"/>
                  <a:gd name="textAreaRight" fmla="*/ 676440 w 67608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851" h="500">
                    <a:moveTo>
                      <a:pt x="0" y="500"/>
                    </a:moveTo>
                    <a:lnTo>
                      <a:pt x="48" y="413"/>
                    </a:lnTo>
                    <a:lnTo>
                      <a:pt x="160" y="385"/>
                    </a:lnTo>
                    <a:lnTo>
                      <a:pt x="188" y="322"/>
                    </a:lnTo>
                    <a:lnTo>
                      <a:pt x="338" y="231"/>
                    </a:lnTo>
                    <a:lnTo>
                      <a:pt x="443" y="65"/>
                    </a:lnTo>
                    <a:lnTo>
                      <a:pt x="677" y="0"/>
                    </a:lnTo>
                    <a:lnTo>
                      <a:pt x="851" y="16"/>
                    </a:lnTo>
                    <a:lnTo>
                      <a:pt x="768" y="162"/>
                    </a:lnTo>
                    <a:lnTo>
                      <a:pt x="511" y="360"/>
                    </a:lnTo>
                    <a:lnTo>
                      <a:pt x="293" y="480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9"/>
              <p:cNvSpPr/>
              <p:nvPr/>
            </p:nvSpPr>
            <p:spPr>
              <a:xfrm>
                <a:off x="3838320" y="5359680"/>
                <a:ext cx="577800" cy="550800"/>
              </a:xfrm>
              <a:custGeom>
                <a:avLst/>
                <a:gdLst>
                  <a:gd name="textAreaLeft" fmla="*/ 0 w 577800"/>
                  <a:gd name="textAreaRight" fmla="*/ 578160 w 577800"/>
                  <a:gd name="textAreaTop" fmla="*/ 0 h 550800"/>
                  <a:gd name="textAreaBottom" fmla="*/ 551160 h 550800"/>
                </a:gdLst>
                <a:ahLst/>
                <a:rect l="textAreaLeft" t="textAreaTop" r="textAreaRight" b="textAreaBottom"/>
                <a:pathLst>
                  <a:path w="730" h="694">
                    <a:moveTo>
                      <a:pt x="0" y="46"/>
                    </a:moveTo>
                    <a:lnTo>
                      <a:pt x="169" y="56"/>
                    </a:lnTo>
                    <a:lnTo>
                      <a:pt x="325" y="0"/>
                    </a:lnTo>
                    <a:lnTo>
                      <a:pt x="426" y="27"/>
                    </a:lnTo>
                    <a:lnTo>
                      <a:pt x="479" y="124"/>
                    </a:lnTo>
                    <a:lnTo>
                      <a:pt x="483" y="316"/>
                    </a:lnTo>
                    <a:lnTo>
                      <a:pt x="532" y="468"/>
                    </a:lnTo>
                    <a:lnTo>
                      <a:pt x="625" y="599"/>
                    </a:lnTo>
                    <a:lnTo>
                      <a:pt x="730" y="694"/>
                    </a:lnTo>
                    <a:lnTo>
                      <a:pt x="595" y="694"/>
                    </a:lnTo>
                    <a:lnTo>
                      <a:pt x="329" y="525"/>
                    </a:lnTo>
                    <a:lnTo>
                      <a:pt x="127" y="291"/>
                    </a:lnTo>
                    <a:lnTo>
                      <a:pt x="19" y="101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d1d1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0"/>
              <p:cNvSpPr/>
              <p:nvPr/>
            </p:nvSpPr>
            <p:spPr>
              <a:xfrm>
                <a:off x="3789000" y="4524480"/>
                <a:ext cx="549360" cy="81144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811440"/>
                  <a:gd name="textAreaBottom" fmla="*/ 811800 h 811440"/>
                </a:gdLst>
                <a:ahLst/>
                <a:rect l="textAreaLeft" t="textAreaTop" r="textAreaRight" b="textAreaBottom"/>
                <a:pathLst>
                  <a:path w="692" h="1023">
                    <a:moveTo>
                      <a:pt x="373" y="0"/>
                    </a:moveTo>
                    <a:lnTo>
                      <a:pt x="390" y="141"/>
                    </a:lnTo>
                    <a:lnTo>
                      <a:pt x="494" y="143"/>
                    </a:lnTo>
                    <a:lnTo>
                      <a:pt x="664" y="177"/>
                    </a:lnTo>
                    <a:lnTo>
                      <a:pt x="692" y="234"/>
                    </a:lnTo>
                    <a:lnTo>
                      <a:pt x="616" y="291"/>
                    </a:lnTo>
                    <a:lnTo>
                      <a:pt x="502" y="403"/>
                    </a:lnTo>
                    <a:lnTo>
                      <a:pt x="439" y="612"/>
                    </a:lnTo>
                    <a:lnTo>
                      <a:pt x="380" y="785"/>
                    </a:lnTo>
                    <a:lnTo>
                      <a:pt x="363" y="926"/>
                    </a:lnTo>
                    <a:lnTo>
                      <a:pt x="293" y="937"/>
                    </a:lnTo>
                    <a:lnTo>
                      <a:pt x="223" y="831"/>
                    </a:lnTo>
                    <a:lnTo>
                      <a:pt x="162" y="880"/>
                    </a:lnTo>
                    <a:lnTo>
                      <a:pt x="21" y="1023"/>
                    </a:lnTo>
                    <a:lnTo>
                      <a:pt x="0" y="761"/>
                    </a:lnTo>
                    <a:lnTo>
                      <a:pt x="71" y="437"/>
                    </a:lnTo>
                    <a:lnTo>
                      <a:pt x="198" y="192"/>
                    </a:lnTo>
                    <a:lnTo>
                      <a:pt x="373" y="0"/>
                    </a:lnTo>
                    <a:close/>
                  </a:path>
                </a:pathLst>
              </a:custGeom>
              <a:solidFill>
                <a:srgbClr val="d1d1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1"/>
              <p:cNvSpPr/>
              <p:nvPr/>
            </p:nvSpPr>
            <p:spPr>
              <a:xfrm>
                <a:off x="4560480" y="4341960"/>
                <a:ext cx="730440" cy="1108080"/>
              </a:xfrm>
              <a:custGeom>
                <a:avLst/>
                <a:gdLst>
                  <a:gd name="textAreaLeft" fmla="*/ 0 w 730440"/>
                  <a:gd name="textAreaRight" fmla="*/ 730440 w 730440"/>
                  <a:gd name="textAreaTop" fmla="*/ 0 h 1108080"/>
                  <a:gd name="textAreaBottom" fmla="*/ 1108440 h 1108080"/>
                </a:gdLst>
                <a:ahLst/>
                <a:rect l="textAreaLeft" t="textAreaTop" r="textAreaRight" b="textAreaBottom"/>
                <a:pathLst>
                  <a:path w="920" h="1398">
                    <a:moveTo>
                      <a:pt x="84" y="0"/>
                    </a:moveTo>
                    <a:lnTo>
                      <a:pt x="12" y="93"/>
                    </a:lnTo>
                    <a:lnTo>
                      <a:pt x="0" y="198"/>
                    </a:lnTo>
                    <a:lnTo>
                      <a:pt x="84" y="150"/>
                    </a:lnTo>
                    <a:lnTo>
                      <a:pt x="135" y="188"/>
                    </a:lnTo>
                    <a:lnTo>
                      <a:pt x="118" y="253"/>
                    </a:lnTo>
                    <a:lnTo>
                      <a:pt x="54" y="350"/>
                    </a:lnTo>
                    <a:lnTo>
                      <a:pt x="54" y="536"/>
                    </a:lnTo>
                    <a:lnTo>
                      <a:pt x="59" y="639"/>
                    </a:lnTo>
                    <a:lnTo>
                      <a:pt x="92" y="654"/>
                    </a:lnTo>
                    <a:lnTo>
                      <a:pt x="135" y="553"/>
                    </a:lnTo>
                    <a:lnTo>
                      <a:pt x="223" y="523"/>
                    </a:lnTo>
                    <a:lnTo>
                      <a:pt x="318" y="396"/>
                    </a:lnTo>
                    <a:lnTo>
                      <a:pt x="384" y="472"/>
                    </a:lnTo>
                    <a:lnTo>
                      <a:pt x="422" y="422"/>
                    </a:lnTo>
                    <a:lnTo>
                      <a:pt x="424" y="321"/>
                    </a:lnTo>
                    <a:lnTo>
                      <a:pt x="546" y="358"/>
                    </a:lnTo>
                    <a:lnTo>
                      <a:pt x="574" y="464"/>
                    </a:lnTo>
                    <a:lnTo>
                      <a:pt x="540" y="536"/>
                    </a:lnTo>
                    <a:lnTo>
                      <a:pt x="413" y="576"/>
                    </a:lnTo>
                    <a:lnTo>
                      <a:pt x="354" y="601"/>
                    </a:lnTo>
                    <a:lnTo>
                      <a:pt x="299" y="656"/>
                    </a:lnTo>
                    <a:lnTo>
                      <a:pt x="170" y="669"/>
                    </a:lnTo>
                    <a:lnTo>
                      <a:pt x="107" y="821"/>
                    </a:lnTo>
                    <a:lnTo>
                      <a:pt x="86" y="924"/>
                    </a:lnTo>
                    <a:lnTo>
                      <a:pt x="113" y="1025"/>
                    </a:lnTo>
                    <a:lnTo>
                      <a:pt x="198" y="1090"/>
                    </a:lnTo>
                    <a:lnTo>
                      <a:pt x="310" y="1088"/>
                    </a:lnTo>
                    <a:lnTo>
                      <a:pt x="413" y="1065"/>
                    </a:lnTo>
                    <a:lnTo>
                      <a:pt x="557" y="1200"/>
                    </a:lnTo>
                    <a:lnTo>
                      <a:pt x="707" y="1337"/>
                    </a:lnTo>
                    <a:lnTo>
                      <a:pt x="799" y="1398"/>
                    </a:lnTo>
                    <a:lnTo>
                      <a:pt x="865" y="1378"/>
                    </a:lnTo>
                    <a:lnTo>
                      <a:pt x="878" y="1217"/>
                    </a:lnTo>
                    <a:lnTo>
                      <a:pt x="873" y="1027"/>
                    </a:lnTo>
                    <a:lnTo>
                      <a:pt x="880" y="814"/>
                    </a:lnTo>
                    <a:lnTo>
                      <a:pt x="920" y="723"/>
                    </a:lnTo>
                    <a:lnTo>
                      <a:pt x="865" y="614"/>
                    </a:lnTo>
                    <a:lnTo>
                      <a:pt x="734" y="491"/>
                    </a:lnTo>
                    <a:lnTo>
                      <a:pt x="736" y="377"/>
                    </a:lnTo>
                    <a:lnTo>
                      <a:pt x="831" y="331"/>
                    </a:lnTo>
                    <a:lnTo>
                      <a:pt x="610" y="152"/>
                    </a:lnTo>
                    <a:lnTo>
                      <a:pt x="303" y="31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d1d1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22"/>
              <p:cNvSpPr/>
              <p:nvPr/>
            </p:nvSpPr>
            <p:spPr>
              <a:xfrm>
                <a:off x="3825720" y="4332600"/>
                <a:ext cx="1589040" cy="1628640"/>
              </a:xfrm>
              <a:custGeom>
                <a:avLst/>
                <a:gdLst>
                  <a:gd name="textAreaLeft" fmla="*/ 0 w 1589040"/>
                  <a:gd name="textAreaRight" fmla="*/ 1589400 w 1589040"/>
                  <a:gd name="textAreaTop" fmla="*/ 0 h 1628640"/>
                  <a:gd name="textAreaBottom" fmla="*/ 1629000 h 1628640"/>
                </a:gdLst>
                <a:ahLst/>
                <a:rect l="textAreaLeft" t="textAreaTop" r="textAreaRight" b="textAreaBottom"/>
                <a:pathLst>
                  <a:path w="2003" h="2051">
                    <a:moveTo>
                      <a:pt x="331" y="258"/>
                    </a:moveTo>
                    <a:lnTo>
                      <a:pt x="346" y="361"/>
                    </a:lnTo>
                    <a:lnTo>
                      <a:pt x="431" y="388"/>
                    </a:lnTo>
                    <a:lnTo>
                      <a:pt x="530" y="409"/>
                    </a:lnTo>
                    <a:lnTo>
                      <a:pt x="619" y="429"/>
                    </a:lnTo>
                    <a:lnTo>
                      <a:pt x="638" y="483"/>
                    </a:lnTo>
                    <a:lnTo>
                      <a:pt x="566" y="542"/>
                    </a:lnTo>
                    <a:lnTo>
                      <a:pt x="456" y="623"/>
                    </a:lnTo>
                    <a:lnTo>
                      <a:pt x="420" y="779"/>
                    </a:lnTo>
                    <a:lnTo>
                      <a:pt x="370" y="912"/>
                    </a:lnTo>
                    <a:lnTo>
                      <a:pt x="327" y="1066"/>
                    </a:lnTo>
                    <a:lnTo>
                      <a:pt x="306" y="1158"/>
                    </a:lnTo>
                    <a:lnTo>
                      <a:pt x="251" y="1171"/>
                    </a:lnTo>
                    <a:lnTo>
                      <a:pt x="171" y="1068"/>
                    </a:lnTo>
                    <a:lnTo>
                      <a:pt x="97" y="1135"/>
                    </a:lnTo>
                    <a:lnTo>
                      <a:pt x="0" y="1239"/>
                    </a:lnTo>
                    <a:lnTo>
                      <a:pt x="19" y="1348"/>
                    </a:lnTo>
                    <a:lnTo>
                      <a:pt x="165" y="1348"/>
                    </a:lnTo>
                    <a:lnTo>
                      <a:pt x="312" y="1312"/>
                    </a:lnTo>
                    <a:lnTo>
                      <a:pt x="408" y="1312"/>
                    </a:lnTo>
                    <a:lnTo>
                      <a:pt x="500" y="1399"/>
                    </a:lnTo>
                    <a:lnTo>
                      <a:pt x="502" y="1561"/>
                    </a:lnTo>
                    <a:lnTo>
                      <a:pt x="551" y="1737"/>
                    </a:lnTo>
                    <a:lnTo>
                      <a:pt x="652" y="1905"/>
                    </a:lnTo>
                    <a:lnTo>
                      <a:pt x="762" y="2011"/>
                    </a:lnTo>
                    <a:lnTo>
                      <a:pt x="973" y="2051"/>
                    </a:lnTo>
                    <a:lnTo>
                      <a:pt x="1017" y="1964"/>
                    </a:lnTo>
                    <a:lnTo>
                      <a:pt x="1131" y="1926"/>
                    </a:lnTo>
                    <a:lnTo>
                      <a:pt x="1172" y="1855"/>
                    </a:lnTo>
                    <a:lnTo>
                      <a:pt x="1302" y="1804"/>
                    </a:lnTo>
                    <a:lnTo>
                      <a:pt x="1399" y="1688"/>
                    </a:lnTo>
                    <a:lnTo>
                      <a:pt x="1463" y="1595"/>
                    </a:lnTo>
                    <a:lnTo>
                      <a:pt x="1775" y="1549"/>
                    </a:lnTo>
                    <a:lnTo>
                      <a:pt x="1841" y="1568"/>
                    </a:lnTo>
                    <a:lnTo>
                      <a:pt x="1946" y="1414"/>
                    </a:lnTo>
                    <a:lnTo>
                      <a:pt x="2003" y="1139"/>
                    </a:lnTo>
                    <a:lnTo>
                      <a:pt x="1997" y="882"/>
                    </a:lnTo>
                    <a:lnTo>
                      <a:pt x="1908" y="585"/>
                    </a:lnTo>
                    <a:lnTo>
                      <a:pt x="1743" y="350"/>
                    </a:lnTo>
                    <a:lnTo>
                      <a:pt x="1667" y="393"/>
                    </a:lnTo>
                    <a:lnTo>
                      <a:pt x="1663" y="515"/>
                    </a:lnTo>
                    <a:lnTo>
                      <a:pt x="1790" y="623"/>
                    </a:lnTo>
                    <a:lnTo>
                      <a:pt x="1849" y="720"/>
                    </a:lnTo>
                    <a:lnTo>
                      <a:pt x="1805" y="882"/>
                    </a:lnTo>
                    <a:lnTo>
                      <a:pt x="1790" y="1197"/>
                    </a:lnTo>
                    <a:lnTo>
                      <a:pt x="1794" y="1384"/>
                    </a:lnTo>
                    <a:lnTo>
                      <a:pt x="1716" y="1409"/>
                    </a:lnTo>
                    <a:lnTo>
                      <a:pt x="1585" y="1321"/>
                    </a:lnTo>
                    <a:lnTo>
                      <a:pt x="1444" y="1142"/>
                    </a:lnTo>
                    <a:lnTo>
                      <a:pt x="1292" y="1057"/>
                    </a:lnTo>
                    <a:lnTo>
                      <a:pt x="1184" y="1112"/>
                    </a:lnTo>
                    <a:lnTo>
                      <a:pt x="1091" y="1085"/>
                    </a:lnTo>
                    <a:lnTo>
                      <a:pt x="998" y="975"/>
                    </a:lnTo>
                    <a:lnTo>
                      <a:pt x="1007" y="815"/>
                    </a:lnTo>
                    <a:lnTo>
                      <a:pt x="1077" y="682"/>
                    </a:lnTo>
                    <a:lnTo>
                      <a:pt x="1228" y="677"/>
                    </a:lnTo>
                    <a:lnTo>
                      <a:pt x="1292" y="587"/>
                    </a:lnTo>
                    <a:lnTo>
                      <a:pt x="1429" y="568"/>
                    </a:lnTo>
                    <a:lnTo>
                      <a:pt x="1490" y="515"/>
                    </a:lnTo>
                    <a:lnTo>
                      <a:pt x="1482" y="372"/>
                    </a:lnTo>
                    <a:lnTo>
                      <a:pt x="1366" y="312"/>
                    </a:lnTo>
                    <a:lnTo>
                      <a:pt x="1336" y="388"/>
                    </a:lnTo>
                    <a:lnTo>
                      <a:pt x="1325" y="473"/>
                    </a:lnTo>
                    <a:lnTo>
                      <a:pt x="1277" y="450"/>
                    </a:lnTo>
                    <a:lnTo>
                      <a:pt x="1243" y="405"/>
                    </a:lnTo>
                    <a:lnTo>
                      <a:pt x="1167" y="504"/>
                    </a:lnTo>
                    <a:lnTo>
                      <a:pt x="1138" y="555"/>
                    </a:lnTo>
                    <a:lnTo>
                      <a:pt x="1051" y="566"/>
                    </a:lnTo>
                    <a:lnTo>
                      <a:pt x="1020" y="667"/>
                    </a:lnTo>
                    <a:lnTo>
                      <a:pt x="979" y="616"/>
                    </a:lnTo>
                    <a:lnTo>
                      <a:pt x="965" y="437"/>
                    </a:lnTo>
                    <a:lnTo>
                      <a:pt x="1011" y="308"/>
                    </a:lnTo>
                    <a:lnTo>
                      <a:pt x="1060" y="199"/>
                    </a:lnTo>
                    <a:lnTo>
                      <a:pt x="994" y="163"/>
                    </a:lnTo>
                    <a:lnTo>
                      <a:pt x="906" y="213"/>
                    </a:lnTo>
                    <a:lnTo>
                      <a:pt x="956" y="78"/>
                    </a:lnTo>
                    <a:lnTo>
                      <a:pt x="1020" y="0"/>
                    </a:lnTo>
                    <a:lnTo>
                      <a:pt x="751" y="57"/>
                    </a:lnTo>
                    <a:lnTo>
                      <a:pt x="504" y="123"/>
                    </a:lnTo>
                    <a:lnTo>
                      <a:pt x="331" y="258"/>
                    </a:lnTo>
                    <a:close/>
                  </a:path>
                </a:pathLst>
              </a:custGeom>
              <a:solidFill>
                <a:srgbClr val="9cb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3"/>
              <p:cNvSpPr/>
              <p:nvPr/>
            </p:nvSpPr>
            <p:spPr>
              <a:xfrm>
                <a:off x="3598560" y="4170600"/>
                <a:ext cx="1552680" cy="1941480"/>
              </a:xfrm>
              <a:custGeom>
                <a:avLst/>
                <a:gdLst>
                  <a:gd name="textAreaLeft" fmla="*/ 0 w 1552680"/>
                  <a:gd name="textAreaRight" fmla="*/ 1553040 w 1552680"/>
                  <a:gd name="textAreaTop" fmla="*/ 0 h 1941480"/>
                  <a:gd name="textAreaBottom" fmla="*/ 1941840 h 1941480"/>
                </a:gdLst>
                <a:ahLst/>
                <a:rect l="textAreaLeft" t="textAreaTop" r="textAreaRight" b="textAreaBottom"/>
                <a:pathLst>
                  <a:path w="1955" h="2445">
                    <a:moveTo>
                      <a:pt x="783" y="348"/>
                    </a:moveTo>
                    <a:lnTo>
                      <a:pt x="688" y="160"/>
                    </a:lnTo>
                    <a:lnTo>
                      <a:pt x="617" y="29"/>
                    </a:lnTo>
                    <a:lnTo>
                      <a:pt x="562" y="0"/>
                    </a:lnTo>
                    <a:lnTo>
                      <a:pt x="517" y="52"/>
                    </a:lnTo>
                    <a:lnTo>
                      <a:pt x="602" y="234"/>
                    </a:lnTo>
                    <a:lnTo>
                      <a:pt x="443" y="348"/>
                    </a:lnTo>
                    <a:lnTo>
                      <a:pt x="230" y="563"/>
                    </a:lnTo>
                    <a:lnTo>
                      <a:pt x="66" y="886"/>
                    </a:lnTo>
                    <a:lnTo>
                      <a:pt x="0" y="1189"/>
                    </a:lnTo>
                    <a:lnTo>
                      <a:pt x="26" y="1525"/>
                    </a:lnTo>
                    <a:lnTo>
                      <a:pt x="125" y="1850"/>
                    </a:lnTo>
                    <a:lnTo>
                      <a:pt x="329" y="2139"/>
                    </a:lnTo>
                    <a:lnTo>
                      <a:pt x="534" y="2276"/>
                    </a:lnTo>
                    <a:lnTo>
                      <a:pt x="815" y="2413"/>
                    </a:lnTo>
                    <a:lnTo>
                      <a:pt x="1186" y="2434"/>
                    </a:lnTo>
                    <a:lnTo>
                      <a:pt x="1526" y="2401"/>
                    </a:lnTo>
                    <a:lnTo>
                      <a:pt x="1803" y="2324"/>
                    </a:lnTo>
                    <a:lnTo>
                      <a:pt x="1885" y="2434"/>
                    </a:lnTo>
                    <a:lnTo>
                      <a:pt x="1938" y="2445"/>
                    </a:lnTo>
                    <a:lnTo>
                      <a:pt x="1955" y="2384"/>
                    </a:lnTo>
                    <a:lnTo>
                      <a:pt x="1811" y="2111"/>
                    </a:lnTo>
                    <a:lnTo>
                      <a:pt x="1682" y="2156"/>
                    </a:lnTo>
                    <a:lnTo>
                      <a:pt x="1737" y="2242"/>
                    </a:lnTo>
                    <a:lnTo>
                      <a:pt x="1435" y="2322"/>
                    </a:lnTo>
                    <a:lnTo>
                      <a:pt x="1072" y="2333"/>
                    </a:lnTo>
                    <a:lnTo>
                      <a:pt x="705" y="2253"/>
                    </a:lnTo>
                    <a:lnTo>
                      <a:pt x="391" y="2025"/>
                    </a:lnTo>
                    <a:lnTo>
                      <a:pt x="211" y="1713"/>
                    </a:lnTo>
                    <a:lnTo>
                      <a:pt x="129" y="1367"/>
                    </a:lnTo>
                    <a:lnTo>
                      <a:pt x="154" y="1071"/>
                    </a:lnTo>
                    <a:lnTo>
                      <a:pt x="249" y="812"/>
                    </a:lnTo>
                    <a:lnTo>
                      <a:pt x="401" y="580"/>
                    </a:lnTo>
                    <a:lnTo>
                      <a:pt x="636" y="331"/>
                    </a:lnTo>
                    <a:lnTo>
                      <a:pt x="676" y="384"/>
                    </a:lnTo>
                    <a:lnTo>
                      <a:pt x="783" y="3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4"/>
              <p:cNvSpPr/>
              <p:nvPr/>
            </p:nvSpPr>
            <p:spPr>
              <a:xfrm>
                <a:off x="4525560" y="4346640"/>
                <a:ext cx="800280" cy="1127160"/>
              </a:xfrm>
              <a:custGeom>
                <a:avLst/>
                <a:gdLst>
                  <a:gd name="textAreaLeft" fmla="*/ 0 w 800280"/>
                  <a:gd name="textAreaRight" fmla="*/ 800640 w 800280"/>
                  <a:gd name="textAreaTop" fmla="*/ 0 h 1127160"/>
                  <a:gd name="textAreaBottom" fmla="*/ 1127520 h 1127160"/>
                </a:gdLst>
                <a:ahLst/>
                <a:rect l="textAreaLeft" t="textAreaTop" r="textAreaRight" b="textAreaBottom"/>
                <a:pathLst>
                  <a:path w="1009" h="1420">
                    <a:moveTo>
                      <a:pt x="83" y="0"/>
                    </a:moveTo>
                    <a:lnTo>
                      <a:pt x="81" y="0"/>
                    </a:lnTo>
                    <a:lnTo>
                      <a:pt x="80" y="4"/>
                    </a:lnTo>
                    <a:lnTo>
                      <a:pt x="76" y="7"/>
                    </a:lnTo>
                    <a:lnTo>
                      <a:pt x="72" y="13"/>
                    </a:lnTo>
                    <a:lnTo>
                      <a:pt x="64" y="19"/>
                    </a:lnTo>
                    <a:lnTo>
                      <a:pt x="59" y="28"/>
                    </a:lnTo>
                    <a:lnTo>
                      <a:pt x="53" y="36"/>
                    </a:lnTo>
                    <a:lnTo>
                      <a:pt x="45" y="45"/>
                    </a:lnTo>
                    <a:lnTo>
                      <a:pt x="38" y="55"/>
                    </a:lnTo>
                    <a:lnTo>
                      <a:pt x="32" y="64"/>
                    </a:lnTo>
                    <a:lnTo>
                      <a:pt x="28" y="70"/>
                    </a:lnTo>
                    <a:lnTo>
                      <a:pt x="24" y="76"/>
                    </a:lnTo>
                    <a:lnTo>
                      <a:pt x="23" y="82"/>
                    </a:lnTo>
                    <a:lnTo>
                      <a:pt x="19" y="87"/>
                    </a:lnTo>
                    <a:lnTo>
                      <a:pt x="13" y="95"/>
                    </a:lnTo>
                    <a:lnTo>
                      <a:pt x="7" y="106"/>
                    </a:lnTo>
                    <a:lnTo>
                      <a:pt x="5" y="116"/>
                    </a:lnTo>
                    <a:lnTo>
                      <a:pt x="3" y="125"/>
                    </a:lnTo>
                    <a:lnTo>
                      <a:pt x="0" y="133"/>
                    </a:lnTo>
                    <a:lnTo>
                      <a:pt x="0" y="142"/>
                    </a:lnTo>
                    <a:lnTo>
                      <a:pt x="0" y="150"/>
                    </a:lnTo>
                    <a:lnTo>
                      <a:pt x="0" y="159"/>
                    </a:lnTo>
                    <a:lnTo>
                      <a:pt x="0" y="167"/>
                    </a:lnTo>
                    <a:lnTo>
                      <a:pt x="0" y="175"/>
                    </a:lnTo>
                    <a:lnTo>
                      <a:pt x="0" y="184"/>
                    </a:lnTo>
                    <a:lnTo>
                      <a:pt x="0" y="192"/>
                    </a:lnTo>
                    <a:lnTo>
                      <a:pt x="0" y="199"/>
                    </a:lnTo>
                    <a:lnTo>
                      <a:pt x="2" y="205"/>
                    </a:lnTo>
                    <a:lnTo>
                      <a:pt x="2" y="211"/>
                    </a:lnTo>
                    <a:lnTo>
                      <a:pt x="3" y="217"/>
                    </a:lnTo>
                    <a:lnTo>
                      <a:pt x="3" y="224"/>
                    </a:lnTo>
                    <a:lnTo>
                      <a:pt x="5" y="226"/>
                    </a:lnTo>
                    <a:lnTo>
                      <a:pt x="43" y="245"/>
                    </a:lnTo>
                    <a:lnTo>
                      <a:pt x="43" y="243"/>
                    </a:lnTo>
                    <a:lnTo>
                      <a:pt x="49" y="237"/>
                    </a:lnTo>
                    <a:lnTo>
                      <a:pt x="53" y="234"/>
                    </a:lnTo>
                    <a:lnTo>
                      <a:pt x="57" y="230"/>
                    </a:lnTo>
                    <a:lnTo>
                      <a:pt x="62" y="224"/>
                    </a:lnTo>
                    <a:lnTo>
                      <a:pt x="68" y="222"/>
                    </a:lnTo>
                    <a:lnTo>
                      <a:pt x="78" y="211"/>
                    </a:lnTo>
                    <a:lnTo>
                      <a:pt x="87" y="203"/>
                    </a:lnTo>
                    <a:lnTo>
                      <a:pt x="97" y="194"/>
                    </a:lnTo>
                    <a:lnTo>
                      <a:pt x="100" y="188"/>
                    </a:lnTo>
                    <a:lnTo>
                      <a:pt x="104" y="182"/>
                    </a:lnTo>
                    <a:lnTo>
                      <a:pt x="110" y="178"/>
                    </a:lnTo>
                    <a:lnTo>
                      <a:pt x="114" y="175"/>
                    </a:lnTo>
                    <a:lnTo>
                      <a:pt x="121" y="173"/>
                    </a:lnTo>
                    <a:lnTo>
                      <a:pt x="125" y="169"/>
                    </a:lnTo>
                    <a:lnTo>
                      <a:pt x="131" y="169"/>
                    </a:lnTo>
                    <a:lnTo>
                      <a:pt x="135" y="169"/>
                    </a:lnTo>
                    <a:lnTo>
                      <a:pt x="137" y="169"/>
                    </a:lnTo>
                    <a:lnTo>
                      <a:pt x="150" y="194"/>
                    </a:lnTo>
                    <a:lnTo>
                      <a:pt x="148" y="196"/>
                    </a:lnTo>
                    <a:lnTo>
                      <a:pt x="146" y="203"/>
                    </a:lnTo>
                    <a:lnTo>
                      <a:pt x="144" y="207"/>
                    </a:lnTo>
                    <a:lnTo>
                      <a:pt x="142" y="213"/>
                    </a:lnTo>
                    <a:lnTo>
                      <a:pt x="138" y="220"/>
                    </a:lnTo>
                    <a:lnTo>
                      <a:pt x="137" y="226"/>
                    </a:lnTo>
                    <a:lnTo>
                      <a:pt x="131" y="234"/>
                    </a:lnTo>
                    <a:lnTo>
                      <a:pt x="127" y="241"/>
                    </a:lnTo>
                    <a:lnTo>
                      <a:pt x="121" y="249"/>
                    </a:lnTo>
                    <a:lnTo>
                      <a:pt x="118" y="256"/>
                    </a:lnTo>
                    <a:lnTo>
                      <a:pt x="110" y="262"/>
                    </a:lnTo>
                    <a:lnTo>
                      <a:pt x="104" y="270"/>
                    </a:lnTo>
                    <a:lnTo>
                      <a:pt x="97" y="275"/>
                    </a:lnTo>
                    <a:lnTo>
                      <a:pt x="91" y="283"/>
                    </a:lnTo>
                    <a:lnTo>
                      <a:pt x="81" y="287"/>
                    </a:lnTo>
                    <a:lnTo>
                      <a:pt x="76" y="293"/>
                    </a:lnTo>
                    <a:lnTo>
                      <a:pt x="68" y="298"/>
                    </a:lnTo>
                    <a:lnTo>
                      <a:pt x="62" y="304"/>
                    </a:lnTo>
                    <a:lnTo>
                      <a:pt x="57" y="308"/>
                    </a:lnTo>
                    <a:lnTo>
                      <a:pt x="53" y="313"/>
                    </a:lnTo>
                    <a:lnTo>
                      <a:pt x="47" y="319"/>
                    </a:lnTo>
                    <a:lnTo>
                      <a:pt x="45" y="325"/>
                    </a:lnTo>
                    <a:lnTo>
                      <a:pt x="38" y="332"/>
                    </a:lnTo>
                    <a:lnTo>
                      <a:pt x="36" y="340"/>
                    </a:lnTo>
                    <a:lnTo>
                      <a:pt x="34" y="344"/>
                    </a:lnTo>
                    <a:lnTo>
                      <a:pt x="34" y="346"/>
                    </a:lnTo>
                    <a:lnTo>
                      <a:pt x="38" y="348"/>
                    </a:lnTo>
                    <a:lnTo>
                      <a:pt x="43" y="355"/>
                    </a:lnTo>
                    <a:lnTo>
                      <a:pt x="45" y="359"/>
                    </a:lnTo>
                    <a:lnTo>
                      <a:pt x="49" y="365"/>
                    </a:lnTo>
                    <a:lnTo>
                      <a:pt x="51" y="369"/>
                    </a:lnTo>
                    <a:lnTo>
                      <a:pt x="53" y="374"/>
                    </a:lnTo>
                    <a:lnTo>
                      <a:pt x="53" y="378"/>
                    </a:lnTo>
                    <a:lnTo>
                      <a:pt x="53" y="386"/>
                    </a:lnTo>
                    <a:lnTo>
                      <a:pt x="53" y="390"/>
                    </a:lnTo>
                    <a:lnTo>
                      <a:pt x="53" y="395"/>
                    </a:lnTo>
                    <a:lnTo>
                      <a:pt x="53" y="401"/>
                    </a:lnTo>
                    <a:lnTo>
                      <a:pt x="53" y="409"/>
                    </a:lnTo>
                    <a:lnTo>
                      <a:pt x="53" y="414"/>
                    </a:lnTo>
                    <a:lnTo>
                      <a:pt x="53" y="422"/>
                    </a:lnTo>
                    <a:lnTo>
                      <a:pt x="53" y="428"/>
                    </a:lnTo>
                    <a:lnTo>
                      <a:pt x="55" y="435"/>
                    </a:lnTo>
                    <a:lnTo>
                      <a:pt x="55" y="443"/>
                    </a:lnTo>
                    <a:lnTo>
                      <a:pt x="55" y="452"/>
                    </a:lnTo>
                    <a:lnTo>
                      <a:pt x="55" y="460"/>
                    </a:lnTo>
                    <a:lnTo>
                      <a:pt x="55" y="469"/>
                    </a:lnTo>
                    <a:lnTo>
                      <a:pt x="55" y="477"/>
                    </a:lnTo>
                    <a:lnTo>
                      <a:pt x="55" y="485"/>
                    </a:lnTo>
                    <a:lnTo>
                      <a:pt x="55" y="492"/>
                    </a:lnTo>
                    <a:lnTo>
                      <a:pt x="55" y="502"/>
                    </a:lnTo>
                    <a:lnTo>
                      <a:pt x="55" y="507"/>
                    </a:lnTo>
                    <a:lnTo>
                      <a:pt x="55" y="515"/>
                    </a:lnTo>
                    <a:lnTo>
                      <a:pt x="55" y="523"/>
                    </a:lnTo>
                    <a:lnTo>
                      <a:pt x="57" y="530"/>
                    </a:lnTo>
                    <a:lnTo>
                      <a:pt x="57" y="536"/>
                    </a:lnTo>
                    <a:lnTo>
                      <a:pt x="57" y="543"/>
                    </a:lnTo>
                    <a:lnTo>
                      <a:pt x="57" y="549"/>
                    </a:lnTo>
                    <a:lnTo>
                      <a:pt x="57" y="555"/>
                    </a:lnTo>
                    <a:lnTo>
                      <a:pt x="57" y="563"/>
                    </a:lnTo>
                    <a:lnTo>
                      <a:pt x="57" y="568"/>
                    </a:lnTo>
                    <a:lnTo>
                      <a:pt x="57" y="572"/>
                    </a:lnTo>
                    <a:lnTo>
                      <a:pt x="59" y="580"/>
                    </a:lnTo>
                    <a:lnTo>
                      <a:pt x="61" y="585"/>
                    </a:lnTo>
                    <a:lnTo>
                      <a:pt x="62" y="593"/>
                    </a:lnTo>
                    <a:lnTo>
                      <a:pt x="66" y="601"/>
                    </a:lnTo>
                    <a:lnTo>
                      <a:pt x="68" y="608"/>
                    </a:lnTo>
                    <a:lnTo>
                      <a:pt x="72" y="618"/>
                    </a:lnTo>
                    <a:lnTo>
                      <a:pt x="78" y="625"/>
                    </a:lnTo>
                    <a:lnTo>
                      <a:pt x="80" y="633"/>
                    </a:lnTo>
                    <a:lnTo>
                      <a:pt x="83" y="640"/>
                    </a:lnTo>
                    <a:lnTo>
                      <a:pt x="87" y="646"/>
                    </a:lnTo>
                    <a:lnTo>
                      <a:pt x="91" y="654"/>
                    </a:lnTo>
                    <a:lnTo>
                      <a:pt x="93" y="658"/>
                    </a:lnTo>
                    <a:lnTo>
                      <a:pt x="95" y="661"/>
                    </a:lnTo>
                    <a:lnTo>
                      <a:pt x="97" y="663"/>
                    </a:lnTo>
                    <a:lnTo>
                      <a:pt x="97" y="665"/>
                    </a:lnTo>
                    <a:lnTo>
                      <a:pt x="133" y="684"/>
                    </a:lnTo>
                    <a:lnTo>
                      <a:pt x="135" y="680"/>
                    </a:lnTo>
                    <a:lnTo>
                      <a:pt x="144" y="675"/>
                    </a:lnTo>
                    <a:lnTo>
                      <a:pt x="152" y="667"/>
                    </a:lnTo>
                    <a:lnTo>
                      <a:pt x="159" y="658"/>
                    </a:lnTo>
                    <a:lnTo>
                      <a:pt x="159" y="654"/>
                    </a:lnTo>
                    <a:lnTo>
                      <a:pt x="159" y="648"/>
                    </a:lnTo>
                    <a:lnTo>
                      <a:pt x="159" y="642"/>
                    </a:lnTo>
                    <a:lnTo>
                      <a:pt x="163" y="639"/>
                    </a:lnTo>
                    <a:lnTo>
                      <a:pt x="165" y="631"/>
                    </a:lnTo>
                    <a:lnTo>
                      <a:pt x="167" y="625"/>
                    </a:lnTo>
                    <a:lnTo>
                      <a:pt x="171" y="620"/>
                    </a:lnTo>
                    <a:lnTo>
                      <a:pt x="175" y="612"/>
                    </a:lnTo>
                    <a:lnTo>
                      <a:pt x="176" y="604"/>
                    </a:lnTo>
                    <a:lnTo>
                      <a:pt x="180" y="599"/>
                    </a:lnTo>
                    <a:lnTo>
                      <a:pt x="182" y="593"/>
                    </a:lnTo>
                    <a:lnTo>
                      <a:pt x="186" y="587"/>
                    </a:lnTo>
                    <a:lnTo>
                      <a:pt x="190" y="580"/>
                    </a:lnTo>
                    <a:lnTo>
                      <a:pt x="192" y="578"/>
                    </a:lnTo>
                    <a:lnTo>
                      <a:pt x="192" y="576"/>
                    </a:lnTo>
                    <a:lnTo>
                      <a:pt x="199" y="574"/>
                    </a:lnTo>
                    <a:lnTo>
                      <a:pt x="201" y="572"/>
                    </a:lnTo>
                    <a:lnTo>
                      <a:pt x="205" y="572"/>
                    </a:lnTo>
                    <a:lnTo>
                      <a:pt x="209" y="570"/>
                    </a:lnTo>
                    <a:lnTo>
                      <a:pt x="214" y="570"/>
                    </a:lnTo>
                    <a:lnTo>
                      <a:pt x="220" y="568"/>
                    </a:lnTo>
                    <a:lnTo>
                      <a:pt x="226" y="568"/>
                    </a:lnTo>
                    <a:lnTo>
                      <a:pt x="233" y="566"/>
                    </a:lnTo>
                    <a:lnTo>
                      <a:pt x="243" y="566"/>
                    </a:lnTo>
                    <a:lnTo>
                      <a:pt x="251" y="564"/>
                    </a:lnTo>
                    <a:lnTo>
                      <a:pt x="258" y="563"/>
                    </a:lnTo>
                    <a:lnTo>
                      <a:pt x="266" y="559"/>
                    </a:lnTo>
                    <a:lnTo>
                      <a:pt x="273" y="557"/>
                    </a:lnTo>
                    <a:lnTo>
                      <a:pt x="277" y="551"/>
                    </a:lnTo>
                    <a:lnTo>
                      <a:pt x="283" y="547"/>
                    </a:lnTo>
                    <a:lnTo>
                      <a:pt x="287" y="543"/>
                    </a:lnTo>
                    <a:lnTo>
                      <a:pt x="290" y="538"/>
                    </a:lnTo>
                    <a:lnTo>
                      <a:pt x="296" y="528"/>
                    </a:lnTo>
                    <a:lnTo>
                      <a:pt x="300" y="521"/>
                    </a:lnTo>
                    <a:lnTo>
                      <a:pt x="302" y="515"/>
                    </a:lnTo>
                    <a:lnTo>
                      <a:pt x="302" y="513"/>
                    </a:lnTo>
                    <a:lnTo>
                      <a:pt x="302" y="511"/>
                    </a:lnTo>
                    <a:lnTo>
                      <a:pt x="304" y="509"/>
                    </a:lnTo>
                    <a:lnTo>
                      <a:pt x="306" y="504"/>
                    </a:lnTo>
                    <a:lnTo>
                      <a:pt x="311" y="500"/>
                    </a:lnTo>
                    <a:lnTo>
                      <a:pt x="315" y="494"/>
                    </a:lnTo>
                    <a:lnTo>
                      <a:pt x="321" y="486"/>
                    </a:lnTo>
                    <a:lnTo>
                      <a:pt x="327" y="479"/>
                    </a:lnTo>
                    <a:lnTo>
                      <a:pt x="332" y="473"/>
                    </a:lnTo>
                    <a:lnTo>
                      <a:pt x="338" y="464"/>
                    </a:lnTo>
                    <a:lnTo>
                      <a:pt x="344" y="456"/>
                    </a:lnTo>
                    <a:lnTo>
                      <a:pt x="347" y="450"/>
                    </a:lnTo>
                    <a:lnTo>
                      <a:pt x="353" y="445"/>
                    </a:lnTo>
                    <a:lnTo>
                      <a:pt x="357" y="439"/>
                    </a:lnTo>
                    <a:lnTo>
                      <a:pt x="361" y="435"/>
                    </a:lnTo>
                    <a:lnTo>
                      <a:pt x="363" y="431"/>
                    </a:lnTo>
                    <a:lnTo>
                      <a:pt x="366" y="431"/>
                    </a:lnTo>
                    <a:lnTo>
                      <a:pt x="368" y="431"/>
                    </a:lnTo>
                    <a:lnTo>
                      <a:pt x="374" y="437"/>
                    </a:lnTo>
                    <a:lnTo>
                      <a:pt x="378" y="441"/>
                    </a:lnTo>
                    <a:lnTo>
                      <a:pt x="382" y="447"/>
                    </a:lnTo>
                    <a:lnTo>
                      <a:pt x="385" y="452"/>
                    </a:lnTo>
                    <a:lnTo>
                      <a:pt x="389" y="460"/>
                    </a:lnTo>
                    <a:lnTo>
                      <a:pt x="393" y="466"/>
                    </a:lnTo>
                    <a:lnTo>
                      <a:pt x="397" y="471"/>
                    </a:lnTo>
                    <a:lnTo>
                      <a:pt x="399" y="477"/>
                    </a:lnTo>
                    <a:lnTo>
                      <a:pt x="403" y="483"/>
                    </a:lnTo>
                    <a:lnTo>
                      <a:pt x="408" y="490"/>
                    </a:lnTo>
                    <a:lnTo>
                      <a:pt x="410" y="496"/>
                    </a:lnTo>
                    <a:lnTo>
                      <a:pt x="414" y="496"/>
                    </a:lnTo>
                    <a:lnTo>
                      <a:pt x="422" y="492"/>
                    </a:lnTo>
                    <a:lnTo>
                      <a:pt x="431" y="488"/>
                    </a:lnTo>
                    <a:lnTo>
                      <a:pt x="439" y="483"/>
                    </a:lnTo>
                    <a:lnTo>
                      <a:pt x="446" y="479"/>
                    </a:lnTo>
                    <a:lnTo>
                      <a:pt x="452" y="475"/>
                    </a:lnTo>
                    <a:lnTo>
                      <a:pt x="456" y="475"/>
                    </a:lnTo>
                    <a:lnTo>
                      <a:pt x="456" y="471"/>
                    </a:lnTo>
                    <a:lnTo>
                      <a:pt x="460" y="466"/>
                    </a:lnTo>
                    <a:lnTo>
                      <a:pt x="462" y="460"/>
                    </a:lnTo>
                    <a:lnTo>
                      <a:pt x="465" y="454"/>
                    </a:lnTo>
                    <a:lnTo>
                      <a:pt x="467" y="448"/>
                    </a:lnTo>
                    <a:lnTo>
                      <a:pt x="471" y="443"/>
                    </a:lnTo>
                    <a:lnTo>
                      <a:pt x="473" y="435"/>
                    </a:lnTo>
                    <a:lnTo>
                      <a:pt x="477" y="429"/>
                    </a:lnTo>
                    <a:lnTo>
                      <a:pt x="479" y="424"/>
                    </a:lnTo>
                    <a:lnTo>
                      <a:pt x="482" y="418"/>
                    </a:lnTo>
                    <a:lnTo>
                      <a:pt x="486" y="409"/>
                    </a:lnTo>
                    <a:lnTo>
                      <a:pt x="488" y="401"/>
                    </a:lnTo>
                    <a:lnTo>
                      <a:pt x="488" y="395"/>
                    </a:lnTo>
                    <a:lnTo>
                      <a:pt x="488" y="390"/>
                    </a:lnTo>
                    <a:lnTo>
                      <a:pt x="488" y="382"/>
                    </a:lnTo>
                    <a:lnTo>
                      <a:pt x="490" y="376"/>
                    </a:lnTo>
                    <a:lnTo>
                      <a:pt x="490" y="370"/>
                    </a:lnTo>
                    <a:lnTo>
                      <a:pt x="492" y="365"/>
                    </a:lnTo>
                    <a:lnTo>
                      <a:pt x="494" y="361"/>
                    </a:lnTo>
                    <a:lnTo>
                      <a:pt x="498" y="359"/>
                    </a:lnTo>
                    <a:lnTo>
                      <a:pt x="503" y="351"/>
                    </a:lnTo>
                    <a:lnTo>
                      <a:pt x="513" y="346"/>
                    </a:lnTo>
                    <a:lnTo>
                      <a:pt x="520" y="340"/>
                    </a:lnTo>
                    <a:lnTo>
                      <a:pt x="524" y="338"/>
                    </a:lnTo>
                    <a:lnTo>
                      <a:pt x="526" y="338"/>
                    </a:lnTo>
                    <a:lnTo>
                      <a:pt x="530" y="340"/>
                    </a:lnTo>
                    <a:lnTo>
                      <a:pt x="538" y="344"/>
                    </a:lnTo>
                    <a:lnTo>
                      <a:pt x="547" y="351"/>
                    </a:lnTo>
                    <a:lnTo>
                      <a:pt x="555" y="357"/>
                    </a:lnTo>
                    <a:lnTo>
                      <a:pt x="564" y="367"/>
                    </a:lnTo>
                    <a:lnTo>
                      <a:pt x="568" y="370"/>
                    </a:lnTo>
                    <a:lnTo>
                      <a:pt x="572" y="376"/>
                    </a:lnTo>
                    <a:lnTo>
                      <a:pt x="574" y="382"/>
                    </a:lnTo>
                    <a:lnTo>
                      <a:pt x="576" y="388"/>
                    </a:lnTo>
                    <a:lnTo>
                      <a:pt x="577" y="393"/>
                    </a:lnTo>
                    <a:lnTo>
                      <a:pt x="579" y="399"/>
                    </a:lnTo>
                    <a:lnTo>
                      <a:pt x="579" y="405"/>
                    </a:lnTo>
                    <a:lnTo>
                      <a:pt x="581" y="410"/>
                    </a:lnTo>
                    <a:lnTo>
                      <a:pt x="583" y="416"/>
                    </a:lnTo>
                    <a:lnTo>
                      <a:pt x="585" y="422"/>
                    </a:lnTo>
                    <a:lnTo>
                      <a:pt x="585" y="428"/>
                    </a:lnTo>
                    <a:lnTo>
                      <a:pt x="587" y="435"/>
                    </a:lnTo>
                    <a:lnTo>
                      <a:pt x="587" y="439"/>
                    </a:lnTo>
                    <a:lnTo>
                      <a:pt x="589" y="445"/>
                    </a:lnTo>
                    <a:lnTo>
                      <a:pt x="589" y="450"/>
                    </a:lnTo>
                    <a:lnTo>
                      <a:pt x="591" y="456"/>
                    </a:lnTo>
                    <a:lnTo>
                      <a:pt x="591" y="466"/>
                    </a:lnTo>
                    <a:lnTo>
                      <a:pt x="591" y="473"/>
                    </a:lnTo>
                    <a:lnTo>
                      <a:pt x="589" y="479"/>
                    </a:lnTo>
                    <a:lnTo>
                      <a:pt x="585" y="485"/>
                    </a:lnTo>
                    <a:lnTo>
                      <a:pt x="579" y="490"/>
                    </a:lnTo>
                    <a:lnTo>
                      <a:pt x="574" y="498"/>
                    </a:lnTo>
                    <a:lnTo>
                      <a:pt x="568" y="502"/>
                    </a:lnTo>
                    <a:lnTo>
                      <a:pt x="564" y="507"/>
                    </a:lnTo>
                    <a:lnTo>
                      <a:pt x="560" y="511"/>
                    </a:lnTo>
                    <a:lnTo>
                      <a:pt x="560" y="513"/>
                    </a:lnTo>
                    <a:lnTo>
                      <a:pt x="558" y="513"/>
                    </a:lnTo>
                    <a:lnTo>
                      <a:pt x="557" y="513"/>
                    </a:lnTo>
                    <a:lnTo>
                      <a:pt x="553" y="513"/>
                    </a:lnTo>
                    <a:lnTo>
                      <a:pt x="547" y="513"/>
                    </a:lnTo>
                    <a:lnTo>
                      <a:pt x="541" y="513"/>
                    </a:lnTo>
                    <a:lnTo>
                      <a:pt x="534" y="513"/>
                    </a:lnTo>
                    <a:lnTo>
                      <a:pt x="526" y="515"/>
                    </a:lnTo>
                    <a:lnTo>
                      <a:pt x="519" y="515"/>
                    </a:lnTo>
                    <a:lnTo>
                      <a:pt x="509" y="515"/>
                    </a:lnTo>
                    <a:lnTo>
                      <a:pt x="500" y="517"/>
                    </a:lnTo>
                    <a:lnTo>
                      <a:pt x="492" y="517"/>
                    </a:lnTo>
                    <a:lnTo>
                      <a:pt x="482" y="519"/>
                    </a:lnTo>
                    <a:lnTo>
                      <a:pt x="475" y="521"/>
                    </a:lnTo>
                    <a:lnTo>
                      <a:pt x="467" y="523"/>
                    </a:lnTo>
                    <a:lnTo>
                      <a:pt x="460" y="523"/>
                    </a:lnTo>
                    <a:lnTo>
                      <a:pt x="456" y="526"/>
                    </a:lnTo>
                    <a:lnTo>
                      <a:pt x="448" y="526"/>
                    </a:lnTo>
                    <a:lnTo>
                      <a:pt x="443" y="530"/>
                    </a:lnTo>
                    <a:lnTo>
                      <a:pt x="437" y="532"/>
                    </a:lnTo>
                    <a:lnTo>
                      <a:pt x="429" y="536"/>
                    </a:lnTo>
                    <a:lnTo>
                      <a:pt x="422" y="540"/>
                    </a:lnTo>
                    <a:lnTo>
                      <a:pt x="414" y="543"/>
                    </a:lnTo>
                    <a:lnTo>
                      <a:pt x="408" y="547"/>
                    </a:lnTo>
                    <a:lnTo>
                      <a:pt x="403" y="553"/>
                    </a:lnTo>
                    <a:lnTo>
                      <a:pt x="395" y="557"/>
                    </a:lnTo>
                    <a:lnTo>
                      <a:pt x="387" y="561"/>
                    </a:lnTo>
                    <a:lnTo>
                      <a:pt x="382" y="566"/>
                    </a:lnTo>
                    <a:lnTo>
                      <a:pt x="378" y="570"/>
                    </a:lnTo>
                    <a:lnTo>
                      <a:pt x="370" y="578"/>
                    </a:lnTo>
                    <a:lnTo>
                      <a:pt x="368" y="585"/>
                    </a:lnTo>
                    <a:lnTo>
                      <a:pt x="365" y="591"/>
                    </a:lnTo>
                    <a:lnTo>
                      <a:pt x="363" y="597"/>
                    </a:lnTo>
                    <a:lnTo>
                      <a:pt x="357" y="604"/>
                    </a:lnTo>
                    <a:lnTo>
                      <a:pt x="353" y="612"/>
                    </a:lnTo>
                    <a:lnTo>
                      <a:pt x="347" y="618"/>
                    </a:lnTo>
                    <a:lnTo>
                      <a:pt x="344" y="623"/>
                    </a:lnTo>
                    <a:lnTo>
                      <a:pt x="340" y="627"/>
                    </a:lnTo>
                    <a:lnTo>
                      <a:pt x="340" y="629"/>
                    </a:lnTo>
                    <a:lnTo>
                      <a:pt x="338" y="629"/>
                    </a:lnTo>
                    <a:lnTo>
                      <a:pt x="334" y="629"/>
                    </a:lnTo>
                    <a:lnTo>
                      <a:pt x="327" y="629"/>
                    </a:lnTo>
                    <a:lnTo>
                      <a:pt x="319" y="629"/>
                    </a:lnTo>
                    <a:lnTo>
                      <a:pt x="313" y="627"/>
                    </a:lnTo>
                    <a:lnTo>
                      <a:pt x="308" y="627"/>
                    </a:lnTo>
                    <a:lnTo>
                      <a:pt x="302" y="627"/>
                    </a:lnTo>
                    <a:lnTo>
                      <a:pt x="298" y="627"/>
                    </a:lnTo>
                    <a:lnTo>
                      <a:pt x="290" y="627"/>
                    </a:lnTo>
                    <a:lnTo>
                      <a:pt x="287" y="627"/>
                    </a:lnTo>
                    <a:lnTo>
                      <a:pt x="279" y="627"/>
                    </a:lnTo>
                    <a:lnTo>
                      <a:pt x="273" y="629"/>
                    </a:lnTo>
                    <a:lnTo>
                      <a:pt x="266" y="629"/>
                    </a:lnTo>
                    <a:lnTo>
                      <a:pt x="260" y="629"/>
                    </a:lnTo>
                    <a:lnTo>
                      <a:pt x="252" y="629"/>
                    </a:lnTo>
                    <a:lnTo>
                      <a:pt x="247" y="629"/>
                    </a:lnTo>
                    <a:lnTo>
                      <a:pt x="239" y="629"/>
                    </a:lnTo>
                    <a:lnTo>
                      <a:pt x="233" y="629"/>
                    </a:lnTo>
                    <a:lnTo>
                      <a:pt x="228" y="629"/>
                    </a:lnTo>
                    <a:lnTo>
                      <a:pt x="224" y="631"/>
                    </a:lnTo>
                    <a:lnTo>
                      <a:pt x="218" y="631"/>
                    </a:lnTo>
                    <a:lnTo>
                      <a:pt x="213" y="631"/>
                    </a:lnTo>
                    <a:lnTo>
                      <a:pt x="207" y="633"/>
                    </a:lnTo>
                    <a:lnTo>
                      <a:pt x="203" y="633"/>
                    </a:lnTo>
                    <a:lnTo>
                      <a:pt x="195" y="637"/>
                    </a:lnTo>
                    <a:lnTo>
                      <a:pt x="192" y="639"/>
                    </a:lnTo>
                    <a:lnTo>
                      <a:pt x="186" y="642"/>
                    </a:lnTo>
                    <a:lnTo>
                      <a:pt x="180" y="646"/>
                    </a:lnTo>
                    <a:lnTo>
                      <a:pt x="175" y="650"/>
                    </a:lnTo>
                    <a:lnTo>
                      <a:pt x="171" y="656"/>
                    </a:lnTo>
                    <a:lnTo>
                      <a:pt x="165" y="661"/>
                    </a:lnTo>
                    <a:lnTo>
                      <a:pt x="159" y="667"/>
                    </a:lnTo>
                    <a:lnTo>
                      <a:pt x="154" y="675"/>
                    </a:lnTo>
                    <a:lnTo>
                      <a:pt x="150" y="682"/>
                    </a:lnTo>
                    <a:lnTo>
                      <a:pt x="144" y="688"/>
                    </a:lnTo>
                    <a:lnTo>
                      <a:pt x="138" y="696"/>
                    </a:lnTo>
                    <a:lnTo>
                      <a:pt x="133" y="701"/>
                    </a:lnTo>
                    <a:lnTo>
                      <a:pt x="129" y="709"/>
                    </a:lnTo>
                    <a:lnTo>
                      <a:pt x="125" y="717"/>
                    </a:lnTo>
                    <a:lnTo>
                      <a:pt x="121" y="722"/>
                    </a:lnTo>
                    <a:lnTo>
                      <a:pt x="119" y="730"/>
                    </a:lnTo>
                    <a:lnTo>
                      <a:pt x="119" y="736"/>
                    </a:lnTo>
                    <a:lnTo>
                      <a:pt x="118" y="739"/>
                    </a:lnTo>
                    <a:lnTo>
                      <a:pt x="116" y="743"/>
                    </a:lnTo>
                    <a:lnTo>
                      <a:pt x="116" y="747"/>
                    </a:lnTo>
                    <a:lnTo>
                      <a:pt x="114" y="753"/>
                    </a:lnTo>
                    <a:lnTo>
                      <a:pt x="112" y="756"/>
                    </a:lnTo>
                    <a:lnTo>
                      <a:pt x="112" y="762"/>
                    </a:lnTo>
                    <a:lnTo>
                      <a:pt x="110" y="768"/>
                    </a:lnTo>
                    <a:lnTo>
                      <a:pt x="108" y="777"/>
                    </a:lnTo>
                    <a:lnTo>
                      <a:pt x="106" y="783"/>
                    </a:lnTo>
                    <a:lnTo>
                      <a:pt x="104" y="791"/>
                    </a:lnTo>
                    <a:lnTo>
                      <a:pt x="102" y="800"/>
                    </a:lnTo>
                    <a:lnTo>
                      <a:pt x="102" y="810"/>
                    </a:lnTo>
                    <a:lnTo>
                      <a:pt x="100" y="817"/>
                    </a:lnTo>
                    <a:lnTo>
                      <a:pt x="100" y="827"/>
                    </a:lnTo>
                    <a:lnTo>
                      <a:pt x="99" y="831"/>
                    </a:lnTo>
                    <a:lnTo>
                      <a:pt x="99" y="836"/>
                    </a:lnTo>
                    <a:lnTo>
                      <a:pt x="99" y="842"/>
                    </a:lnTo>
                    <a:lnTo>
                      <a:pt x="99" y="848"/>
                    </a:lnTo>
                    <a:lnTo>
                      <a:pt x="97" y="857"/>
                    </a:lnTo>
                    <a:lnTo>
                      <a:pt x="97" y="867"/>
                    </a:lnTo>
                    <a:lnTo>
                      <a:pt x="97" y="872"/>
                    </a:lnTo>
                    <a:lnTo>
                      <a:pt x="97" y="876"/>
                    </a:lnTo>
                    <a:lnTo>
                      <a:pt x="97" y="882"/>
                    </a:lnTo>
                    <a:lnTo>
                      <a:pt x="97" y="888"/>
                    </a:lnTo>
                    <a:lnTo>
                      <a:pt x="97" y="893"/>
                    </a:lnTo>
                    <a:lnTo>
                      <a:pt x="97" y="899"/>
                    </a:lnTo>
                    <a:lnTo>
                      <a:pt x="97" y="903"/>
                    </a:lnTo>
                    <a:lnTo>
                      <a:pt x="97" y="909"/>
                    </a:lnTo>
                    <a:lnTo>
                      <a:pt x="97" y="914"/>
                    </a:lnTo>
                    <a:lnTo>
                      <a:pt x="99" y="920"/>
                    </a:lnTo>
                    <a:lnTo>
                      <a:pt x="99" y="926"/>
                    </a:lnTo>
                    <a:lnTo>
                      <a:pt x="100" y="931"/>
                    </a:lnTo>
                    <a:lnTo>
                      <a:pt x="100" y="937"/>
                    </a:lnTo>
                    <a:lnTo>
                      <a:pt x="100" y="943"/>
                    </a:lnTo>
                    <a:lnTo>
                      <a:pt x="100" y="948"/>
                    </a:lnTo>
                    <a:lnTo>
                      <a:pt x="102" y="954"/>
                    </a:lnTo>
                    <a:lnTo>
                      <a:pt x="104" y="958"/>
                    </a:lnTo>
                    <a:lnTo>
                      <a:pt x="106" y="964"/>
                    </a:lnTo>
                    <a:lnTo>
                      <a:pt x="106" y="969"/>
                    </a:lnTo>
                    <a:lnTo>
                      <a:pt x="108" y="975"/>
                    </a:lnTo>
                    <a:lnTo>
                      <a:pt x="110" y="979"/>
                    </a:lnTo>
                    <a:lnTo>
                      <a:pt x="112" y="985"/>
                    </a:lnTo>
                    <a:lnTo>
                      <a:pt x="114" y="990"/>
                    </a:lnTo>
                    <a:lnTo>
                      <a:pt x="116" y="996"/>
                    </a:lnTo>
                    <a:lnTo>
                      <a:pt x="119" y="1002"/>
                    </a:lnTo>
                    <a:lnTo>
                      <a:pt x="121" y="1007"/>
                    </a:lnTo>
                    <a:lnTo>
                      <a:pt x="125" y="1013"/>
                    </a:lnTo>
                    <a:lnTo>
                      <a:pt x="127" y="1019"/>
                    </a:lnTo>
                    <a:lnTo>
                      <a:pt x="133" y="1026"/>
                    </a:lnTo>
                    <a:lnTo>
                      <a:pt x="138" y="1036"/>
                    </a:lnTo>
                    <a:lnTo>
                      <a:pt x="142" y="1043"/>
                    </a:lnTo>
                    <a:lnTo>
                      <a:pt x="148" y="1053"/>
                    </a:lnTo>
                    <a:lnTo>
                      <a:pt x="154" y="1059"/>
                    </a:lnTo>
                    <a:lnTo>
                      <a:pt x="157" y="1066"/>
                    </a:lnTo>
                    <a:lnTo>
                      <a:pt x="161" y="1072"/>
                    </a:lnTo>
                    <a:lnTo>
                      <a:pt x="167" y="1078"/>
                    </a:lnTo>
                    <a:lnTo>
                      <a:pt x="176" y="1087"/>
                    </a:lnTo>
                    <a:lnTo>
                      <a:pt x="184" y="1095"/>
                    </a:lnTo>
                    <a:lnTo>
                      <a:pt x="192" y="1101"/>
                    </a:lnTo>
                    <a:lnTo>
                      <a:pt x="201" y="1104"/>
                    </a:lnTo>
                    <a:lnTo>
                      <a:pt x="207" y="1106"/>
                    </a:lnTo>
                    <a:lnTo>
                      <a:pt x="213" y="1108"/>
                    </a:lnTo>
                    <a:lnTo>
                      <a:pt x="218" y="1108"/>
                    </a:lnTo>
                    <a:lnTo>
                      <a:pt x="222" y="1110"/>
                    </a:lnTo>
                    <a:lnTo>
                      <a:pt x="228" y="1110"/>
                    </a:lnTo>
                    <a:lnTo>
                      <a:pt x="230" y="1110"/>
                    </a:lnTo>
                    <a:lnTo>
                      <a:pt x="232" y="1110"/>
                    </a:lnTo>
                    <a:lnTo>
                      <a:pt x="239" y="1110"/>
                    </a:lnTo>
                    <a:lnTo>
                      <a:pt x="243" y="1110"/>
                    </a:lnTo>
                    <a:lnTo>
                      <a:pt x="249" y="1112"/>
                    </a:lnTo>
                    <a:lnTo>
                      <a:pt x="256" y="1112"/>
                    </a:lnTo>
                    <a:lnTo>
                      <a:pt x="262" y="1114"/>
                    </a:lnTo>
                    <a:lnTo>
                      <a:pt x="268" y="1114"/>
                    </a:lnTo>
                    <a:lnTo>
                      <a:pt x="275" y="1114"/>
                    </a:lnTo>
                    <a:lnTo>
                      <a:pt x="281" y="1114"/>
                    </a:lnTo>
                    <a:lnTo>
                      <a:pt x="287" y="1116"/>
                    </a:lnTo>
                    <a:lnTo>
                      <a:pt x="292" y="1114"/>
                    </a:lnTo>
                    <a:lnTo>
                      <a:pt x="298" y="1114"/>
                    </a:lnTo>
                    <a:lnTo>
                      <a:pt x="302" y="1114"/>
                    </a:lnTo>
                    <a:lnTo>
                      <a:pt x="308" y="1114"/>
                    </a:lnTo>
                    <a:lnTo>
                      <a:pt x="309" y="1112"/>
                    </a:lnTo>
                    <a:lnTo>
                      <a:pt x="315" y="1112"/>
                    </a:lnTo>
                    <a:lnTo>
                      <a:pt x="321" y="1110"/>
                    </a:lnTo>
                    <a:lnTo>
                      <a:pt x="328" y="1108"/>
                    </a:lnTo>
                    <a:lnTo>
                      <a:pt x="334" y="1104"/>
                    </a:lnTo>
                    <a:lnTo>
                      <a:pt x="344" y="1102"/>
                    </a:lnTo>
                    <a:lnTo>
                      <a:pt x="351" y="1101"/>
                    </a:lnTo>
                    <a:lnTo>
                      <a:pt x="361" y="1099"/>
                    </a:lnTo>
                    <a:lnTo>
                      <a:pt x="368" y="1095"/>
                    </a:lnTo>
                    <a:lnTo>
                      <a:pt x="376" y="1093"/>
                    </a:lnTo>
                    <a:lnTo>
                      <a:pt x="382" y="1089"/>
                    </a:lnTo>
                    <a:lnTo>
                      <a:pt x="389" y="1087"/>
                    </a:lnTo>
                    <a:lnTo>
                      <a:pt x="395" y="1085"/>
                    </a:lnTo>
                    <a:lnTo>
                      <a:pt x="399" y="1083"/>
                    </a:lnTo>
                    <a:lnTo>
                      <a:pt x="401" y="1083"/>
                    </a:lnTo>
                    <a:lnTo>
                      <a:pt x="403" y="1083"/>
                    </a:lnTo>
                    <a:lnTo>
                      <a:pt x="429" y="1076"/>
                    </a:lnTo>
                    <a:lnTo>
                      <a:pt x="431" y="1078"/>
                    </a:lnTo>
                    <a:lnTo>
                      <a:pt x="435" y="1080"/>
                    </a:lnTo>
                    <a:lnTo>
                      <a:pt x="441" y="1083"/>
                    </a:lnTo>
                    <a:lnTo>
                      <a:pt x="446" y="1085"/>
                    </a:lnTo>
                    <a:lnTo>
                      <a:pt x="454" y="1091"/>
                    </a:lnTo>
                    <a:lnTo>
                      <a:pt x="462" y="1095"/>
                    </a:lnTo>
                    <a:lnTo>
                      <a:pt x="469" y="1101"/>
                    </a:lnTo>
                    <a:lnTo>
                      <a:pt x="477" y="1106"/>
                    </a:lnTo>
                    <a:lnTo>
                      <a:pt x="486" y="1112"/>
                    </a:lnTo>
                    <a:lnTo>
                      <a:pt x="494" y="1120"/>
                    </a:lnTo>
                    <a:lnTo>
                      <a:pt x="503" y="1127"/>
                    </a:lnTo>
                    <a:lnTo>
                      <a:pt x="511" y="1133"/>
                    </a:lnTo>
                    <a:lnTo>
                      <a:pt x="520" y="1139"/>
                    </a:lnTo>
                    <a:lnTo>
                      <a:pt x="528" y="1146"/>
                    </a:lnTo>
                    <a:lnTo>
                      <a:pt x="534" y="1152"/>
                    </a:lnTo>
                    <a:lnTo>
                      <a:pt x="539" y="1158"/>
                    </a:lnTo>
                    <a:lnTo>
                      <a:pt x="549" y="1165"/>
                    </a:lnTo>
                    <a:lnTo>
                      <a:pt x="557" y="1173"/>
                    </a:lnTo>
                    <a:lnTo>
                      <a:pt x="568" y="1182"/>
                    </a:lnTo>
                    <a:lnTo>
                      <a:pt x="572" y="1188"/>
                    </a:lnTo>
                    <a:lnTo>
                      <a:pt x="577" y="1192"/>
                    </a:lnTo>
                    <a:lnTo>
                      <a:pt x="583" y="1197"/>
                    </a:lnTo>
                    <a:lnTo>
                      <a:pt x="589" y="1203"/>
                    </a:lnTo>
                    <a:lnTo>
                      <a:pt x="595" y="1209"/>
                    </a:lnTo>
                    <a:lnTo>
                      <a:pt x="598" y="1215"/>
                    </a:lnTo>
                    <a:lnTo>
                      <a:pt x="604" y="1220"/>
                    </a:lnTo>
                    <a:lnTo>
                      <a:pt x="610" y="1226"/>
                    </a:lnTo>
                    <a:lnTo>
                      <a:pt x="615" y="1232"/>
                    </a:lnTo>
                    <a:lnTo>
                      <a:pt x="619" y="1236"/>
                    </a:lnTo>
                    <a:lnTo>
                      <a:pt x="625" y="1241"/>
                    </a:lnTo>
                    <a:lnTo>
                      <a:pt x="631" y="1247"/>
                    </a:lnTo>
                    <a:lnTo>
                      <a:pt x="638" y="1256"/>
                    </a:lnTo>
                    <a:lnTo>
                      <a:pt x="648" y="1266"/>
                    </a:lnTo>
                    <a:lnTo>
                      <a:pt x="653" y="1274"/>
                    </a:lnTo>
                    <a:lnTo>
                      <a:pt x="659" y="1279"/>
                    </a:lnTo>
                    <a:lnTo>
                      <a:pt x="663" y="1285"/>
                    </a:lnTo>
                    <a:lnTo>
                      <a:pt x="665" y="1289"/>
                    </a:lnTo>
                    <a:lnTo>
                      <a:pt x="667" y="1291"/>
                    </a:lnTo>
                    <a:lnTo>
                      <a:pt x="671" y="1294"/>
                    </a:lnTo>
                    <a:lnTo>
                      <a:pt x="674" y="1300"/>
                    </a:lnTo>
                    <a:lnTo>
                      <a:pt x="680" y="1306"/>
                    </a:lnTo>
                    <a:lnTo>
                      <a:pt x="686" y="1312"/>
                    </a:lnTo>
                    <a:lnTo>
                      <a:pt x="695" y="1321"/>
                    </a:lnTo>
                    <a:lnTo>
                      <a:pt x="703" y="1329"/>
                    </a:lnTo>
                    <a:lnTo>
                      <a:pt x="712" y="1338"/>
                    </a:lnTo>
                    <a:lnTo>
                      <a:pt x="718" y="1346"/>
                    </a:lnTo>
                    <a:lnTo>
                      <a:pt x="726" y="1353"/>
                    </a:lnTo>
                    <a:lnTo>
                      <a:pt x="733" y="1359"/>
                    </a:lnTo>
                    <a:lnTo>
                      <a:pt x="741" y="1367"/>
                    </a:lnTo>
                    <a:lnTo>
                      <a:pt x="745" y="1370"/>
                    </a:lnTo>
                    <a:lnTo>
                      <a:pt x="750" y="1376"/>
                    </a:lnTo>
                    <a:lnTo>
                      <a:pt x="752" y="1378"/>
                    </a:lnTo>
                    <a:lnTo>
                      <a:pt x="754" y="1380"/>
                    </a:lnTo>
                    <a:lnTo>
                      <a:pt x="817" y="1420"/>
                    </a:lnTo>
                    <a:lnTo>
                      <a:pt x="823" y="1420"/>
                    </a:lnTo>
                    <a:lnTo>
                      <a:pt x="830" y="1420"/>
                    </a:lnTo>
                    <a:lnTo>
                      <a:pt x="838" y="1420"/>
                    </a:lnTo>
                    <a:lnTo>
                      <a:pt x="845" y="1420"/>
                    </a:lnTo>
                    <a:lnTo>
                      <a:pt x="855" y="1420"/>
                    </a:lnTo>
                    <a:lnTo>
                      <a:pt x="863" y="1418"/>
                    </a:lnTo>
                    <a:lnTo>
                      <a:pt x="868" y="1418"/>
                    </a:lnTo>
                    <a:lnTo>
                      <a:pt x="874" y="1414"/>
                    </a:lnTo>
                    <a:lnTo>
                      <a:pt x="880" y="1410"/>
                    </a:lnTo>
                    <a:lnTo>
                      <a:pt x="889" y="1409"/>
                    </a:lnTo>
                    <a:lnTo>
                      <a:pt x="897" y="1405"/>
                    </a:lnTo>
                    <a:lnTo>
                      <a:pt x="904" y="1403"/>
                    </a:lnTo>
                    <a:lnTo>
                      <a:pt x="910" y="1401"/>
                    </a:lnTo>
                    <a:lnTo>
                      <a:pt x="914" y="1399"/>
                    </a:lnTo>
                    <a:lnTo>
                      <a:pt x="916" y="1399"/>
                    </a:lnTo>
                    <a:lnTo>
                      <a:pt x="918" y="1401"/>
                    </a:lnTo>
                    <a:lnTo>
                      <a:pt x="925" y="1403"/>
                    </a:lnTo>
                    <a:lnTo>
                      <a:pt x="929" y="1401"/>
                    </a:lnTo>
                    <a:lnTo>
                      <a:pt x="933" y="1397"/>
                    </a:lnTo>
                    <a:lnTo>
                      <a:pt x="935" y="1393"/>
                    </a:lnTo>
                    <a:lnTo>
                      <a:pt x="937" y="1390"/>
                    </a:lnTo>
                    <a:lnTo>
                      <a:pt x="939" y="1384"/>
                    </a:lnTo>
                    <a:lnTo>
                      <a:pt x="940" y="1380"/>
                    </a:lnTo>
                    <a:lnTo>
                      <a:pt x="940" y="1374"/>
                    </a:lnTo>
                    <a:lnTo>
                      <a:pt x="942" y="1370"/>
                    </a:lnTo>
                    <a:lnTo>
                      <a:pt x="942" y="1367"/>
                    </a:lnTo>
                    <a:lnTo>
                      <a:pt x="944" y="1361"/>
                    </a:lnTo>
                    <a:lnTo>
                      <a:pt x="946" y="1355"/>
                    </a:lnTo>
                    <a:lnTo>
                      <a:pt x="946" y="1350"/>
                    </a:lnTo>
                    <a:lnTo>
                      <a:pt x="948" y="1344"/>
                    </a:lnTo>
                    <a:lnTo>
                      <a:pt x="950" y="1338"/>
                    </a:lnTo>
                    <a:lnTo>
                      <a:pt x="950" y="1331"/>
                    </a:lnTo>
                    <a:lnTo>
                      <a:pt x="952" y="1323"/>
                    </a:lnTo>
                    <a:lnTo>
                      <a:pt x="952" y="1317"/>
                    </a:lnTo>
                    <a:lnTo>
                      <a:pt x="954" y="1310"/>
                    </a:lnTo>
                    <a:lnTo>
                      <a:pt x="954" y="1302"/>
                    </a:lnTo>
                    <a:lnTo>
                      <a:pt x="956" y="1296"/>
                    </a:lnTo>
                    <a:lnTo>
                      <a:pt x="956" y="1289"/>
                    </a:lnTo>
                    <a:lnTo>
                      <a:pt x="958" y="1283"/>
                    </a:lnTo>
                    <a:lnTo>
                      <a:pt x="958" y="1275"/>
                    </a:lnTo>
                    <a:lnTo>
                      <a:pt x="959" y="1268"/>
                    </a:lnTo>
                    <a:lnTo>
                      <a:pt x="959" y="1260"/>
                    </a:lnTo>
                    <a:lnTo>
                      <a:pt x="961" y="1255"/>
                    </a:lnTo>
                    <a:lnTo>
                      <a:pt x="961" y="1249"/>
                    </a:lnTo>
                    <a:lnTo>
                      <a:pt x="963" y="1243"/>
                    </a:lnTo>
                    <a:lnTo>
                      <a:pt x="963" y="1239"/>
                    </a:lnTo>
                    <a:lnTo>
                      <a:pt x="963" y="1234"/>
                    </a:lnTo>
                    <a:lnTo>
                      <a:pt x="965" y="1224"/>
                    </a:lnTo>
                    <a:lnTo>
                      <a:pt x="967" y="1218"/>
                    </a:lnTo>
                    <a:lnTo>
                      <a:pt x="967" y="1215"/>
                    </a:lnTo>
                    <a:lnTo>
                      <a:pt x="967" y="1213"/>
                    </a:lnTo>
                    <a:lnTo>
                      <a:pt x="967" y="1211"/>
                    </a:lnTo>
                    <a:lnTo>
                      <a:pt x="965" y="1209"/>
                    </a:lnTo>
                    <a:lnTo>
                      <a:pt x="963" y="1203"/>
                    </a:lnTo>
                    <a:lnTo>
                      <a:pt x="963" y="1196"/>
                    </a:lnTo>
                    <a:lnTo>
                      <a:pt x="963" y="1192"/>
                    </a:lnTo>
                    <a:lnTo>
                      <a:pt x="961" y="1186"/>
                    </a:lnTo>
                    <a:lnTo>
                      <a:pt x="961" y="1182"/>
                    </a:lnTo>
                    <a:lnTo>
                      <a:pt x="959" y="1177"/>
                    </a:lnTo>
                    <a:lnTo>
                      <a:pt x="959" y="1171"/>
                    </a:lnTo>
                    <a:lnTo>
                      <a:pt x="958" y="1167"/>
                    </a:lnTo>
                    <a:lnTo>
                      <a:pt x="958" y="1161"/>
                    </a:lnTo>
                    <a:lnTo>
                      <a:pt x="958" y="1158"/>
                    </a:lnTo>
                    <a:lnTo>
                      <a:pt x="956" y="1152"/>
                    </a:lnTo>
                    <a:lnTo>
                      <a:pt x="954" y="1146"/>
                    </a:lnTo>
                    <a:lnTo>
                      <a:pt x="952" y="1140"/>
                    </a:lnTo>
                    <a:lnTo>
                      <a:pt x="952" y="1135"/>
                    </a:lnTo>
                    <a:lnTo>
                      <a:pt x="950" y="1129"/>
                    </a:lnTo>
                    <a:lnTo>
                      <a:pt x="950" y="1123"/>
                    </a:lnTo>
                    <a:lnTo>
                      <a:pt x="948" y="1118"/>
                    </a:lnTo>
                    <a:lnTo>
                      <a:pt x="948" y="1112"/>
                    </a:lnTo>
                    <a:lnTo>
                      <a:pt x="944" y="1102"/>
                    </a:lnTo>
                    <a:lnTo>
                      <a:pt x="944" y="1095"/>
                    </a:lnTo>
                    <a:lnTo>
                      <a:pt x="942" y="1087"/>
                    </a:lnTo>
                    <a:lnTo>
                      <a:pt x="940" y="1082"/>
                    </a:lnTo>
                    <a:lnTo>
                      <a:pt x="940" y="1078"/>
                    </a:lnTo>
                    <a:lnTo>
                      <a:pt x="939" y="1074"/>
                    </a:lnTo>
                    <a:lnTo>
                      <a:pt x="939" y="1068"/>
                    </a:lnTo>
                    <a:lnTo>
                      <a:pt x="939" y="1064"/>
                    </a:lnTo>
                    <a:lnTo>
                      <a:pt x="939" y="1057"/>
                    </a:lnTo>
                    <a:lnTo>
                      <a:pt x="939" y="1051"/>
                    </a:lnTo>
                    <a:lnTo>
                      <a:pt x="939" y="1043"/>
                    </a:lnTo>
                    <a:lnTo>
                      <a:pt x="940" y="1036"/>
                    </a:lnTo>
                    <a:lnTo>
                      <a:pt x="940" y="1026"/>
                    </a:lnTo>
                    <a:lnTo>
                      <a:pt x="940" y="1017"/>
                    </a:lnTo>
                    <a:lnTo>
                      <a:pt x="942" y="1007"/>
                    </a:lnTo>
                    <a:lnTo>
                      <a:pt x="942" y="998"/>
                    </a:lnTo>
                    <a:lnTo>
                      <a:pt x="942" y="992"/>
                    </a:lnTo>
                    <a:lnTo>
                      <a:pt x="944" y="988"/>
                    </a:lnTo>
                    <a:lnTo>
                      <a:pt x="944" y="983"/>
                    </a:lnTo>
                    <a:lnTo>
                      <a:pt x="944" y="977"/>
                    </a:lnTo>
                    <a:lnTo>
                      <a:pt x="946" y="967"/>
                    </a:lnTo>
                    <a:lnTo>
                      <a:pt x="948" y="958"/>
                    </a:lnTo>
                    <a:lnTo>
                      <a:pt x="948" y="952"/>
                    </a:lnTo>
                    <a:lnTo>
                      <a:pt x="948" y="947"/>
                    </a:lnTo>
                    <a:lnTo>
                      <a:pt x="948" y="941"/>
                    </a:lnTo>
                    <a:lnTo>
                      <a:pt x="950" y="937"/>
                    </a:lnTo>
                    <a:lnTo>
                      <a:pt x="950" y="931"/>
                    </a:lnTo>
                    <a:lnTo>
                      <a:pt x="950" y="926"/>
                    </a:lnTo>
                    <a:lnTo>
                      <a:pt x="950" y="920"/>
                    </a:lnTo>
                    <a:lnTo>
                      <a:pt x="952" y="916"/>
                    </a:lnTo>
                    <a:lnTo>
                      <a:pt x="952" y="910"/>
                    </a:lnTo>
                    <a:lnTo>
                      <a:pt x="952" y="905"/>
                    </a:lnTo>
                    <a:lnTo>
                      <a:pt x="952" y="899"/>
                    </a:lnTo>
                    <a:lnTo>
                      <a:pt x="954" y="895"/>
                    </a:lnTo>
                    <a:lnTo>
                      <a:pt x="954" y="886"/>
                    </a:lnTo>
                    <a:lnTo>
                      <a:pt x="956" y="878"/>
                    </a:lnTo>
                    <a:lnTo>
                      <a:pt x="956" y="869"/>
                    </a:lnTo>
                    <a:lnTo>
                      <a:pt x="956" y="859"/>
                    </a:lnTo>
                    <a:lnTo>
                      <a:pt x="958" y="851"/>
                    </a:lnTo>
                    <a:lnTo>
                      <a:pt x="958" y="846"/>
                    </a:lnTo>
                    <a:lnTo>
                      <a:pt x="958" y="838"/>
                    </a:lnTo>
                    <a:lnTo>
                      <a:pt x="959" y="834"/>
                    </a:lnTo>
                    <a:lnTo>
                      <a:pt x="959" y="829"/>
                    </a:lnTo>
                    <a:lnTo>
                      <a:pt x="961" y="827"/>
                    </a:lnTo>
                    <a:lnTo>
                      <a:pt x="961" y="817"/>
                    </a:lnTo>
                    <a:lnTo>
                      <a:pt x="963" y="810"/>
                    </a:lnTo>
                    <a:lnTo>
                      <a:pt x="963" y="802"/>
                    </a:lnTo>
                    <a:lnTo>
                      <a:pt x="967" y="794"/>
                    </a:lnTo>
                    <a:lnTo>
                      <a:pt x="971" y="785"/>
                    </a:lnTo>
                    <a:lnTo>
                      <a:pt x="975" y="777"/>
                    </a:lnTo>
                    <a:lnTo>
                      <a:pt x="978" y="768"/>
                    </a:lnTo>
                    <a:lnTo>
                      <a:pt x="984" y="762"/>
                    </a:lnTo>
                    <a:lnTo>
                      <a:pt x="988" y="755"/>
                    </a:lnTo>
                    <a:lnTo>
                      <a:pt x="992" y="749"/>
                    </a:lnTo>
                    <a:lnTo>
                      <a:pt x="996" y="741"/>
                    </a:lnTo>
                    <a:lnTo>
                      <a:pt x="1001" y="737"/>
                    </a:lnTo>
                    <a:lnTo>
                      <a:pt x="1005" y="730"/>
                    </a:lnTo>
                    <a:lnTo>
                      <a:pt x="1009" y="728"/>
                    </a:lnTo>
                    <a:lnTo>
                      <a:pt x="1007" y="726"/>
                    </a:lnTo>
                    <a:lnTo>
                      <a:pt x="1007" y="722"/>
                    </a:lnTo>
                    <a:lnTo>
                      <a:pt x="1005" y="718"/>
                    </a:lnTo>
                    <a:lnTo>
                      <a:pt x="1003" y="713"/>
                    </a:lnTo>
                    <a:lnTo>
                      <a:pt x="999" y="705"/>
                    </a:lnTo>
                    <a:lnTo>
                      <a:pt x="997" y="697"/>
                    </a:lnTo>
                    <a:lnTo>
                      <a:pt x="994" y="690"/>
                    </a:lnTo>
                    <a:lnTo>
                      <a:pt x="992" y="682"/>
                    </a:lnTo>
                    <a:lnTo>
                      <a:pt x="986" y="673"/>
                    </a:lnTo>
                    <a:lnTo>
                      <a:pt x="982" y="663"/>
                    </a:lnTo>
                    <a:lnTo>
                      <a:pt x="978" y="654"/>
                    </a:lnTo>
                    <a:lnTo>
                      <a:pt x="975" y="646"/>
                    </a:lnTo>
                    <a:lnTo>
                      <a:pt x="969" y="637"/>
                    </a:lnTo>
                    <a:lnTo>
                      <a:pt x="967" y="629"/>
                    </a:lnTo>
                    <a:lnTo>
                      <a:pt x="961" y="625"/>
                    </a:lnTo>
                    <a:lnTo>
                      <a:pt x="959" y="620"/>
                    </a:lnTo>
                    <a:lnTo>
                      <a:pt x="954" y="614"/>
                    </a:lnTo>
                    <a:lnTo>
                      <a:pt x="948" y="606"/>
                    </a:lnTo>
                    <a:lnTo>
                      <a:pt x="940" y="599"/>
                    </a:lnTo>
                    <a:lnTo>
                      <a:pt x="933" y="591"/>
                    </a:lnTo>
                    <a:lnTo>
                      <a:pt x="923" y="580"/>
                    </a:lnTo>
                    <a:lnTo>
                      <a:pt x="914" y="570"/>
                    </a:lnTo>
                    <a:lnTo>
                      <a:pt x="906" y="561"/>
                    </a:lnTo>
                    <a:lnTo>
                      <a:pt x="899" y="551"/>
                    </a:lnTo>
                    <a:lnTo>
                      <a:pt x="889" y="542"/>
                    </a:lnTo>
                    <a:lnTo>
                      <a:pt x="880" y="532"/>
                    </a:lnTo>
                    <a:lnTo>
                      <a:pt x="872" y="523"/>
                    </a:lnTo>
                    <a:lnTo>
                      <a:pt x="866" y="517"/>
                    </a:lnTo>
                    <a:lnTo>
                      <a:pt x="861" y="509"/>
                    </a:lnTo>
                    <a:lnTo>
                      <a:pt x="857" y="505"/>
                    </a:lnTo>
                    <a:lnTo>
                      <a:pt x="853" y="502"/>
                    </a:lnTo>
                    <a:lnTo>
                      <a:pt x="804" y="447"/>
                    </a:lnTo>
                    <a:lnTo>
                      <a:pt x="804" y="445"/>
                    </a:lnTo>
                    <a:lnTo>
                      <a:pt x="804" y="437"/>
                    </a:lnTo>
                    <a:lnTo>
                      <a:pt x="804" y="431"/>
                    </a:lnTo>
                    <a:lnTo>
                      <a:pt x="804" y="428"/>
                    </a:lnTo>
                    <a:lnTo>
                      <a:pt x="804" y="422"/>
                    </a:lnTo>
                    <a:lnTo>
                      <a:pt x="805" y="416"/>
                    </a:lnTo>
                    <a:lnTo>
                      <a:pt x="805" y="410"/>
                    </a:lnTo>
                    <a:lnTo>
                      <a:pt x="805" y="405"/>
                    </a:lnTo>
                    <a:lnTo>
                      <a:pt x="807" y="399"/>
                    </a:lnTo>
                    <a:lnTo>
                      <a:pt x="809" y="393"/>
                    </a:lnTo>
                    <a:lnTo>
                      <a:pt x="815" y="386"/>
                    </a:lnTo>
                    <a:lnTo>
                      <a:pt x="821" y="382"/>
                    </a:lnTo>
                    <a:lnTo>
                      <a:pt x="828" y="380"/>
                    </a:lnTo>
                    <a:lnTo>
                      <a:pt x="838" y="380"/>
                    </a:lnTo>
                    <a:lnTo>
                      <a:pt x="842" y="380"/>
                    </a:lnTo>
                    <a:lnTo>
                      <a:pt x="847" y="380"/>
                    </a:lnTo>
                    <a:lnTo>
                      <a:pt x="853" y="382"/>
                    </a:lnTo>
                    <a:lnTo>
                      <a:pt x="859" y="382"/>
                    </a:lnTo>
                    <a:lnTo>
                      <a:pt x="868" y="384"/>
                    </a:lnTo>
                    <a:lnTo>
                      <a:pt x="878" y="386"/>
                    </a:lnTo>
                    <a:lnTo>
                      <a:pt x="883" y="388"/>
                    </a:lnTo>
                    <a:lnTo>
                      <a:pt x="887" y="388"/>
                    </a:lnTo>
                    <a:lnTo>
                      <a:pt x="821" y="302"/>
                    </a:lnTo>
                    <a:lnTo>
                      <a:pt x="767" y="332"/>
                    </a:lnTo>
                    <a:lnTo>
                      <a:pt x="766" y="334"/>
                    </a:lnTo>
                    <a:lnTo>
                      <a:pt x="764" y="342"/>
                    </a:lnTo>
                    <a:lnTo>
                      <a:pt x="760" y="348"/>
                    </a:lnTo>
                    <a:lnTo>
                      <a:pt x="758" y="353"/>
                    </a:lnTo>
                    <a:lnTo>
                      <a:pt x="756" y="361"/>
                    </a:lnTo>
                    <a:lnTo>
                      <a:pt x="754" y="369"/>
                    </a:lnTo>
                    <a:lnTo>
                      <a:pt x="750" y="376"/>
                    </a:lnTo>
                    <a:lnTo>
                      <a:pt x="748" y="386"/>
                    </a:lnTo>
                    <a:lnTo>
                      <a:pt x="745" y="395"/>
                    </a:lnTo>
                    <a:lnTo>
                      <a:pt x="743" y="405"/>
                    </a:lnTo>
                    <a:lnTo>
                      <a:pt x="741" y="414"/>
                    </a:lnTo>
                    <a:lnTo>
                      <a:pt x="739" y="424"/>
                    </a:lnTo>
                    <a:lnTo>
                      <a:pt x="739" y="431"/>
                    </a:lnTo>
                    <a:lnTo>
                      <a:pt x="739" y="443"/>
                    </a:lnTo>
                    <a:lnTo>
                      <a:pt x="739" y="450"/>
                    </a:lnTo>
                    <a:lnTo>
                      <a:pt x="741" y="460"/>
                    </a:lnTo>
                    <a:lnTo>
                      <a:pt x="743" y="469"/>
                    </a:lnTo>
                    <a:lnTo>
                      <a:pt x="747" y="479"/>
                    </a:lnTo>
                    <a:lnTo>
                      <a:pt x="750" y="488"/>
                    </a:lnTo>
                    <a:lnTo>
                      <a:pt x="756" y="498"/>
                    </a:lnTo>
                    <a:lnTo>
                      <a:pt x="762" y="505"/>
                    </a:lnTo>
                    <a:lnTo>
                      <a:pt x="767" y="515"/>
                    </a:lnTo>
                    <a:lnTo>
                      <a:pt x="771" y="523"/>
                    </a:lnTo>
                    <a:lnTo>
                      <a:pt x="777" y="530"/>
                    </a:lnTo>
                    <a:lnTo>
                      <a:pt x="781" y="536"/>
                    </a:lnTo>
                    <a:lnTo>
                      <a:pt x="785" y="543"/>
                    </a:lnTo>
                    <a:lnTo>
                      <a:pt x="792" y="551"/>
                    </a:lnTo>
                    <a:lnTo>
                      <a:pt x="794" y="555"/>
                    </a:lnTo>
                    <a:lnTo>
                      <a:pt x="798" y="555"/>
                    </a:lnTo>
                    <a:lnTo>
                      <a:pt x="802" y="557"/>
                    </a:lnTo>
                    <a:lnTo>
                      <a:pt x="807" y="561"/>
                    </a:lnTo>
                    <a:lnTo>
                      <a:pt x="813" y="564"/>
                    </a:lnTo>
                    <a:lnTo>
                      <a:pt x="821" y="566"/>
                    </a:lnTo>
                    <a:lnTo>
                      <a:pt x="828" y="572"/>
                    </a:lnTo>
                    <a:lnTo>
                      <a:pt x="836" y="578"/>
                    </a:lnTo>
                    <a:lnTo>
                      <a:pt x="844" y="582"/>
                    </a:lnTo>
                    <a:lnTo>
                      <a:pt x="851" y="587"/>
                    </a:lnTo>
                    <a:lnTo>
                      <a:pt x="859" y="591"/>
                    </a:lnTo>
                    <a:lnTo>
                      <a:pt x="866" y="597"/>
                    </a:lnTo>
                    <a:lnTo>
                      <a:pt x="870" y="601"/>
                    </a:lnTo>
                    <a:lnTo>
                      <a:pt x="876" y="606"/>
                    </a:lnTo>
                    <a:lnTo>
                      <a:pt x="880" y="610"/>
                    </a:lnTo>
                    <a:lnTo>
                      <a:pt x="882" y="614"/>
                    </a:lnTo>
                    <a:lnTo>
                      <a:pt x="882" y="616"/>
                    </a:lnTo>
                    <a:lnTo>
                      <a:pt x="885" y="621"/>
                    </a:lnTo>
                    <a:lnTo>
                      <a:pt x="887" y="625"/>
                    </a:lnTo>
                    <a:lnTo>
                      <a:pt x="893" y="631"/>
                    </a:lnTo>
                    <a:lnTo>
                      <a:pt x="897" y="637"/>
                    </a:lnTo>
                    <a:lnTo>
                      <a:pt x="902" y="644"/>
                    </a:lnTo>
                    <a:lnTo>
                      <a:pt x="906" y="652"/>
                    </a:lnTo>
                    <a:lnTo>
                      <a:pt x="912" y="659"/>
                    </a:lnTo>
                    <a:lnTo>
                      <a:pt x="918" y="667"/>
                    </a:lnTo>
                    <a:lnTo>
                      <a:pt x="921" y="673"/>
                    </a:lnTo>
                    <a:lnTo>
                      <a:pt x="927" y="678"/>
                    </a:lnTo>
                    <a:lnTo>
                      <a:pt x="931" y="686"/>
                    </a:lnTo>
                    <a:lnTo>
                      <a:pt x="939" y="692"/>
                    </a:lnTo>
                    <a:lnTo>
                      <a:pt x="940" y="697"/>
                    </a:lnTo>
                    <a:lnTo>
                      <a:pt x="939" y="699"/>
                    </a:lnTo>
                    <a:lnTo>
                      <a:pt x="937" y="705"/>
                    </a:lnTo>
                    <a:lnTo>
                      <a:pt x="935" y="713"/>
                    </a:lnTo>
                    <a:lnTo>
                      <a:pt x="931" y="720"/>
                    </a:lnTo>
                    <a:lnTo>
                      <a:pt x="927" y="730"/>
                    </a:lnTo>
                    <a:lnTo>
                      <a:pt x="925" y="736"/>
                    </a:lnTo>
                    <a:lnTo>
                      <a:pt x="923" y="741"/>
                    </a:lnTo>
                    <a:lnTo>
                      <a:pt x="921" y="749"/>
                    </a:lnTo>
                    <a:lnTo>
                      <a:pt x="920" y="755"/>
                    </a:lnTo>
                    <a:lnTo>
                      <a:pt x="918" y="760"/>
                    </a:lnTo>
                    <a:lnTo>
                      <a:pt x="916" y="766"/>
                    </a:lnTo>
                    <a:lnTo>
                      <a:pt x="914" y="774"/>
                    </a:lnTo>
                    <a:lnTo>
                      <a:pt x="912" y="781"/>
                    </a:lnTo>
                    <a:lnTo>
                      <a:pt x="910" y="787"/>
                    </a:lnTo>
                    <a:lnTo>
                      <a:pt x="908" y="794"/>
                    </a:lnTo>
                    <a:lnTo>
                      <a:pt x="906" y="802"/>
                    </a:lnTo>
                    <a:lnTo>
                      <a:pt x="904" y="810"/>
                    </a:lnTo>
                    <a:lnTo>
                      <a:pt x="904" y="815"/>
                    </a:lnTo>
                    <a:lnTo>
                      <a:pt x="902" y="823"/>
                    </a:lnTo>
                    <a:lnTo>
                      <a:pt x="901" y="829"/>
                    </a:lnTo>
                    <a:lnTo>
                      <a:pt x="901" y="836"/>
                    </a:lnTo>
                    <a:lnTo>
                      <a:pt x="899" y="842"/>
                    </a:lnTo>
                    <a:lnTo>
                      <a:pt x="899" y="850"/>
                    </a:lnTo>
                    <a:lnTo>
                      <a:pt x="899" y="855"/>
                    </a:lnTo>
                    <a:lnTo>
                      <a:pt x="899" y="863"/>
                    </a:lnTo>
                    <a:lnTo>
                      <a:pt x="899" y="869"/>
                    </a:lnTo>
                    <a:lnTo>
                      <a:pt x="899" y="876"/>
                    </a:lnTo>
                    <a:lnTo>
                      <a:pt x="899" y="884"/>
                    </a:lnTo>
                    <a:lnTo>
                      <a:pt x="899" y="893"/>
                    </a:lnTo>
                    <a:lnTo>
                      <a:pt x="899" y="899"/>
                    </a:lnTo>
                    <a:lnTo>
                      <a:pt x="899" y="909"/>
                    </a:lnTo>
                    <a:lnTo>
                      <a:pt x="899" y="918"/>
                    </a:lnTo>
                    <a:lnTo>
                      <a:pt x="899" y="928"/>
                    </a:lnTo>
                    <a:lnTo>
                      <a:pt x="897" y="935"/>
                    </a:lnTo>
                    <a:lnTo>
                      <a:pt x="897" y="945"/>
                    </a:lnTo>
                    <a:lnTo>
                      <a:pt x="897" y="954"/>
                    </a:lnTo>
                    <a:lnTo>
                      <a:pt x="897" y="964"/>
                    </a:lnTo>
                    <a:lnTo>
                      <a:pt x="895" y="973"/>
                    </a:lnTo>
                    <a:lnTo>
                      <a:pt x="895" y="983"/>
                    </a:lnTo>
                    <a:lnTo>
                      <a:pt x="895" y="992"/>
                    </a:lnTo>
                    <a:lnTo>
                      <a:pt x="895" y="1002"/>
                    </a:lnTo>
                    <a:lnTo>
                      <a:pt x="895" y="1011"/>
                    </a:lnTo>
                    <a:lnTo>
                      <a:pt x="893" y="1019"/>
                    </a:lnTo>
                    <a:lnTo>
                      <a:pt x="893" y="1028"/>
                    </a:lnTo>
                    <a:lnTo>
                      <a:pt x="893" y="1036"/>
                    </a:lnTo>
                    <a:lnTo>
                      <a:pt x="891" y="1043"/>
                    </a:lnTo>
                    <a:lnTo>
                      <a:pt x="891" y="1053"/>
                    </a:lnTo>
                    <a:lnTo>
                      <a:pt x="891" y="1059"/>
                    </a:lnTo>
                    <a:lnTo>
                      <a:pt x="891" y="1066"/>
                    </a:lnTo>
                    <a:lnTo>
                      <a:pt x="891" y="1072"/>
                    </a:lnTo>
                    <a:lnTo>
                      <a:pt x="891" y="1078"/>
                    </a:lnTo>
                    <a:lnTo>
                      <a:pt x="891" y="1083"/>
                    </a:lnTo>
                    <a:lnTo>
                      <a:pt x="891" y="1089"/>
                    </a:lnTo>
                    <a:lnTo>
                      <a:pt x="891" y="1095"/>
                    </a:lnTo>
                    <a:lnTo>
                      <a:pt x="891" y="1101"/>
                    </a:lnTo>
                    <a:lnTo>
                      <a:pt x="891" y="1106"/>
                    </a:lnTo>
                    <a:lnTo>
                      <a:pt x="891" y="1112"/>
                    </a:lnTo>
                    <a:lnTo>
                      <a:pt x="891" y="1120"/>
                    </a:lnTo>
                    <a:lnTo>
                      <a:pt x="891" y="1123"/>
                    </a:lnTo>
                    <a:lnTo>
                      <a:pt x="891" y="1129"/>
                    </a:lnTo>
                    <a:lnTo>
                      <a:pt x="891" y="1135"/>
                    </a:lnTo>
                    <a:lnTo>
                      <a:pt x="893" y="1140"/>
                    </a:lnTo>
                    <a:lnTo>
                      <a:pt x="893" y="1146"/>
                    </a:lnTo>
                    <a:lnTo>
                      <a:pt x="893" y="1152"/>
                    </a:lnTo>
                    <a:lnTo>
                      <a:pt x="895" y="1158"/>
                    </a:lnTo>
                    <a:lnTo>
                      <a:pt x="895" y="1165"/>
                    </a:lnTo>
                    <a:lnTo>
                      <a:pt x="895" y="1169"/>
                    </a:lnTo>
                    <a:lnTo>
                      <a:pt x="895" y="1175"/>
                    </a:lnTo>
                    <a:lnTo>
                      <a:pt x="895" y="1182"/>
                    </a:lnTo>
                    <a:lnTo>
                      <a:pt x="897" y="1188"/>
                    </a:lnTo>
                    <a:lnTo>
                      <a:pt x="897" y="1194"/>
                    </a:lnTo>
                    <a:lnTo>
                      <a:pt x="897" y="1199"/>
                    </a:lnTo>
                    <a:lnTo>
                      <a:pt x="897" y="1207"/>
                    </a:lnTo>
                    <a:lnTo>
                      <a:pt x="899" y="1213"/>
                    </a:lnTo>
                    <a:lnTo>
                      <a:pt x="899" y="1218"/>
                    </a:lnTo>
                    <a:lnTo>
                      <a:pt x="899" y="1224"/>
                    </a:lnTo>
                    <a:lnTo>
                      <a:pt x="899" y="1230"/>
                    </a:lnTo>
                    <a:lnTo>
                      <a:pt x="899" y="1236"/>
                    </a:lnTo>
                    <a:lnTo>
                      <a:pt x="899" y="1241"/>
                    </a:lnTo>
                    <a:lnTo>
                      <a:pt x="899" y="1247"/>
                    </a:lnTo>
                    <a:lnTo>
                      <a:pt x="899" y="1251"/>
                    </a:lnTo>
                    <a:lnTo>
                      <a:pt x="899" y="1256"/>
                    </a:lnTo>
                    <a:lnTo>
                      <a:pt x="899" y="1264"/>
                    </a:lnTo>
                    <a:lnTo>
                      <a:pt x="899" y="1274"/>
                    </a:lnTo>
                    <a:lnTo>
                      <a:pt x="897" y="1281"/>
                    </a:lnTo>
                    <a:lnTo>
                      <a:pt x="897" y="1289"/>
                    </a:lnTo>
                    <a:lnTo>
                      <a:pt x="895" y="1296"/>
                    </a:lnTo>
                    <a:lnTo>
                      <a:pt x="893" y="1304"/>
                    </a:lnTo>
                    <a:lnTo>
                      <a:pt x="891" y="1312"/>
                    </a:lnTo>
                    <a:lnTo>
                      <a:pt x="891" y="1319"/>
                    </a:lnTo>
                    <a:lnTo>
                      <a:pt x="887" y="1325"/>
                    </a:lnTo>
                    <a:lnTo>
                      <a:pt x="887" y="1331"/>
                    </a:lnTo>
                    <a:lnTo>
                      <a:pt x="885" y="1334"/>
                    </a:lnTo>
                    <a:lnTo>
                      <a:pt x="883" y="1340"/>
                    </a:lnTo>
                    <a:lnTo>
                      <a:pt x="882" y="1346"/>
                    </a:lnTo>
                    <a:lnTo>
                      <a:pt x="882" y="1350"/>
                    </a:lnTo>
                    <a:lnTo>
                      <a:pt x="878" y="1350"/>
                    </a:lnTo>
                    <a:lnTo>
                      <a:pt x="872" y="1351"/>
                    </a:lnTo>
                    <a:lnTo>
                      <a:pt x="866" y="1353"/>
                    </a:lnTo>
                    <a:lnTo>
                      <a:pt x="861" y="1355"/>
                    </a:lnTo>
                    <a:lnTo>
                      <a:pt x="855" y="1355"/>
                    </a:lnTo>
                    <a:lnTo>
                      <a:pt x="849" y="1357"/>
                    </a:lnTo>
                    <a:lnTo>
                      <a:pt x="842" y="1359"/>
                    </a:lnTo>
                    <a:lnTo>
                      <a:pt x="836" y="1359"/>
                    </a:lnTo>
                    <a:lnTo>
                      <a:pt x="828" y="1359"/>
                    </a:lnTo>
                    <a:lnTo>
                      <a:pt x="823" y="1359"/>
                    </a:lnTo>
                    <a:lnTo>
                      <a:pt x="817" y="1357"/>
                    </a:lnTo>
                    <a:lnTo>
                      <a:pt x="811" y="1355"/>
                    </a:lnTo>
                    <a:lnTo>
                      <a:pt x="805" y="1351"/>
                    </a:lnTo>
                    <a:lnTo>
                      <a:pt x="804" y="1350"/>
                    </a:lnTo>
                    <a:lnTo>
                      <a:pt x="798" y="1342"/>
                    </a:lnTo>
                    <a:lnTo>
                      <a:pt x="792" y="1336"/>
                    </a:lnTo>
                    <a:lnTo>
                      <a:pt x="783" y="1327"/>
                    </a:lnTo>
                    <a:lnTo>
                      <a:pt x="775" y="1317"/>
                    </a:lnTo>
                    <a:lnTo>
                      <a:pt x="767" y="1312"/>
                    </a:lnTo>
                    <a:lnTo>
                      <a:pt x="762" y="1306"/>
                    </a:lnTo>
                    <a:lnTo>
                      <a:pt x="756" y="1300"/>
                    </a:lnTo>
                    <a:lnTo>
                      <a:pt x="750" y="1294"/>
                    </a:lnTo>
                    <a:lnTo>
                      <a:pt x="745" y="1289"/>
                    </a:lnTo>
                    <a:lnTo>
                      <a:pt x="737" y="1283"/>
                    </a:lnTo>
                    <a:lnTo>
                      <a:pt x="731" y="1275"/>
                    </a:lnTo>
                    <a:lnTo>
                      <a:pt x="726" y="1270"/>
                    </a:lnTo>
                    <a:lnTo>
                      <a:pt x="718" y="1262"/>
                    </a:lnTo>
                    <a:lnTo>
                      <a:pt x="712" y="1256"/>
                    </a:lnTo>
                    <a:lnTo>
                      <a:pt x="705" y="1249"/>
                    </a:lnTo>
                    <a:lnTo>
                      <a:pt x="699" y="1243"/>
                    </a:lnTo>
                    <a:lnTo>
                      <a:pt x="693" y="1237"/>
                    </a:lnTo>
                    <a:lnTo>
                      <a:pt x="688" y="1232"/>
                    </a:lnTo>
                    <a:lnTo>
                      <a:pt x="682" y="1224"/>
                    </a:lnTo>
                    <a:lnTo>
                      <a:pt x="676" y="1218"/>
                    </a:lnTo>
                    <a:lnTo>
                      <a:pt x="671" y="1213"/>
                    </a:lnTo>
                    <a:lnTo>
                      <a:pt x="667" y="1207"/>
                    </a:lnTo>
                    <a:lnTo>
                      <a:pt x="661" y="1201"/>
                    </a:lnTo>
                    <a:lnTo>
                      <a:pt x="659" y="1196"/>
                    </a:lnTo>
                    <a:lnTo>
                      <a:pt x="653" y="1184"/>
                    </a:lnTo>
                    <a:lnTo>
                      <a:pt x="650" y="1177"/>
                    </a:lnTo>
                    <a:lnTo>
                      <a:pt x="648" y="1171"/>
                    </a:lnTo>
                    <a:lnTo>
                      <a:pt x="646" y="1165"/>
                    </a:lnTo>
                    <a:lnTo>
                      <a:pt x="642" y="1159"/>
                    </a:lnTo>
                    <a:lnTo>
                      <a:pt x="638" y="1156"/>
                    </a:lnTo>
                    <a:lnTo>
                      <a:pt x="634" y="1150"/>
                    </a:lnTo>
                    <a:lnTo>
                      <a:pt x="629" y="1144"/>
                    </a:lnTo>
                    <a:lnTo>
                      <a:pt x="623" y="1139"/>
                    </a:lnTo>
                    <a:lnTo>
                      <a:pt x="619" y="1133"/>
                    </a:lnTo>
                    <a:lnTo>
                      <a:pt x="612" y="1125"/>
                    </a:lnTo>
                    <a:lnTo>
                      <a:pt x="606" y="1120"/>
                    </a:lnTo>
                    <a:lnTo>
                      <a:pt x="598" y="1114"/>
                    </a:lnTo>
                    <a:lnTo>
                      <a:pt x="593" y="1108"/>
                    </a:lnTo>
                    <a:lnTo>
                      <a:pt x="585" y="1102"/>
                    </a:lnTo>
                    <a:lnTo>
                      <a:pt x="577" y="1097"/>
                    </a:lnTo>
                    <a:lnTo>
                      <a:pt x="570" y="1091"/>
                    </a:lnTo>
                    <a:lnTo>
                      <a:pt x="564" y="1085"/>
                    </a:lnTo>
                    <a:lnTo>
                      <a:pt x="555" y="1080"/>
                    </a:lnTo>
                    <a:lnTo>
                      <a:pt x="549" y="1074"/>
                    </a:lnTo>
                    <a:lnTo>
                      <a:pt x="541" y="1068"/>
                    </a:lnTo>
                    <a:lnTo>
                      <a:pt x="534" y="1064"/>
                    </a:lnTo>
                    <a:lnTo>
                      <a:pt x="528" y="1059"/>
                    </a:lnTo>
                    <a:lnTo>
                      <a:pt x="520" y="1055"/>
                    </a:lnTo>
                    <a:lnTo>
                      <a:pt x="515" y="1051"/>
                    </a:lnTo>
                    <a:lnTo>
                      <a:pt x="509" y="1047"/>
                    </a:lnTo>
                    <a:lnTo>
                      <a:pt x="503" y="1043"/>
                    </a:lnTo>
                    <a:lnTo>
                      <a:pt x="500" y="1042"/>
                    </a:lnTo>
                    <a:lnTo>
                      <a:pt x="494" y="1038"/>
                    </a:lnTo>
                    <a:lnTo>
                      <a:pt x="492" y="1038"/>
                    </a:lnTo>
                    <a:lnTo>
                      <a:pt x="486" y="1034"/>
                    </a:lnTo>
                    <a:lnTo>
                      <a:pt x="387" y="1017"/>
                    </a:lnTo>
                    <a:lnTo>
                      <a:pt x="385" y="1019"/>
                    </a:lnTo>
                    <a:lnTo>
                      <a:pt x="380" y="1023"/>
                    </a:lnTo>
                    <a:lnTo>
                      <a:pt x="374" y="1026"/>
                    </a:lnTo>
                    <a:lnTo>
                      <a:pt x="368" y="1030"/>
                    </a:lnTo>
                    <a:lnTo>
                      <a:pt x="363" y="1032"/>
                    </a:lnTo>
                    <a:lnTo>
                      <a:pt x="357" y="1036"/>
                    </a:lnTo>
                    <a:lnTo>
                      <a:pt x="347" y="1040"/>
                    </a:lnTo>
                    <a:lnTo>
                      <a:pt x="340" y="1042"/>
                    </a:lnTo>
                    <a:lnTo>
                      <a:pt x="330" y="1043"/>
                    </a:lnTo>
                    <a:lnTo>
                      <a:pt x="321" y="1045"/>
                    </a:lnTo>
                    <a:lnTo>
                      <a:pt x="315" y="1045"/>
                    </a:lnTo>
                    <a:lnTo>
                      <a:pt x="311" y="1045"/>
                    </a:lnTo>
                    <a:lnTo>
                      <a:pt x="306" y="1045"/>
                    </a:lnTo>
                    <a:lnTo>
                      <a:pt x="300" y="1045"/>
                    </a:lnTo>
                    <a:lnTo>
                      <a:pt x="294" y="1045"/>
                    </a:lnTo>
                    <a:lnTo>
                      <a:pt x="289" y="1043"/>
                    </a:lnTo>
                    <a:lnTo>
                      <a:pt x="285" y="1043"/>
                    </a:lnTo>
                    <a:lnTo>
                      <a:pt x="279" y="1042"/>
                    </a:lnTo>
                    <a:lnTo>
                      <a:pt x="271" y="1040"/>
                    </a:lnTo>
                    <a:lnTo>
                      <a:pt x="266" y="1038"/>
                    </a:lnTo>
                    <a:lnTo>
                      <a:pt x="260" y="1036"/>
                    </a:lnTo>
                    <a:lnTo>
                      <a:pt x="256" y="1034"/>
                    </a:lnTo>
                    <a:lnTo>
                      <a:pt x="251" y="1032"/>
                    </a:lnTo>
                    <a:lnTo>
                      <a:pt x="245" y="1030"/>
                    </a:lnTo>
                    <a:lnTo>
                      <a:pt x="239" y="1028"/>
                    </a:lnTo>
                    <a:lnTo>
                      <a:pt x="235" y="1026"/>
                    </a:lnTo>
                    <a:lnTo>
                      <a:pt x="228" y="1023"/>
                    </a:lnTo>
                    <a:lnTo>
                      <a:pt x="220" y="1021"/>
                    </a:lnTo>
                    <a:lnTo>
                      <a:pt x="213" y="1017"/>
                    </a:lnTo>
                    <a:lnTo>
                      <a:pt x="207" y="1015"/>
                    </a:lnTo>
                    <a:lnTo>
                      <a:pt x="199" y="1011"/>
                    </a:lnTo>
                    <a:lnTo>
                      <a:pt x="195" y="1007"/>
                    </a:lnTo>
                    <a:lnTo>
                      <a:pt x="190" y="1005"/>
                    </a:lnTo>
                    <a:lnTo>
                      <a:pt x="186" y="1004"/>
                    </a:lnTo>
                    <a:lnTo>
                      <a:pt x="182" y="998"/>
                    </a:lnTo>
                    <a:lnTo>
                      <a:pt x="182" y="994"/>
                    </a:lnTo>
                    <a:lnTo>
                      <a:pt x="180" y="990"/>
                    </a:lnTo>
                    <a:lnTo>
                      <a:pt x="180" y="986"/>
                    </a:lnTo>
                    <a:lnTo>
                      <a:pt x="178" y="979"/>
                    </a:lnTo>
                    <a:lnTo>
                      <a:pt x="176" y="973"/>
                    </a:lnTo>
                    <a:lnTo>
                      <a:pt x="173" y="966"/>
                    </a:lnTo>
                    <a:lnTo>
                      <a:pt x="171" y="958"/>
                    </a:lnTo>
                    <a:lnTo>
                      <a:pt x="167" y="948"/>
                    </a:lnTo>
                    <a:lnTo>
                      <a:pt x="165" y="939"/>
                    </a:lnTo>
                    <a:lnTo>
                      <a:pt x="161" y="929"/>
                    </a:lnTo>
                    <a:lnTo>
                      <a:pt x="157" y="922"/>
                    </a:lnTo>
                    <a:lnTo>
                      <a:pt x="156" y="912"/>
                    </a:lnTo>
                    <a:lnTo>
                      <a:pt x="154" y="907"/>
                    </a:lnTo>
                    <a:lnTo>
                      <a:pt x="150" y="901"/>
                    </a:lnTo>
                    <a:lnTo>
                      <a:pt x="148" y="897"/>
                    </a:lnTo>
                    <a:lnTo>
                      <a:pt x="148" y="893"/>
                    </a:lnTo>
                    <a:lnTo>
                      <a:pt x="148" y="891"/>
                    </a:lnTo>
                    <a:lnTo>
                      <a:pt x="148" y="890"/>
                    </a:lnTo>
                    <a:lnTo>
                      <a:pt x="150" y="884"/>
                    </a:lnTo>
                    <a:lnTo>
                      <a:pt x="152" y="876"/>
                    </a:lnTo>
                    <a:lnTo>
                      <a:pt x="154" y="869"/>
                    </a:lnTo>
                    <a:lnTo>
                      <a:pt x="157" y="859"/>
                    </a:lnTo>
                    <a:lnTo>
                      <a:pt x="159" y="850"/>
                    </a:lnTo>
                    <a:lnTo>
                      <a:pt x="163" y="840"/>
                    </a:lnTo>
                    <a:lnTo>
                      <a:pt x="165" y="834"/>
                    </a:lnTo>
                    <a:lnTo>
                      <a:pt x="165" y="831"/>
                    </a:lnTo>
                    <a:lnTo>
                      <a:pt x="167" y="825"/>
                    </a:lnTo>
                    <a:lnTo>
                      <a:pt x="169" y="819"/>
                    </a:lnTo>
                    <a:lnTo>
                      <a:pt x="171" y="810"/>
                    </a:lnTo>
                    <a:lnTo>
                      <a:pt x="175" y="800"/>
                    </a:lnTo>
                    <a:lnTo>
                      <a:pt x="176" y="791"/>
                    </a:lnTo>
                    <a:lnTo>
                      <a:pt x="178" y="785"/>
                    </a:lnTo>
                    <a:lnTo>
                      <a:pt x="180" y="777"/>
                    </a:lnTo>
                    <a:lnTo>
                      <a:pt x="182" y="775"/>
                    </a:lnTo>
                    <a:lnTo>
                      <a:pt x="182" y="770"/>
                    </a:lnTo>
                    <a:lnTo>
                      <a:pt x="182" y="766"/>
                    </a:lnTo>
                    <a:lnTo>
                      <a:pt x="184" y="760"/>
                    </a:lnTo>
                    <a:lnTo>
                      <a:pt x="186" y="755"/>
                    </a:lnTo>
                    <a:lnTo>
                      <a:pt x="188" y="747"/>
                    </a:lnTo>
                    <a:lnTo>
                      <a:pt x="192" y="741"/>
                    </a:lnTo>
                    <a:lnTo>
                      <a:pt x="194" y="734"/>
                    </a:lnTo>
                    <a:lnTo>
                      <a:pt x="197" y="728"/>
                    </a:lnTo>
                    <a:lnTo>
                      <a:pt x="199" y="720"/>
                    </a:lnTo>
                    <a:lnTo>
                      <a:pt x="203" y="715"/>
                    </a:lnTo>
                    <a:lnTo>
                      <a:pt x="207" y="707"/>
                    </a:lnTo>
                    <a:lnTo>
                      <a:pt x="211" y="703"/>
                    </a:lnTo>
                    <a:lnTo>
                      <a:pt x="214" y="697"/>
                    </a:lnTo>
                    <a:lnTo>
                      <a:pt x="218" y="694"/>
                    </a:lnTo>
                    <a:lnTo>
                      <a:pt x="222" y="692"/>
                    </a:lnTo>
                    <a:lnTo>
                      <a:pt x="226" y="690"/>
                    </a:lnTo>
                    <a:lnTo>
                      <a:pt x="230" y="688"/>
                    </a:lnTo>
                    <a:lnTo>
                      <a:pt x="235" y="688"/>
                    </a:lnTo>
                    <a:lnTo>
                      <a:pt x="241" y="686"/>
                    </a:lnTo>
                    <a:lnTo>
                      <a:pt x="249" y="686"/>
                    </a:lnTo>
                    <a:lnTo>
                      <a:pt x="258" y="684"/>
                    </a:lnTo>
                    <a:lnTo>
                      <a:pt x="266" y="684"/>
                    </a:lnTo>
                    <a:lnTo>
                      <a:pt x="275" y="682"/>
                    </a:lnTo>
                    <a:lnTo>
                      <a:pt x="285" y="682"/>
                    </a:lnTo>
                    <a:lnTo>
                      <a:pt x="292" y="682"/>
                    </a:lnTo>
                    <a:lnTo>
                      <a:pt x="302" y="682"/>
                    </a:lnTo>
                    <a:lnTo>
                      <a:pt x="309" y="682"/>
                    </a:lnTo>
                    <a:lnTo>
                      <a:pt x="317" y="682"/>
                    </a:lnTo>
                    <a:lnTo>
                      <a:pt x="321" y="682"/>
                    </a:lnTo>
                    <a:lnTo>
                      <a:pt x="327" y="682"/>
                    </a:lnTo>
                    <a:lnTo>
                      <a:pt x="328" y="682"/>
                    </a:lnTo>
                    <a:lnTo>
                      <a:pt x="330" y="682"/>
                    </a:lnTo>
                    <a:lnTo>
                      <a:pt x="395" y="650"/>
                    </a:lnTo>
                    <a:lnTo>
                      <a:pt x="395" y="646"/>
                    </a:lnTo>
                    <a:lnTo>
                      <a:pt x="399" y="639"/>
                    </a:lnTo>
                    <a:lnTo>
                      <a:pt x="403" y="633"/>
                    </a:lnTo>
                    <a:lnTo>
                      <a:pt x="404" y="629"/>
                    </a:lnTo>
                    <a:lnTo>
                      <a:pt x="408" y="623"/>
                    </a:lnTo>
                    <a:lnTo>
                      <a:pt x="412" y="618"/>
                    </a:lnTo>
                    <a:lnTo>
                      <a:pt x="414" y="612"/>
                    </a:lnTo>
                    <a:lnTo>
                      <a:pt x="418" y="606"/>
                    </a:lnTo>
                    <a:lnTo>
                      <a:pt x="422" y="601"/>
                    </a:lnTo>
                    <a:lnTo>
                      <a:pt x="425" y="597"/>
                    </a:lnTo>
                    <a:lnTo>
                      <a:pt x="431" y="589"/>
                    </a:lnTo>
                    <a:lnTo>
                      <a:pt x="435" y="589"/>
                    </a:lnTo>
                    <a:lnTo>
                      <a:pt x="439" y="591"/>
                    </a:lnTo>
                    <a:lnTo>
                      <a:pt x="446" y="593"/>
                    </a:lnTo>
                    <a:lnTo>
                      <a:pt x="450" y="593"/>
                    </a:lnTo>
                    <a:lnTo>
                      <a:pt x="456" y="593"/>
                    </a:lnTo>
                    <a:lnTo>
                      <a:pt x="462" y="595"/>
                    </a:lnTo>
                    <a:lnTo>
                      <a:pt x="467" y="595"/>
                    </a:lnTo>
                    <a:lnTo>
                      <a:pt x="473" y="595"/>
                    </a:lnTo>
                    <a:lnTo>
                      <a:pt x="477" y="595"/>
                    </a:lnTo>
                    <a:lnTo>
                      <a:pt x="481" y="595"/>
                    </a:lnTo>
                    <a:lnTo>
                      <a:pt x="486" y="595"/>
                    </a:lnTo>
                    <a:lnTo>
                      <a:pt x="494" y="595"/>
                    </a:lnTo>
                    <a:lnTo>
                      <a:pt x="500" y="597"/>
                    </a:lnTo>
                    <a:lnTo>
                      <a:pt x="500" y="595"/>
                    </a:lnTo>
                    <a:lnTo>
                      <a:pt x="503" y="593"/>
                    </a:lnTo>
                    <a:lnTo>
                      <a:pt x="509" y="591"/>
                    </a:lnTo>
                    <a:lnTo>
                      <a:pt x="515" y="587"/>
                    </a:lnTo>
                    <a:lnTo>
                      <a:pt x="520" y="583"/>
                    </a:lnTo>
                    <a:lnTo>
                      <a:pt x="530" y="580"/>
                    </a:lnTo>
                    <a:lnTo>
                      <a:pt x="538" y="576"/>
                    </a:lnTo>
                    <a:lnTo>
                      <a:pt x="547" y="572"/>
                    </a:lnTo>
                    <a:lnTo>
                      <a:pt x="555" y="566"/>
                    </a:lnTo>
                    <a:lnTo>
                      <a:pt x="564" y="561"/>
                    </a:lnTo>
                    <a:lnTo>
                      <a:pt x="572" y="557"/>
                    </a:lnTo>
                    <a:lnTo>
                      <a:pt x="581" y="553"/>
                    </a:lnTo>
                    <a:lnTo>
                      <a:pt x="589" y="549"/>
                    </a:lnTo>
                    <a:lnTo>
                      <a:pt x="596" y="545"/>
                    </a:lnTo>
                    <a:lnTo>
                      <a:pt x="602" y="543"/>
                    </a:lnTo>
                    <a:lnTo>
                      <a:pt x="608" y="543"/>
                    </a:lnTo>
                    <a:lnTo>
                      <a:pt x="617" y="538"/>
                    </a:lnTo>
                    <a:lnTo>
                      <a:pt x="625" y="530"/>
                    </a:lnTo>
                    <a:lnTo>
                      <a:pt x="633" y="523"/>
                    </a:lnTo>
                    <a:lnTo>
                      <a:pt x="642" y="513"/>
                    </a:lnTo>
                    <a:lnTo>
                      <a:pt x="644" y="507"/>
                    </a:lnTo>
                    <a:lnTo>
                      <a:pt x="646" y="502"/>
                    </a:lnTo>
                    <a:lnTo>
                      <a:pt x="650" y="496"/>
                    </a:lnTo>
                    <a:lnTo>
                      <a:pt x="652" y="492"/>
                    </a:lnTo>
                    <a:lnTo>
                      <a:pt x="653" y="485"/>
                    </a:lnTo>
                    <a:lnTo>
                      <a:pt x="655" y="481"/>
                    </a:lnTo>
                    <a:lnTo>
                      <a:pt x="655" y="477"/>
                    </a:lnTo>
                    <a:lnTo>
                      <a:pt x="655" y="473"/>
                    </a:lnTo>
                    <a:lnTo>
                      <a:pt x="655" y="467"/>
                    </a:lnTo>
                    <a:lnTo>
                      <a:pt x="655" y="462"/>
                    </a:lnTo>
                    <a:lnTo>
                      <a:pt x="655" y="456"/>
                    </a:lnTo>
                    <a:lnTo>
                      <a:pt x="655" y="448"/>
                    </a:lnTo>
                    <a:lnTo>
                      <a:pt x="655" y="443"/>
                    </a:lnTo>
                    <a:lnTo>
                      <a:pt x="655" y="435"/>
                    </a:lnTo>
                    <a:lnTo>
                      <a:pt x="653" y="428"/>
                    </a:lnTo>
                    <a:lnTo>
                      <a:pt x="653" y="422"/>
                    </a:lnTo>
                    <a:lnTo>
                      <a:pt x="653" y="414"/>
                    </a:lnTo>
                    <a:lnTo>
                      <a:pt x="653" y="409"/>
                    </a:lnTo>
                    <a:lnTo>
                      <a:pt x="653" y="403"/>
                    </a:lnTo>
                    <a:lnTo>
                      <a:pt x="653" y="399"/>
                    </a:lnTo>
                    <a:lnTo>
                      <a:pt x="653" y="393"/>
                    </a:lnTo>
                    <a:lnTo>
                      <a:pt x="653" y="391"/>
                    </a:lnTo>
                    <a:lnTo>
                      <a:pt x="650" y="388"/>
                    </a:lnTo>
                    <a:lnTo>
                      <a:pt x="648" y="382"/>
                    </a:lnTo>
                    <a:lnTo>
                      <a:pt x="644" y="376"/>
                    </a:lnTo>
                    <a:lnTo>
                      <a:pt x="640" y="369"/>
                    </a:lnTo>
                    <a:lnTo>
                      <a:pt x="634" y="361"/>
                    </a:lnTo>
                    <a:lnTo>
                      <a:pt x="631" y="353"/>
                    </a:lnTo>
                    <a:lnTo>
                      <a:pt x="625" y="344"/>
                    </a:lnTo>
                    <a:lnTo>
                      <a:pt x="621" y="336"/>
                    </a:lnTo>
                    <a:lnTo>
                      <a:pt x="615" y="327"/>
                    </a:lnTo>
                    <a:lnTo>
                      <a:pt x="610" y="319"/>
                    </a:lnTo>
                    <a:lnTo>
                      <a:pt x="606" y="312"/>
                    </a:lnTo>
                    <a:lnTo>
                      <a:pt x="602" y="306"/>
                    </a:lnTo>
                    <a:lnTo>
                      <a:pt x="598" y="300"/>
                    </a:lnTo>
                    <a:lnTo>
                      <a:pt x="596" y="296"/>
                    </a:lnTo>
                    <a:lnTo>
                      <a:pt x="595" y="294"/>
                    </a:lnTo>
                    <a:lnTo>
                      <a:pt x="596" y="296"/>
                    </a:lnTo>
                    <a:lnTo>
                      <a:pt x="593" y="298"/>
                    </a:lnTo>
                    <a:lnTo>
                      <a:pt x="589" y="300"/>
                    </a:lnTo>
                    <a:lnTo>
                      <a:pt x="581" y="300"/>
                    </a:lnTo>
                    <a:lnTo>
                      <a:pt x="574" y="300"/>
                    </a:lnTo>
                    <a:lnTo>
                      <a:pt x="564" y="300"/>
                    </a:lnTo>
                    <a:lnTo>
                      <a:pt x="558" y="300"/>
                    </a:lnTo>
                    <a:lnTo>
                      <a:pt x="553" y="300"/>
                    </a:lnTo>
                    <a:lnTo>
                      <a:pt x="551" y="300"/>
                    </a:lnTo>
                    <a:lnTo>
                      <a:pt x="549" y="298"/>
                    </a:lnTo>
                    <a:lnTo>
                      <a:pt x="547" y="296"/>
                    </a:lnTo>
                    <a:lnTo>
                      <a:pt x="543" y="294"/>
                    </a:lnTo>
                    <a:lnTo>
                      <a:pt x="539" y="293"/>
                    </a:lnTo>
                    <a:lnTo>
                      <a:pt x="532" y="289"/>
                    </a:lnTo>
                    <a:lnTo>
                      <a:pt x="528" y="285"/>
                    </a:lnTo>
                    <a:lnTo>
                      <a:pt x="520" y="281"/>
                    </a:lnTo>
                    <a:lnTo>
                      <a:pt x="515" y="277"/>
                    </a:lnTo>
                    <a:lnTo>
                      <a:pt x="507" y="272"/>
                    </a:lnTo>
                    <a:lnTo>
                      <a:pt x="500" y="268"/>
                    </a:lnTo>
                    <a:lnTo>
                      <a:pt x="494" y="264"/>
                    </a:lnTo>
                    <a:lnTo>
                      <a:pt x="488" y="262"/>
                    </a:lnTo>
                    <a:lnTo>
                      <a:pt x="482" y="258"/>
                    </a:lnTo>
                    <a:lnTo>
                      <a:pt x="479" y="258"/>
                    </a:lnTo>
                    <a:lnTo>
                      <a:pt x="475" y="256"/>
                    </a:lnTo>
                    <a:lnTo>
                      <a:pt x="475" y="258"/>
                    </a:lnTo>
                    <a:lnTo>
                      <a:pt x="471" y="262"/>
                    </a:lnTo>
                    <a:lnTo>
                      <a:pt x="465" y="270"/>
                    </a:lnTo>
                    <a:lnTo>
                      <a:pt x="460" y="274"/>
                    </a:lnTo>
                    <a:lnTo>
                      <a:pt x="456" y="279"/>
                    </a:lnTo>
                    <a:lnTo>
                      <a:pt x="452" y="285"/>
                    </a:lnTo>
                    <a:lnTo>
                      <a:pt x="446" y="291"/>
                    </a:lnTo>
                    <a:lnTo>
                      <a:pt x="437" y="300"/>
                    </a:lnTo>
                    <a:lnTo>
                      <a:pt x="429" y="310"/>
                    </a:lnTo>
                    <a:lnTo>
                      <a:pt x="423" y="315"/>
                    </a:lnTo>
                    <a:lnTo>
                      <a:pt x="422" y="317"/>
                    </a:lnTo>
                    <a:lnTo>
                      <a:pt x="422" y="319"/>
                    </a:lnTo>
                    <a:lnTo>
                      <a:pt x="423" y="325"/>
                    </a:lnTo>
                    <a:lnTo>
                      <a:pt x="423" y="334"/>
                    </a:lnTo>
                    <a:lnTo>
                      <a:pt x="427" y="344"/>
                    </a:lnTo>
                    <a:lnTo>
                      <a:pt x="427" y="350"/>
                    </a:lnTo>
                    <a:lnTo>
                      <a:pt x="429" y="353"/>
                    </a:lnTo>
                    <a:lnTo>
                      <a:pt x="429" y="357"/>
                    </a:lnTo>
                    <a:lnTo>
                      <a:pt x="431" y="363"/>
                    </a:lnTo>
                    <a:lnTo>
                      <a:pt x="431" y="370"/>
                    </a:lnTo>
                    <a:lnTo>
                      <a:pt x="433" y="376"/>
                    </a:lnTo>
                    <a:lnTo>
                      <a:pt x="433" y="380"/>
                    </a:lnTo>
                    <a:lnTo>
                      <a:pt x="435" y="388"/>
                    </a:lnTo>
                    <a:lnTo>
                      <a:pt x="435" y="393"/>
                    </a:lnTo>
                    <a:lnTo>
                      <a:pt x="437" y="399"/>
                    </a:lnTo>
                    <a:lnTo>
                      <a:pt x="437" y="403"/>
                    </a:lnTo>
                    <a:lnTo>
                      <a:pt x="437" y="409"/>
                    </a:lnTo>
                    <a:lnTo>
                      <a:pt x="437" y="416"/>
                    </a:lnTo>
                    <a:lnTo>
                      <a:pt x="435" y="420"/>
                    </a:lnTo>
                    <a:lnTo>
                      <a:pt x="433" y="420"/>
                    </a:lnTo>
                    <a:lnTo>
                      <a:pt x="431" y="418"/>
                    </a:lnTo>
                    <a:lnTo>
                      <a:pt x="427" y="414"/>
                    </a:lnTo>
                    <a:lnTo>
                      <a:pt x="425" y="409"/>
                    </a:lnTo>
                    <a:lnTo>
                      <a:pt x="420" y="399"/>
                    </a:lnTo>
                    <a:lnTo>
                      <a:pt x="418" y="393"/>
                    </a:lnTo>
                    <a:lnTo>
                      <a:pt x="414" y="388"/>
                    </a:lnTo>
                    <a:lnTo>
                      <a:pt x="412" y="384"/>
                    </a:lnTo>
                    <a:lnTo>
                      <a:pt x="408" y="374"/>
                    </a:lnTo>
                    <a:lnTo>
                      <a:pt x="404" y="369"/>
                    </a:lnTo>
                    <a:lnTo>
                      <a:pt x="399" y="363"/>
                    </a:lnTo>
                    <a:lnTo>
                      <a:pt x="395" y="357"/>
                    </a:lnTo>
                    <a:lnTo>
                      <a:pt x="389" y="353"/>
                    </a:lnTo>
                    <a:lnTo>
                      <a:pt x="385" y="351"/>
                    </a:lnTo>
                    <a:lnTo>
                      <a:pt x="378" y="348"/>
                    </a:lnTo>
                    <a:lnTo>
                      <a:pt x="370" y="348"/>
                    </a:lnTo>
                    <a:lnTo>
                      <a:pt x="363" y="344"/>
                    </a:lnTo>
                    <a:lnTo>
                      <a:pt x="355" y="346"/>
                    </a:lnTo>
                    <a:lnTo>
                      <a:pt x="349" y="346"/>
                    </a:lnTo>
                    <a:lnTo>
                      <a:pt x="346" y="350"/>
                    </a:lnTo>
                    <a:lnTo>
                      <a:pt x="342" y="353"/>
                    </a:lnTo>
                    <a:lnTo>
                      <a:pt x="334" y="363"/>
                    </a:lnTo>
                    <a:lnTo>
                      <a:pt x="330" y="367"/>
                    </a:lnTo>
                    <a:lnTo>
                      <a:pt x="327" y="372"/>
                    </a:lnTo>
                    <a:lnTo>
                      <a:pt x="323" y="380"/>
                    </a:lnTo>
                    <a:lnTo>
                      <a:pt x="319" y="386"/>
                    </a:lnTo>
                    <a:lnTo>
                      <a:pt x="315" y="391"/>
                    </a:lnTo>
                    <a:lnTo>
                      <a:pt x="311" y="397"/>
                    </a:lnTo>
                    <a:lnTo>
                      <a:pt x="308" y="401"/>
                    </a:lnTo>
                    <a:lnTo>
                      <a:pt x="306" y="407"/>
                    </a:lnTo>
                    <a:lnTo>
                      <a:pt x="302" y="414"/>
                    </a:lnTo>
                    <a:lnTo>
                      <a:pt x="300" y="416"/>
                    </a:lnTo>
                    <a:lnTo>
                      <a:pt x="298" y="418"/>
                    </a:lnTo>
                    <a:lnTo>
                      <a:pt x="296" y="426"/>
                    </a:lnTo>
                    <a:lnTo>
                      <a:pt x="294" y="429"/>
                    </a:lnTo>
                    <a:lnTo>
                      <a:pt x="292" y="435"/>
                    </a:lnTo>
                    <a:lnTo>
                      <a:pt x="289" y="443"/>
                    </a:lnTo>
                    <a:lnTo>
                      <a:pt x="287" y="448"/>
                    </a:lnTo>
                    <a:lnTo>
                      <a:pt x="285" y="454"/>
                    </a:lnTo>
                    <a:lnTo>
                      <a:pt x="281" y="462"/>
                    </a:lnTo>
                    <a:lnTo>
                      <a:pt x="279" y="467"/>
                    </a:lnTo>
                    <a:lnTo>
                      <a:pt x="275" y="473"/>
                    </a:lnTo>
                    <a:lnTo>
                      <a:pt x="273" y="479"/>
                    </a:lnTo>
                    <a:lnTo>
                      <a:pt x="270" y="483"/>
                    </a:lnTo>
                    <a:lnTo>
                      <a:pt x="268" y="486"/>
                    </a:lnTo>
                    <a:lnTo>
                      <a:pt x="266" y="488"/>
                    </a:lnTo>
                    <a:lnTo>
                      <a:pt x="258" y="490"/>
                    </a:lnTo>
                    <a:lnTo>
                      <a:pt x="252" y="494"/>
                    </a:lnTo>
                    <a:lnTo>
                      <a:pt x="243" y="498"/>
                    </a:lnTo>
                    <a:lnTo>
                      <a:pt x="235" y="504"/>
                    </a:lnTo>
                    <a:lnTo>
                      <a:pt x="228" y="507"/>
                    </a:lnTo>
                    <a:lnTo>
                      <a:pt x="222" y="511"/>
                    </a:lnTo>
                    <a:lnTo>
                      <a:pt x="218" y="513"/>
                    </a:lnTo>
                    <a:lnTo>
                      <a:pt x="218" y="515"/>
                    </a:lnTo>
                    <a:lnTo>
                      <a:pt x="201" y="490"/>
                    </a:lnTo>
                    <a:lnTo>
                      <a:pt x="199" y="490"/>
                    </a:lnTo>
                    <a:lnTo>
                      <a:pt x="195" y="492"/>
                    </a:lnTo>
                    <a:lnTo>
                      <a:pt x="188" y="496"/>
                    </a:lnTo>
                    <a:lnTo>
                      <a:pt x="182" y="500"/>
                    </a:lnTo>
                    <a:lnTo>
                      <a:pt x="175" y="504"/>
                    </a:lnTo>
                    <a:lnTo>
                      <a:pt x="167" y="507"/>
                    </a:lnTo>
                    <a:lnTo>
                      <a:pt x="161" y="511"/>
                    </a:lnTo>
                    <a:lnTo>
                      <a:pt x="159" y="517"/>
                    </a:lnTo>
                    <a:lnTo>
                      <a:pt x="157" y="519"/>
                    </a:lnTo>
                    <a:lnTo>
                      <a:pt x="156" y="526"/>
                    </a:lnTo>
                    <a:lnTo>
                      <a:pt x="152" y="534"/>
                    </a:lnTo>
                    <a:lnTo>
                      <a:pt x="148" y="545"/>
                    </a:lnTo>
                    <a:lnTo>
                      <a:pt x="144" y="553"/>
                    </a:lnTo>
                    <a:lnTo>
                      <a:pt x="142" y="561"/>
                    </a:lnTo>
                    <a:lnTo>
                      <a:pt x="138" y="566"/>
                    </a:lnTo>
                    <a:lnTo>
                      <a:pt x="138" y="568"/>
                    </a:lnTo>
                    <a:lnTo>
                      <a:pt x="137" y="570"/>
                    </a:lnTo>
                    <a:lnTo>
                      <a:pt x="137" y="576"/>
                    </a:lnTo>
                    <a:lnTo>
                      <a:pt x="133" y="583"/>
                    </a:lnTo>
                    <a:lnTo>
                      <a:pt x="131" y="593"/>
                    </a:lnTo>
                    <a:lnTo>
                      <a:pt x="127" y="601"/>
                    </a:lnTo>
                    <a:lnTo>
                      <a:pt x="125" y="606"/>
                    </a:lnTo>
                    <a:lnTo>
                      <a:pt x="123" y="608"/>
                    </a:lnTo>
                    <a:lnTo>
                      <a:pt x="123" y="606"/>
                    </a:lnTo>
                    <a:lnTo>
                      <a:pt x="121" y="599"/>
                    </a:lnTo>
                    <a:lnTo>
                      <a:pt x="118" y="591"/>
                    </a:lnTo>
                    <a:lnTo>
                      <a:pt x="116" y="587"/>
                    </a:lnTo>
                    <a:lnTo>
                      <a:pt x="116" y="583"/>
                    </a:lnTo>
                    <a:lnTo>
                      <a:pt x="114" y="578"/>
                    </a:lnTo>
                    <a:lnTo>
                      <a:pt x="114" y="574"/>
                    </a:lnTo>
                    <a:lnTo>
                      <a:pt x="114" y="568"/>
                    </a:lnTo>
                    <a:lnTo>
                      <a:pt x="116" y="564"/>
                    </a:lnTo>
                    <a:lnTo>
                      <a:pt x="116" y="557"/>
                    </a:lnTo>
                    <a:lnTo>
                      <a:pt x="118" y="549"/>
                    </a:lnTo>
                    <a:lnTo>
                      <a:pt x="119" y="542"/>
                    </a:lnTo>
                    <a:lnTo>
                      <a:pt x="121" y="532"/>
                    </a:lnTo>
                    <a:lnTo>
                      <a:pt x="123" y="523"/>
                    </a:lnTo>
                    <a:lnTo>
                      <a:pt x="125" y="515"/>
                    </a:lnTo>
                    <a:lnTo>
                      <a:pt x="127" y="504"/>
                    </a:lnTo>
                    <a:lnTo>
                      <a:pt x="129" y="496"/>
                    </a:lnTo>
                    <a:lnTo>
                      <a:pt x="131" y="486"/>
                    </a:lnTo>
                    <a:lnTo>
                      <a:pt x="133" y="479"/>
                    </a:lnTo>
                    <a:lnTo>
                      <a:pt x="133" y="471"/>
                    </a:lnTo>
                    <a:lnTo>
                      <a:pt x="135" y="466"/>
                    </a:lnTo>
                    <a:lnTo>
                      <a:pt x="135" y="460"/>
                    </a:lnTo>
                    <a:lnTo>
                      <a:pt x="137" y="458"/>
                    </a:lnTo>
                    <a:lnTo>
                      <a:pt x="135" y="452"/>
                    </a:lnTo>
                    <a:lnTo>
                      <a:pt x="135" y="448"/>
                    </a:lnTo>
                    <a:lnTo>
                      <a:pt x="135" y="441"/>
                    </a:lnTo>
                    <a:lnTo>
                      <a:pt x="135" y="435"/>
                    </a:lnTo>
                    <a:lnTo>
                      <a:pt x="135" y="428"/>
                    </a:lnTo>
                    <a:lnTo>
                      <a:pt x="135" y="420"/>
                    </a:lnTo>
                    <a:lnTo>
                      <a:pt x="135" y="412"/>
                    </a:lnTo>
                    <a:lnTo>
                      <a:pt x="135" y="403"/>
                    </a:lnTo>
                    <a:lnTo>
                      <a:pt x="135" y="393"/>
                    </a:lnTo>
                    <a:lnTo>
                      <a:pt x="135" y="386"/>
                    </a:lnTo>
                    <a:lnTo>
                      <a:pt x="135" y="376"/>
                    </a:lnTo>
                    <a:lnTo>
                      <a:pt x="135" y="370"/>
                    </a:lnTo>
                    <a:lnTo>
                      <a:pt x="135" y="363"/>
                    </a:lnTo>
                    <a:lnTo>
                      <a:pt x="135" y="357"/>
                    </a:lnTo>
                    <a:lnTo>
                      <a:pt x="135" y="353"/>
                    </a:lnTo>
                    <a:lnTo>
                      <a:pt x="137" y="351"/>
                    </a:lnTo>
                    <a:lnTo>
                      <a:pt x="137" y="348"/>
                    </a:lnTo>
                    <a:lnTo>
                      <a:pt x="138" y="342"/>
                    </a:lnTo>
                    <a:lnTo>
                      <a:pt x="140" y="336"/>
                    </a:lnTo>
                    <a:lnTo>
                      <a:pt x="146" y="332"/>
                    </a:lnTo>
                    <a:lnTo>
                      <a:pt x="150" y="325"/>
                    </a:lnTo>
                    <a:lnTo>
                      <a:pt x="156" y="317"/>
                    </a:lnTo>
                    <a:lnTo>
                      <a:pt x="161" y="310"/>
                    </a:lnTo>
                    <a:lnTo>
                      <a:pt x="169" y="302"/>
                    </a:lnTo>
                    <a:lnTo>
                      <a:pt x="175" y="294"/>
                    </a:lnTo>
                    <a:lnTo>
                      <a:pt x="180" y="287"/>
                    </a:lnTo>
                    <a:lnTo>
                      <a:pt x="184" y="279"/>
                    </a:lnTo>
                    <a:lnTo>
                      <a:pt x="190" y="272"/>
                    </a:lnTo>
                    <a:lnTo>
                      <a:pt x="194" y="264"/>
                    </a:lnTo>
                    <a:lnTo>
                      <a:pt x="197" y="258"/>
                    </a:lnTo>
                    <a:lnTo>
                      <a:pt x="199" y="253"/>
                    </a:lnTo>
                    <a:lnTo>
                      <a:pt x="201" y="249"/>
                    </a:lnTo>
                    <a:lnTo>
                      <a:pt x="201" y="243"/>
                    </a:lnTo>
                    <a:lnTo>
                      <a:pt x="201" y="237"/>
                    </a:lnTo>
                    <a:lnTo>
                      <a:pt x="203" y="230"/>
                    </a:lnTo>
                    <a:lnTo>
                      <a:pt x="203" y="224"/>
                    </a:lnTo>
                    <a:lnTo>
                      <a:pt x="203" y="217"/>
                    </a:lnTo>
                    <a:lnTo>
                      <a:pt x="205" y="209"/>
                    </a:lnTo>
                    <a:lnTo>
                      <a:pt x="205" y="201"/>
                    </a:lnTo>
                    <a:lnTo>
                      <a:pt x="207" y="194"/>
                    </a:lnTo>
                    <a:lnTo>
                      <a:pt x="207" y="184"/>
                    </a:lnTo>
                    <a:lnTo>
                      <a:pt x="209" y="177"/>
                    </a:lnTo>
                    <a:lnTo>
                      <a:pt x="209" y="169"/>
                    </a:lnTo>
                    <a:lnTo>
                      <a:pt x="209" y="163"/>
                    </a:lnTo>
                    <a:lnTo>
                      <a:pt x="209" y="158"/>
                    </a:lnTo>
                    <a:lnTo>
                      <a:pt x="209" y="154"/>
                    </a:lnTo>
                    <a:lnTo>
                      <a:pt x="209" y="152"/>
                    </a:lnTo>
                    <a:lnTo>
                      <a:pt x="209" y="150"/>
                    </a:lnTo>
                    <a:lnTo>
                      <a:pt x="203" y="144"/>
                    </a:lnTo>
                    <a:lnTo>
                      <a:pt x="197" y="140"/>
                    </a:lnTo>
                    <a:lnTo>
                      <a:pt x="188" y="137"/>
                    </a:lnTo>
                    <a:lnTo>
                      <a:pt x="180" y="133"/>
                    </a:lnTo>
                    <a:lnTo>
                      <a:pt x="171" y="127"/>
                    </a:lnTo>
                    <a:lnTo>
                      <a:pt x="165" y="125"/>
                    </a:lnTo>
                    <a:lnTo>
                      <a:pt x="159" y="123"/>
                    </a:lnTo>
                    <a:lnTo>
                      <a:pt x="156" y="121"/>
                    </a:lnTo>
                    <a:lnTo>
                      <a:pt x="150" y="121"/>
                    </a:lnTo>
                    <a:lnTo>
                      <a:pt x="140" y="121"/>
                    </a:lnTo>
                    <a:lnTo>
                      <a:pt x="131" y="121"/>
                    </a:lnTo>
                    <a:lnTo>
                      <a:pt x="125" y="121"/>
                    </a:lnTo>
                    <a:lnTo>
                      <a:pt x="119" y="121"/>
                    </a:lnTo>
                    <a:lnTo>
                      <a:pt x="114" y="123"/>
                    </a:lnTo>
                    <a:lnTo>
                      <a:pt x="110" y="125"/>
                    </a:lnTo>
                    <a:lnTo>
                      <a:pt x="102" y="127"/>
                    </a:lnTo>
                    <a:lnTo>
                      <a:pt x="97" y="135"/>
                    </a:lnTo>
                    <a:lnTo>
                      <a:pt x="93" y="139"/>
                    </a:lnTo>
                    <a:lnTo>
                      <a:pt x="91" y="139"/>
                    </a:lnTo>
                    <a:lnTo>
                      <a:pt x="87" y="137"/>
                    </a:lnTo>
                    <a:lnTo>
                      <a:pt x="87" y="135"/>
                    </a:lnTo>
                    <a:lnTo>
                      <a:pt x="85" y="129"/>
                    </a:lnTo>
                    <a:lnTo>
                      <a:pt x="85" y="121"/>
                    </a:lnTo>
                    <a:lnTo>
                      <a:pt x="85" y="114"/>
                    </a:lnTo>
                    <a:lnTo>
                      <a:pt x="89" y="108"/>
                    </a:lnTo>
                    <a:lnTo>
                      <a:pt x="89" y="102"/>
                    </a:lnTo>
                    <a:lnTo>
                      <a:pt x="91" y="97"/>
                    </a:lnTo>
                    <a:lnTo>
                      <a:pt x="95" y="89"/>
                    </a:lnTo>
                    <a:lnTo>
                      <a:pt x="100" y="83"/>
                    </a:lnTo>
                    <a:lnTo>
                      <a:pt x="104" y="74"/>
                    </a:lnTo>
                    <a:lnTo>
                      <a:pt x="110" y="66"/>
                    </a:lnTo>
                    <a:lnTo>
                      <a:pt x="116" y="57"/>
                    </a:lnTo>
                    <a:lnTo>
                      <a:pt x="123" y="49"/>
                    </a:lnTo>
                    <a:lnTo>
                      <a:pt x="129" y="42"/>
                    </a:lnTo>
                    <a:lnTo>
                      <a:pt x="137" y="34"/>
                    </a:lnTo>
                    <a:lnTo>
                      <a:pt x="142" y="26"/>
                    </a:lnTo>
                    <a:lnTo>
                      <a:pt x="148" y="21"/>
                    </a:lnTo>
                    <a:lnTo>
                      <a:pt x="152" y="15"/>
                    </a:lnTo>
                    <a:lnTo>
                      <a:pt x="156" y="11"/>
                    </a:lnTo>
                    <a:lnTo>
                      <a:pt x="157" y="9"/>
                    </a:lnTo>
                    <a:lnTo>
                      <a:pt x="159" y="9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5"/>
              <p:cNvSpPr/>
              <p:nvPr/>
            </p:nvSpPr>
            <p:spPr>
              <a:xfrm>
                <a:off x="4581360" y="5513400"/>
                <a:ext cx="733320" cy="45252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924" h="571">
                    <a:moveTo>
                      <a:pt x="0" y="571"/>
                    </a:moveTo>
                    <a:lnTo>
                      <a:pt x="0" y="569"/>
                    </a:lnTo>
                    <a:lnTo>
                      <a:pt x="0" y="565"/>
                    </a:lnTo>
                    <a:lnTo>
                      <a:pt x="2" y="559"/>
                    </a:lnTo>
                    <a:lnTo>
                      <a:pt x="4" y="552"/>
                    </a:lnTo>
                    <a:lnTo>
                      <a:pt x="4" y="548"/>
                    </a:lnTo>
                    <a:lnTo>
                      <a:pt x="6" y="542"/>
                    </a:lnTo>
                    <a:lnTo>
                      <a:pt x="6" y="538"/>
                    </a:lnTo>
                    <a:lnTo>
                      <a:pt x="8" y="533"/>
                    </a:lnTo>
                    <a:lnTo>
                      <a:pt x="10" y="527"/>
                    </a:lnTo>
                    <a:lnTo>
                      <a:pt x="11" y="523"/>
                    </a:lnTo>
                    <a:lnTo>
                      <a:pt x="11" y="517"/>
                    </a:lnTo>
                    <a:lnTo>
                      <a:pt x="15" y="512"/>
                    </a:lnTo>
                    <a:lnTo>
                      <a:pt x="15" y="508"/>
                    </a:lnTo>
                    <a:lnTo>
                      <a:pt x="17" y="502"/>
                    </a:lnTo>
                    <a:lnTo>
                      <a:pt x="19" y="497"/>
                    </a:lnTo>
                    <a:lnTo>
                      <a:pt x="23" y="491"/>
                    </a:lnTo>
                    <a:lnTo>
                      <a:pt x="25" y="485"/>
                    </a:lnTo>
                    <a:lnTo>
                      <a:pt x="27" y="479"/>
                    </a:lnTo>
                    <a:lnTo>
                      <a:pt x="29" y="474"/>
                    </a:lnTo>
                    <a:lnTo>
                      <a:pt x="30" y="470"/>
                    </a:lnTo>
                    <a:lnTo>
                      <a:pt x="34" y="459"/>
                    </a:lnTo>
                    <a:lnTo>
                      <a:pt x="40" y="451"/>
                    </a:lnTo>
                    <a:lnTo>
                      <a:pt x="46" y="443"/>
                    </a:lnTo>
                    <a:lnTo>
                      <a:pt x="51" y="440"/>
                    </a:lnTo>
                    <a:lnTo>
                      <a:pt x="55" y="436"/>
                    </a:lnTo>
                    <a:lnTo>
                      <a:pt x="61" y="434"/>
                    </a:lnTo>
                    <a:lnTo>
                      <a:pt x="67" y="430"/>
                    </a:lnTo>
                    <a:lnTo>
                      <a:pt x="74" y="428"/>
                    </a:lnTo>
                    <a:lnTo>
                      <a:pt x="80" y="424"/>
                    </a:lnTo>
                    <a:lnTo>
                      <a:pt x="87" y="422"/>
                    </a:lnTo>
                    <a:lnTo>
                      <a:pt x="95" y="420"/>
                    </a:lnTo>
                    <a:lnTo>
                      <a:pt x="103" y="420"/>
                    </a:lnTo>
                    <a:lnTo>
                      <a:pt x="108" y="417"/>
                    </a:lnTo>
                    <a:lnTo>
                      <a:pt x="114" y="417"/>
                    </a:lnTo>
                    <a:lnTo>
                      <a:pt x="120" y="415"/>
                    </a:lnTo>
                    <a:lnTo>
                      <a:pt x="127" y="415"/>
                    </a:lnTo>
                    <a:lnTo>
                      <a:pt x="131" y="415"/>
                    </a:lnTo>
                    <a:lnTo>
                      <a:pt x="137" y="415"/>
                    </a:lnTo>
                    <a:lnTo>
                      <a:pt x="139" y="415"/>
                    </a:lnTo>
                    <a:lnTo>
                      <a:pt x="143" y="415"/>
                    </a:lnTo>
                    <a:lnTo>
                      <a:pt x="148" y="411"/>
                    </a:lnTo>
                    <a:lnTo>
                      <a:pt x="154" y="405"/>
                    </a:lnTo>
                    <a:lnTo>
                      <a:pt x="158" y="400"/>
                    </a:lnTo>
                    <a:lnTo>
                      <a:pt x="163" y="394"/>
                    </a:lnTo>
                    <a:lnTo>
                      <a:pt x="169" y="388"/>
                    </a:lnTo>
                    <a:lnTo>
                      <a:pt x="175" y="384"/>
                    </a:lnTo>
                    <a:lnTo>
                      <a:pt x="179" y="377"/>
                    </a:lnTo>
                    <a:lnTo>
                      <a:pt x="182" y="371"/>
                    </a:lnTo>
                    <a:lnTo>
                      <a:pt x="186" y="367"/>
                    </a:lnTo>
                    <a:lnTo>
                      <a:pt x="192" y="363"/>
                    </a:lnTo>
                    <a:lnTo>
                      <a:pt x="198" y="356"/>
                    </a:lnTo>
                    <a:lnTo>
                      <a:pt x="200" y="354"/>
                    </a:lnTo>
                    <a:lnTo>
                      <a:pt x="300" y="308"/>
                    </a:lnTo>
                    <a:lnTo>
                      <a:pt x="302" y="306"/>
                    </a:lnTo>
                    <a:lnTo>
                      <a:pt x="310" y="301"/>
                    </a:lnTo>
                    <a:lnTo>
                      <a:pt x="315" y="295"/>
                    </a:lnTo>
                    <a:lnTo>
                      <a:pt x="321" y="291"/>
                    </a:lnTo>
                    <a:lnTo>
                      <a:pt x="329" y="286"/>
                    </a:lnTo>
                    <a:lnTo>
                      <a:pt x="336" y="280"/>
                    </a:lnTo>
                    <a:lnTo>
                      <a:pt x="342" y="274"/>
                    </a:lnTo>
                    <a:lnTo>
                      <a:pt x="350" y="267"/>
                    </a:lnTo>
                    <a:lnTo>
                      <a:pt x="357" y="261"/>
                    </a:lnTo>
                    <a:lnTo>
                      <a:pt x="365" y="255"/>
                    </a:lnTo>
                    <a:lnTo>
                      <a:pt x="371" y="247"/>
                    </a:lnTo>
                    <a:lnTo>
                      <a:pt x="376" y="242"/>
                    </a:lnTo>
                    <a:lnTo>
                      <a:pt x="380" y="236"/>
                    </a:lnTo>
                    <a:lnTo>
                      <a:pt x="386" y="232"/>
                    </a:lnTo>
                    <a:lnTo>
                      <a:pt x="388" y="227"/>
                    </a:lnTo>
                    <a:lnTo>
                      <a:pt x="392" y="219"/>
                    </a:lnTo>
                    <a:lnTo>
                      <a:pt x="395" y="209"/>
                    </a:lnTo>
                    <a:lnTo>
                      <a:pt x="401" y="202"/>
                    </a:lnTo>
                    <a:lnTo>
                      <a:pt x="403" y="196"/>
                    </a:lnTo>
                    <a:lnTo>
                      <a:pt x="405" y="190"/>
                    </a:lnTo>
                    <a:lnTo>
                      <a:pt x="407" y="185"/>
                    </a:lnTo>
                    <a:lnTo>
                      <a:pt x="411" y="179"/>
                    </a:lnTo>
                    <a:lnTo>
                      <a:pt x="412" y="173"/>
                    </a:lnTo>
                    <a:lnTo>
                      <a:pt x="416" y="170"/>
                    </a:lnTo>
                    <a:lnTo>
                      <a:pt x="418" y="164"/>
                    </a:lnTo>
                    <a:lnTo>
                      <a:pt x="422" y="160"/>
                    </a:lnTo>
                    <a:lnTo>
                      <a:pt x="424" y="154"/>
                    </a:lnTo>
                    <a:lnTo>
                      <a:pt x="426" y="149"/>
                    </a:lnTo>
                    <a:lnTo>
                      <a:pt x="428" y="143"/>
                    </a:lnTo>
                    <a:lnTo>
                      <a:pt x="431" y="137"/>
                    </a:lnTo>
                    <a:lnTo>
                      <a:pt x="435" y="128"/>
                    </a:lnTo>
                    <a:lnTo>
                      <a:pt x="441" y="120"/>
                    </a:lnTo>
                    <a:lnTo>
                      <a:pt x="445" y="113"/>
                    </a:lnTo>
                    <a:lnTo>
                      <a:pt x="449" y="107"/>
                    </a:lnTo>
                    <a:lnTo>
                      <a:pt x="450" y="103"/>
                    </a:lnTo>
                    <a:lnTo>
                      <a:pt x="454" y="103"/>
                    </a:lnTo>
                    <a:lnTo>
                      <a:pt x="458" y="99"/>
                    </a:lnTo>
                    <a:lnTo>
                      <a:pt x="468" y="95"/>
                    </a:lnTo>
                    <a:lnTo>
                      <a:pt x="469" y="92"/>
                    </a:lnTo>
                    <a:lnTo>
                      <a:pt x="475" y="88"/>
                    </a:lnTo>
                    <a:lnTo>
                      <a:pt x="481" y="84"/>
                    </a:lnTo>
                    <a:lnTo>
                      <a:pt x="487" y="82"/>
                    </a:lnTo>
                    <a:lnTo>
                      <a:pt x="494" y="73"/>
                    </a:lnTo>
                    <a:lnTo>
                      <a:pt x="502" y="67"/>
                    </a:lnTo>
                    <a:lnTo>
                      <a:pt x="507" y="63"/>
                    </a:lnTo>
                    <a:lnTo>
                      <a:pt x="511" y="61"/>
                    </a:lnTo>
                    <a:lnTo>
                      <a:pt x="515" y="61"/>
                    </a:lnTo>
                    <a:lnTo>
                      <a:pt x="521" y="61"/>
                    </a:lnTo>
                    <a:lnTo>
                      <a:pt x="526" y="61"/>
                    </a:lnTo>
                    <a:lnTo>
                      <a:pt x="530" y="59"/>
                    </a:lnTo>
                    <a:lnTo>
                      <a:pt x="536" y="59"/>
                    </a:lnTo>
                    <a:lnTo>
                      <a:pt x="540" y="59"/>
                    </a:lnTo>
                    <a:lnTo>
                      <a:pt x="545" y="59"/>
                    </a:lnTo>
                    <a:lnTo>
                      <a:pt x="551" y="59"/>
                    </a:lnTo>
                    <a:lnTo>
                      <a:pt x="557" y="59"/>
                    </a:lnTo>
                    <a:lnTo>
                      <a:pt x="563" y="59"/>
                    </a:lnTo>
                    <a:lnTo>
                      <a:pt x="568" y="59"/>
                    </a:lnTo>
                    <a:lnTo>
                      <a:pt x="574" y="59"/>
                    </a:lnTo>
                    <a:lnTo>
                      <a:pt x="580" y="59"/>
                    </a:lnTo>
                    <a:lnTo>
                      <a:pt x="585" y="57"/>
                    </a:lnTo>
                    <a:lnTo>
                      <a:pt x="591" y="57"/>
                    </a:lnTo>
                    <a:lnTo>
                      <a:pt x="597" y="57"/>
                    </a:lnTo>
                    <a:lnTo>
                      <a:pt x="602" y="57"/>
                    </a:lnTo>
                    <a:lnTo>
                      <a:pt x="608" y="57"/>
                    </a:lnTo>
                    <a:lnTo>
                      <a:pt x="614" y="57"/>
                    </a:lnTo>
                    <a:lnTo>
                      <a:pt x="623" y="55"/>
                    </a:lnTo>
                    <a:lnTo>
                      <a:pt x="633" y="55"/>
                    </a:lnTo>
                    <a:lnTo>
                      <a:pt x="639" y="54"/>
                    </a:lnTo>
                    <a:lnTo>
                      <a:pt x="646" y="54"/>
                    </a:lnTo>
                    <a:lnTo>
                      <a:pt x="648" y="50"/>
                    </a:lnTo>
                    <a:lnTo>
                      <a:pt x="656" y="50"/>
                    </a:lnTo>
                    <a:lnTo>
                      <a:pt x="661" y="46"/>
                    </a:lnTo>
                    <a:lnTo>
                      <a:pt x="669" y="46"/>
                    </a:lnTo>
                    <a:lnTo>
                      <a:pt x="675" y="44"/>
                    </a:lnTo>
                    <a:lnTo>
                      <a:pt x="684" y="42"/>
                    </a:lnTo>
                    <a:lnTo>
                      <a:pt x="692" y="40"/>
                    </a:lnTo>
                    <a:lnTo>
                      <a:pt x="699" y="40"/>
                    </a:lnTo>
                    <a:lnTo>
                      <a:pt x="707" y="38"/>
                    </a:lnTo>
                    <a:lnTo>
                      <a:pt x="715" y="36"/>
                    </a:lnTo>
                    <a:lnTo>
                      <a:pt x="720" y="36"/>
                    </a:lnTo>
                    <a:lnTo>
                      <a:pt x="728" y="36"/>
                    </a:lnTo>
                    <a:lnTo>
                      <a:pt x="734" y="35"/>
                    </a:lnTo>
                    <a:lnTo>
                      <a:pt x="739" y="35"/>
                    </a:lnTo>
                    <a:lnTo>
                      <a:pt x="743" y="35"/>
                    </a:lnTo>
                    <a:lnTo>
                      <a:pt x="747" y="35"/>
                    </a:lnTo>
                    <a:lnTo>
                      <a:pt x="751" y="33"/>
                    </a:lnTo>
                    <a:lnTo>
                      <a:pt x="760" y="29"/>
                    </a:lnTo>
                    <a:lnTo>
                      <a:pt x="764" y="25"/>
                    </a:lnTo>
                    <a:lnTo>
                      <a:pt x="770" y="21"/>
                    </a:lnTo>
                    <a:lnTo>
                      <a:pt x="775" y="17"/>
                    </a:lnTo>
                    <a:lnTo>
                      <a:pt x="781" y="16"/>
                    </a:lnTo>
                    <a:lnTo>
                      <a:pt x="785" y="12"/>
                    </a:lnTo>
                    <a:lnTo>
                      <a:pt x="791" y="8"/>
                    </a:lnTo>
                    <a:lnTo>
                      <a:pt x="794" y="4"/>
                    </a:lnTo>
                    <a:lnTo>
                      <a:pt x="800" y="2"/>
                    </a:lnTo>
                    <a:lnTo>
                      <a:pt x="808" y="0"/>
                    </a:lnTo>
                    <a:lnTo>
                      <a:pt x="813" y="2"/>
                    </a:lnTo>
                    <a:lnTo>
                      <a:pt x="815" y="4"/>
                    </a:lnTo>
                    <a:lnTo>
                      <a:pt x="821" y="6"/>
                    </a:lnTo>
                    <a:lnTo>
                      <a:pt x="827" y="8"/>
                    </a:lnTo>
                    <a:lnTo>
                      <a:pt x="834" y="12"/>
                    </a:lnTo>
                    <a:lnTo>
                      <a:pt x="842" y="14"/>
                    </a:lnTo>
                    <a:lnTo>
                      <a:pt x="851" y="16"/>
                    </a:lnTo>
                    <a:lnTo>
                      <a:pt x="855" y="16"/>
                    </a:lnTo>
                    <a:lnTo>
                      <a:pt x="861" y="17"/>
                    </a:lnTo>
                    <a:lnTo>
                      <a:pt x="867" y="19"/>
                    </a:lnTo>
                    <a:lnTo>
                      <a:pt x="872" y="21"/>
                    </a:lnTo>
                    <a:lnTo>
                      <a:pt x="882" y="21"/>
                    </a:lnTo>
                    <a:lnTo>
                      <a:pt x="891" y="23"/>
                    </a:lnTo>
                    <a:lnTo>
                      <a:pt x="899" y="25"/>
                    </a:lnTo>
                    <a:lnTo>
                      <a:pt x="907" y="27"/>
                    </a:lnTo>
                    <a:lnTo>
                      <a:pt x="912" y="29"/>
                    </a:lnTo>
                    <a:lnTo>
                      <a:pt x="918" y="29"/>
                    </a:lnTo>
                    <a:lnTo>
                      <a:pt x="922" y="29"/>
                    </a:lnTo>
                    <a:lnTo>
                      <a:pt x="924" y="31"/>
                    </a:lnTo>
                    <a:lnTo>
                      <a:pt x="895" y="103"/>
                    </a:lnTo>
                    <a:lnTo>
                      <a:pt x="893" y="103"/>
                    </a:lnTo>
                    <a:lnTo>
                      <a:pt x="891" y="101"/>
                    </a:lnTo>
                    <a:lnTo>
                      <a:pt x="886" y="99"/>
                    </a:lnTo>
                    <a:lnTo>
                      <a:pt x="880" y="99"/>
                    </a:lnTo>
                    <a:lnTo>
                      <a:pt x="872" y="99"/>
                    </a:lnTo>
                    <a:lnTo>
                      <a:pt x="865" y="97"/>
                    </a:lnTo>
                    <a:lnTo>
                      <a:pt x="855" y="95"/>
                    </a:lnTo>
                    <a:lnTo>
                      <a:pt x="846" y="95"/>
                    </a:lnTo>
                    <a:lnTo>
                      <a:pt x="836" y="94"/>
                    </a:lnTo>
                    <a:lnTo>
                      <a:pt x="829" y="94"/>
                    </a:lnTo>
                    <a:lnTo>
                      <a:pt x="819" y="92"/>
                    </a:lnTo>
                    <a:lnTo>
                      <a:pt x="813" y="92"/>
                    </a:lnTo>
                    <a:lnTo>
                      <a:pt x="806" y="92"/>
                    </a:lnTo>
                    <a:lnTo>
                      <a:pt x="800" y="92"/>
                    </a:lnTo>
                    <a:lnTo>
                      <a:pt x="796" y="92"/>
                    </a:lnTo>
                    <a:lnTo>
                      <a:pt x="796" y="95"/>
                    </a:lnTo>
                    <a:lnTo>
                      <a:pt x="794" y="95"/>
                    </a:lnTo>
                    <a:lnTo>
                      <a:pt x="791" y="97"/>
                    </a:lnTo>
                    <a:lnTo>
                      <a:pt x="785" y="97"/>
                    </a:lnTo>
                    <a:lnTo>
                      <a:pt x="781" y="99"/>
                    </a:lnTo>
                    <a:lnTo>
                      <a:pt x="772" y="99"/>
                    </a:lnTo>
                    <a:lnTo>
                      <a:pt x="766" y="103"/>
                    </a:lnTo>
                    <a:lnTo>
                      <a:pt x="756" y="103"/>
                    </a:lnTo>
                    <a:lnTo>
                      <a:pt x="749" y="107"/>
                    </a:lnTo>
                    <a:lnTo>
                      <a:pt x="739" y="107"/>
                    </a:lnTo>
                    <a:lnTo>
                      <a:pt x="730" y="109"/>
                    </a:lnTo>
                    <a:lnTo>
                      <a:pt x="722" y="111"/>
                    </a:lnTo>
                    <a:lnTo>
                      <a:pt x="715" y="113"/>
                    </a:lnTo>
                    <a:lnTo>
                      <a:pt x="707" y="113"/>
                    </a:lnTo>
                    <a:lnTo>
                      <a:pt x="703" y="114"/>
                    </a:lnTo>
                    <a:lnTo>
                      <a:pt x="697" y="114"/>
                    </a:lnTo>
                    <a:lnTo>
                      <a:pt x="696" y="116"/>
                    </a:lnTo>
                    <a:lnTo>
                      <a:pt x="692" y="116"/>
                    </a:lnTo>
                    <a:lnTo>
                      <a:pt x="688" y="116"/>
                    </a:lnTo>
                    <a:lnTo>
                      <a:pt x="682" y="118"/>
                    </a:lnTo>
                    <a:lnTo>
                      <a:pt x="675" y="120"/>
                    </a:lnTo>
                    <a:lnTo>
                      <a:pt x="665" y="122"/>
                    </a:lnTo>
                    <a:lnTo>
                      <a:pt x="656" y="124"/>
                    </a:lnTo>
                    <a:lnTo>
                      <a:pt x="648" y="126"/>
                    </a:lnTo>
                    <a:lnTo>
                      <a:pt x="639" y="130"/>
                    </a:lnTo>
                    <a:lnTo>
                      <a:pt x="633" y="130"/>
                    </a:lnTo>
                    <a:lnTo>
                      <a:pt x="627" y="132"/>
                    </a:lnTo>
                    <a:lnTo>
                      <a:pt x="621" y="132"/>
                    </a:lnTo>
                    <a:lnTo>
                      <a:pt x="618" y="133"/>
                    </a:lnTo>
                    <a:lnTo>
                      <a:pt x="608" y="135"/>
                    </a:lnTo>
                    <a:lnTo>
                      <a:pt x="599" y="137"/>
                    </a:lnTo>
                    <a:lnTo>
                      <a:pt x="591" y="139"/>
                    </a:lnTo>
                    <a:lnTo>
                      <a:pt x="585" y="139"/>
                    </a:lnTo>
                    <a:lnTo>
                      <a:pt x="580" y="139"/>
                    </a:lnTo>
                    <a:lnTo>
                      <a:pt x="578" y="141"/>
                    </a:lnTo>
                    <a:lnTo>
                      <a:pt x="572" y="141"/>
                    </a:lnTo>
                    <a:lnTo>
                      <a:pt x="563" y="143"/>
                    </a:lnTo>
                    <a:lnTo>
                      <a:pt x="557" y="143"/>
                    </a:lnTo>
                    <a:lnTo>
                      <a:pt x="551" y="145"/>
                    </a:lnTo>
                    <a:lnTo>
                      <a:pt x="545" y="145"/>
                    </a:lnTo>
                    <a:lnTo>
                      <a:pt x="542" y="147"/>
                    </a:lnTo>
                    <a:lnTo>
                      <a:pt x="536" y="149"/>
                    </a:lnTo>
                    <a:lnTo>
                      <a:pt x="530" y="151"/>
                    </a:lnTo>
                    <a:lnTo>
                      <a:pt x="526" y="151"/>
                    </a:lnTo>
                    <a:lnTo>
                      <a:pt x="521" y="152"/>
                    </a:lnTo>
                    <a:lnTo>
                      <a:pt x="517" y="156"/>
                    </a:lnTo>
                    <a:lnTo>
                      <a:pt x="515" y="160"/>
                    </a:lnTo>
                    <a:lnTo>
                      <a:pt x="511" y="164"/>
                    </a:lnTo>
                    <a:lnTo>
                      <a:pt x="506" y="171"/>
                    </a:lnTo>
                    <a:lnTo>
                      <a:pt x="500" y="175"/>
                    </a:lnTo>
                    <a:lnTo>
                      <a:pt x="496" y="181"/>
                    </a:lnTo>
                    <a:lnTo>
                      <a:pt x="492" y="187"/>
                    </a:lnTo>
                    <a:lnTo>
                      <a:pt x="487" y="192"/>
                    </a:lnTo>
                    <a:lnTo>
                      <a:pt x="481" y="198"/>
                    </a:lnTo>
                    <a:lnTo>
                      <a:pt x="477" y="204"/>
                    </a:lnTo>
                    <a:lnTo>
                      <a:pt x="471" y="209"/>
                    </a:lnTo>
                    <a:lnTo>
                      <a:pt x="468" y="215"/>
                    </a:lnTo>
                    <a:lnTo>
                      <a:pt x="464" y="221"/>
                    </a:lnTo>
                    <a:lnTo>
                      <a:pt x="462" y="227"/>
                    </a:lnTo>
                    <a:lnTo>
                      <a:pt x="460" y="230"/>
                    </a:lnTo>
                    <a:lnTo>
                      <a:pt x="460" y="236"/>
                    </a:lnTo>
                    <a:lnTo>
                      <a:pt x="458" y="238"/>
                    </a:lnTo>
                    <a:lnTo>
                      <a:pt x="456" y="244"/>
                    </a:lnTo>
                    <a:lnTo>
                      <a:pt x="452" y="247"/>
                    </a:lnTo>
                    <a:lnTo>
                      <a:pt x="450" y="255"/>
                    </a:lnTo>
                    <a:lnTo>
                      <a:pt x="445" y="261"/>
                    </a:lnTo>
                    <a:lnTo>
                      <a:pt x="439" y="267"/>
                    </a:lnTo>
                    <a:lnTo>
                      <a:pt x="433" y="272"/>
                    </a:lnTo>
                    <a:lnTo>
                      <a:pt x="430" y="280"/>
                    </a:lnTo>
                    <a:lnTo>
                      <a:pt x="422" y="286"/>
                    </a:lnTo>
                    <a:lnTo>
                      <a:pt x="416" y="291"/>
                    </a:lnTo>
                    <a:lnTo>
                      <a:pt x="411" y="297"/>
                    </a:lnTo>
                    <a:lnTo>
                      <a:pt x="407" y="303"/>
                    </a:lnTo>
                    <a:lnTo>
                      <a:pt x="403" y="306"/>
                    </a:lnTo>
                    <a:lnTo>
                      <a:pt x="399" y="310"/>
                    </a:lnTo>
                    <a:lnTo>
                      <a:pt x="397" y="314"/>
                    </a:lnTo>
                    <a:lnTo>
                      <a:pt x="397" y="318"/>
                    </a:lnTo>
                    <a:lnTo>
                      <a:pt x="395" y="322"/>
                    </a:lnTo>
                    <a:lnTo>
                      <a:pt x="390" y="324"/>
                    </a:lnTo>
                    <a:lnTo>
                      <a:pt x="386" y="327"/>
                    </a:lnTo>
                    <a:lnTo>
                      <a:pt x="378" y="329"/>
                    </a:lnTo>
                    <a:lnTo>
                      <a:pt x="373" y="333"/>
                    </a:lnTo>
                    <a:lnTo>
                      <a:pt x="365" y="337"/>
                    </a:lnTo>
                    <a:lnTo>
                      <a:pt x="357" y="341"/>
                    </a:lnTo>
                    <a:lnTo>
                      <a:pt x="348" y="344"/>
                    </a:lnTo>
                    <a:lnTo>
                      <a:pt x="340" y="348"/>
                    </a:lnTo>
                    <a:lnTo>
                      <a:pt x="334" y="352"/>
                    </a:lnTo>
                    <a:lnTo>
                      <a:pt x="329" y="356"/>
                    </a:lnTo>
                    <a:lnTo>
                      <a:pt x="323" y="360"/>
                    </a:lnTo>
                    <a:lnTo>
                      <a:pt x="319" y="363"/>
                    </a:lnTo>
                    <a:lnTo>
                      <a:pt x="315" y="367"/>
                    </a:lnTo>
                    <a:lnTo>
                      <a:pt x="315" y="369"/>
                    </a:lnTo>
                    <a:lnTo>
                      <a:pt x="312" y="375"/>
                    </a:lnTo>
                    <a:lnTo>
                      <a:pt x="302" y="379"/>
                    </a:lnTo>
                    <a:lnTo>
                      <a:pt x="296" y="381"/>
                    </a:lnTo>
                    <a:lnTo>
                      <a:pt x="291" y="384"/>
                    </a:lnTo>
                    <a:lnTo>
                      <a:pt x="283" y="386"/>
                    </a:lnTo>
                    <a:lnTo>
                      <a:pt x="277" y="390"/>
                    </a:lnTo>
                    <a:lnTo>
                      <a:pt x="272" y="392"/>
                    </a:lnTo>
                    <a:lnTo>
                      <a:pt x="264" y="394"/>
                    </a:lnTo>
                    <a:lnTo>
                      <a:pt x="258" y="396"/>
                    </a:lnTo>
                    <a:lnTo>
                      <a:pt x="255" y="398"/>
                    </a:lnTo>
                    <a:lnTo>
                      <a:pt x="245" y="400"/>
                    </a:lnTo>
                    <a:lnTo>
                      <a:pt x="243" y="401"/>
                    </a:lnTo>
                    <a:lnTo>
                      <a:pt x="243" y="403"/>
                    </a:lnTo>
                    <a:lnTo>
                      <a:pt x="245" y="407"/>
                    </a:lnTo>
                    <a:lnTo>
                      <a:pt x="245" y="411"/>
                    </a:lnTo>
                    <a:lnTo>
                      <a:pt x="245" y="415"/>
                    </a:lnTo>
                    <a:lnTo>
                      <a:pt x="245" y="420"/>
                    </a:lnTo>
                    <a:lnTo>
                      <a:pt x="245" y="426"/>
                    </a:lnTo>
                    <a:lnTo>
                      <a:pt x="245" y="436"/>
                    </a:lnTo>
                    <a:lnTo>
                      <a:pt x="243" y="445"/>
                    </a:lnTo>
                    <a:lnTo>
                      <a:pt x="239" y="453"/>
                    </a:lnTo>
                    <a:lnTo>
                      <a:pt x="234" y="460"/>
                    </a:lnTo>
                    <a:lnTo>
                      <a:pt x="230" y="460"/>
                    </a:lnTo>
                    <a:lnTo>
                      <a:pt x="226" y="462"/>
                    </a:lnTo>
                    <a:lnTo>
                      <a:pt x="220" y="464"/>
                    </a:lnTo>
                    <a:lnTo>
                      <a:pt x="217" y="466"/>
                    </a:lnTo>
                    <a:lnTo>
                      <a:pt x="211" y="468"/>
                    </a:lnTo>
                    <a:lnTo>
                      <a:pt x="205" y="470"/>
                    </a:lnTo>
                    <a:lnTo>
                      <a:pt x="200" y="472"/>
                    </a:lnTo>
                    <a:lnTo>
                      <a:pt x="194" y="474"/>
                    </a:lnTo>
                    <a:lnTo>
                      <a:pt x="188" y="474"/>
                    </a:lnTo>
                    <a:lnTo>
                      <a:pt x="182" y="474"/>
                    </a:lnTo>
                    <a:lnTo>
                      <a:pt x="177" y="476"/>
                    </a:lnTo>
                    <a:lnTo>
                      <a:pt x="173" y="476"/>
                    </a:lnTo>
                    <a:lnTo>
                      <a:pt x="167" y="478"/>
                    </a:lnTo>
                    <a:lnTo>
                      <a:pt x="165" y="478"/>
                    </a:lnTo>
                    <a:lnTo>
                      <a:pt x="110" y="491"/>
                    </a:lnTo>
                    <a:lnTo>
                      <a:pt x="78" y="550"/>
                    </a:lnTo>
                    <a:lnTo>
                      <a:pt x="0" y="5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6"/>
              <p:cNvSpPr/>
              <p:nvPr/>
            </p:nvSpPr>
            <p:spPr>
              <a:xfrm>
                <a:off x="3830400" y="4513320"/>
                <a:ext cx="530280" cy="82872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828720"/>
                  <a:gd name="textAreaBottom" fmla="*/ 829080 h 828720"/>
                </a:gdLst>
                <a:ahLst/>
                <a:rect l="textAreaLeft" t="textAreaTop" r="textAreaRight" b="textAreaBottom"/>
                <a:pathLst>
                  <a:path w="669" h="1044">
                    <a:moveTo>
                      <a:pt x="298" y="70"/>
                    </a:moveTo>
                    <a:lnTo>
                      <a:pt x="298" y="72"/>
                    </a:lnTo>
                    <a:lnTo>
                      <a:pt x="298" y="76"/>
                    </a:lnTo>
                    <a:lnTo>
                      <a:pt x="298" y="82"/>
                    </a:lnTo>
                    <a:lnTo>
                      <a:pt x="298" y="87"/>
                    </a:lnTo>
                    <a:lnTo>
                      <a:pt x="298" y="95"/>
                    </a:lnTo>
                    <a:lnTo>
                      <a:pt x="300" y="103"/>
                    </a:lnTo>
                    <a:lnTo>
                      <a:pt x="300" y="112"/>
                    </a:lnTo>
                    <a:lnTo>
                      <a:pt x="300" y="120"/>
                    </a:lnTo>
                    <a:lnTo>
                      <a:pt x="302" y="127"/>
                    </a:lnTo>
                    <a:lnTo>
                      <a:pt x="304" y="135"/>
                    </a:lnTo>
                    <a:lnTo>
                      <a:pt x="306" y="144"/>
                    </a:lnTo>
                    <a:lnTo>
                      <a:pt x="306" y="148"/>
                    </a:lnTo>
                    <a:lnTo>
                      <a:pt x="307" y="156"/>
                    </a:lnTo>
                    <a:lnTo>
                      <a:pt x="309" y="160"/>
                    </a:lnTo>
                    <a:lnTo>
                      <a:pt x="313" y="163"/>
                    </a:lnTo>
                    <a:lnTo>
                      <a:pt x="317" y="167"/>
                    </a:lnTo>
                    <a:lnTo>
                      <a:pt x="323" y="173"/>
                    </a:lnTo>
                    <a:lnTo>
                      <a:pt x="330" y="177"/>
                    </a:lnTo>
                    <a:lnTo>
                      <a:pt x="338" y="182"/>
                    </a:lnTo>
                    <a:lnTo>
                      <a:pt x="344" y="184"/>
                    </a:lnTo>
                    <a:lnTo>
                      <a:pt x="349" y="188"/>
                    </a:lnTo>
                    <a:lnTo>
                      <a:pt x="353" y="190"/>
                    </a:lnTo>
                    <a:lnTo>
                      <a:pt x="355" y="192"/>
                    </a:lnTo>
                    <a:lnTo>
                      <a:pt x="412" y="177"/>
                    </a:lnTo>
                    <a:lnTo>
                      <a:pt x="414" y="177"/>
                    </a:lnTo>
                    <a:lnTo>
                      <a:pt x="418" y="179"/>
                    </a:lnTo>
                    <a:lnTo>
                      <a:pt x="423" y="181"/>
                    </a:lnTo>
                    <a:lnTo>
                      <a:pt x="429" y="182"/>
                    </a:lnTo>
                    <a:lnTo>
                      <a:pt x="435" y="186"/>
                    </a:lnTo>
                    <a:lnTo>
                      <a:pt x="442" y="188"/>
                    </a:lnTo>
                    <a:lnTo>
                      <a:pt x="452" y="192"/>
                    </a:lnTo>
                    <a:lnTo>
                      <a:pt x="459" y="196"/>
                    </a:lnTo>
                    <a:lnTo>
                      <a:pt x="467" y="198"/>
                    </a:lnTo>
                    <a:lnTo>
                      <a:pt x="473" y="201"/>
                    </a:lnTo>
                    <a:lnTo>
                      <a:pt x="480" y="205"/>
                    </a:lnTo>
                    <a:lnTo>
                      <a:pt x="484" y="207"/>
                    </a:lnTo>
                    <a:lnTo>
                      <a:pt x="490" y="209"/>
                    </a:lnTo>
                    <a:lnTo>
                      <a:pt x="494" y="211"/>
                    </a:lnTo>
                    <a:lnTo>
                      <a:pt x="498" y="213"/>
                    </a:lnTo>
                    <a:lnTo>
                      <a:pt x="503" y="213"/>
                    </a:lnTo>
                    <a:lnTo>
                      <a:pt x="511" y="213"/>
                    </a:lnTo>
                    <a:lnTo>
                      <a:pt x="517" y="213"/>
                    </a:lnTo>
                    <a:lnTo>
                      <a:pt x="520" y="215"/>
                    </a:lnTo>
                    <a:lnTo>
                      <a:pt x="526" y="215"/>
                    </a:lnTo>
                    <a:lnTo>
                      <a:pt x="532" y="217"/>
                    </a:lnTo>
                    <a:lnTo>
                      <a:pt x="537" y="217"/>
                    </a:lnTo>
                    <a:lnTo>
                      <a:pt x="541" y="219"/>
                    </a:lnTo>
                    <a:lnTo>
                      <a:pt x="547" y="219"/>
                    </a:lnTo>
                    <a:lnTo>
                      <a:pt x="551" y="220"/>
                    </a:lnTo>
                    <a:lnTo>
                      <a:pt x="558" y="220"/>
                    </a:lnTo>
                    <a:lnTo>
                      <a:pt x="564" y="222"/>
                    </a:lnTo>
                    <a:lnTo>
                      <a:pt x="568" y="220"/>
                    </a:lnTo>
                    <a:lnTo>
                      <a:pt x="574" y="220"/>
                    </a:lnTo>
                    <a:lnTo>
                      <a:pt x="581" y="220"/>
                    </a:lnTo>
                    <a:lnTo>
                      <a:pt x="589" y="220"/>
                    </a:lnTo>
                    <a:lnTo>
                      <a:pt x="594" y="220"/>
                    </a:lnTo>
                    <a:lnTo>
                      <a:pt x="602" y="220"/>
                    </a:lnTo>
                    <a:lnTo>
                      <a:pt x="606" y="220"/>
                    </a:lnTo>
                    <a:lnTo>
                      <a:pt x="608" y="220"/>
                    </a:lnTo>
                    <a:lnTo>
                      <a:pt x="608" y="222"/>
                    </a:lnTo>
                    <a:lnTo>
                      <a:pt x="608" y="230"/>
                    </a:lnTo>
                    <a:lnTo>
                      <a:pt x="606" y="238"/>
                    </a:lnTo>
                    <a:lnTo>
                      <a:pt x="602" y="245"/>
                    </a:lnTo>
                    <a:lnTo>
                      <a:pt x="598" y="245"/>
                    </a:lnTo>
                    <a:lnTo>
                      <a:pt x="593" y="247"/>
                    </a:lnTo>
                    <a:lnTo>
                      <a:pt x="587" y="249"/>
                    </a:lnTo>
                    <a:lnTo>
                      <a:pt x="583" y="251"/>
                    </a:lnTo>
                    <a:lnTo>
                      <a:pt x="575" y="253"/>
                    </a:lnTo>
                    <a:lnTo>
                      <a:pt x="570" y="257"/>
                    </a:lnTo>
                    <a:lnTo>
                      <a:pt x="564" y="258"/>
                    </a:lnTo>
                    <a:lnTo>
                      <a:pt x="558" y="262"/>
                    </a:lnTo>
                    <a:lnTo>
                      <a:pt x="551" y="266"/>
                    </a:lnTo>
                    <a:lnTo>
                      <a:pt x="545" y="270"/>
                    </a:lnTo>
                    <a:lnTo>
                      <a:pt x="539" y="274"/>
                    </a:lnTo>
                    <a:lnTo>
                      <a:pt x="534" y="277"/>
                    </a:lnTo>
                    <a:lnTo>
                      <a:pt x="526" y="285"/>
                    </a:lnTo>
                    <a:lnTo>
                      <a:pt x="520" y="295"/>
                    </a:lnTo>
                    <a:lnTo>
                      <a:pt x="518" y="298"/>
                    </a:lnTo>
                    <a:lnTo>
                      <a:pt x="515" y="304"/>
                    </a:lnTo>
                    <a:lnTo>
                      <a:pt x="509" y="308"/>
                    </a:lnTo>
                    <a:lnTo>
                      <a:pt x="503" y="314"/>
                    </a:lnTo>
                    <a:lnTo>
                      <a:pt x="496" y="319"/>
                    </a:lnTo>
                    <a:lnTo>
                      <a:pt x="490" y="325"/>
                    </a:lnTo>
                    <a:lnTo>
                      <a:pt x="482" y="329"/>
                    </a:lnTo>
                    <a:lnTo>
                      <a:pt x="475" y="334"/>
                    </a:lnTo>
                    <a:lnTo>
                      <a:pt x="467" y="338"/>
                    </a:lnTo>
                    <a:lnTo>
                      <a:pt x="459" y="344"/>
                    </a:lnTo>
                    <a:lnTo>
                      <a:pt x="450" y="348"/>
                    </a:lnTo>
                    <a:lnTo>
                      <a:pt x="444" y="354"/>
                    </a:lnTo>
                    <a:lnTo>
                      <a:pt x="439" y="357"/>
                    </a:lnTo>
                    <a:lnTo>
                      <a:pt x="433" y="361"/>
                    </a:lnTo>
                    <a:lnTo>
                      <a:pt x="431" y="365"/>
                    </a:lnTo>
                    <a:lnTo>
                      <a:pt x="429" y="369"/>
                    </a:lnTo>
                    <a:lnTo>
                      <a:pt x="425" y="373"/>
                    </a:lnTo>
                    <a:lnTo>
                      <a:pt x="423" y="380"/>
                    </a:lnTo>
                    <a:lnTo>
                      <a:pt x="423" y="384"/>
                    </a:lnTo>
                    <a:lnTo>
                      <a:pt x="420" y="388"/>
                    </a:lnTo>
                    <a:lnTo>
                      <a:pt x="420" y="393"/>
                    </a:lnTo>
                    <a:lnTo>
                      <a:pt x="418" y="399"/>
                    </a:lnTo>
                    <a:lnTo>
                      <a:pt x="416" y="405"/>
                    </a:lnTo>
                    <a:lnTo>
                      <a:pt x="414" y="411"/>
                    </a:lnTo>
                    <a:lnTo>
                      <a:pt x="412" y="416"/>
                    </a:lnTo>
                    <a:lnTo>
                      <a:pt x="410" y="424"/>
                    </a:lnTo>
                    <a:lnTo>
                      <a:pt x="408" y="430"/>
                    </a:lnTo>
                    <a:lnTo>
                      <a:pt x="406" y="437"/>
                    </a:lnTo>
                    <a:lnTo>
                      <a:pt x="404" y="443"/>
                    </a:lnTo>
                    <a:lnTo>
                      <a:pt x="402" y="450"/>
                    </a:lnTo>
                    <a:lnTo>
                      <a:pt x="399" y="456"/>
                    </a:lnTo>
                    <a:lnTo>
                      <a:pt x="397" y="464"/>
                    </a:lnTo>
                    <a:lnTo>
                      <a:pt x="395" y="469"/>
                    </a:lnTo>
                    <a:lnTo>
                      <a:pt x="393" y="477"/>
                    </a:lnTo>
                    <a:lnTo>
                      <a:pt x="391" y="483"/>
                    </a:lnTo>
                    <a:lnTo>
                      <a:pt x="389" y="490"/>
                    </a:lnTo>
                    <a:lnTo>
                      <a:pt x="387" y="496"/>
                    </a:lnTo>
                    <a:lnTo>
                      <a:pt x="387" y="504"/>
                    </a:lnTo>
                    <a:lnTo>
                      <a:pt x="383" y="508"/>
                    </a:lnTo>
                    <a:lnTo>
                      <a:pt x="383" y="513"/>
                    </a:lnTo>
                    <a:lnTo>
                      <a:pt x="382" y="519"/>
                    </a:lnTo>
                    <a:lnTo>
                      <a:pt x="382" y="525"/>
                    </a:lnTo>
                    <a:lnTo>
                      <a:pt x="380" y="532"/>
                    </a:lnTo>
                    <a:lnTo>
                      <a:pt x="380" y="538"/>
                    </a:lnTo>
                    <a:lnTo>
                      <a:pt x="380" y="547"/>
                    </a:lnTo>
                    <a:lnTo>
                      <a:pt x="378" y="557"/>
                    </a:lnTo>
                    <a:lnTo>
                      <a:pt x="374" y="565"/>
                    </a:lnTo>
                    <a:lnTo>
                      <a:pt x="372" y="576"/>
                    </a:lnTo>
                    <a:lnTo>
                      <a:pt x="370" y="580"/>
                    </a:lnTo>
                    <a:lnTo>
                      <a:pt x="368" y="585"/>
                    </a:lnTo>
                    <a:lnTo>
                      <a:pt x="366" y="591"/>
                    </a:lnTo>
                    <a:lnTo>
                      <a:pt x="364" y="597"/>
                    </a:lnTo>
                    <a:lnTo>
                      <a:pt x="363" y="601"/>
                    </a:lnTo>
                    <a:lnTo>
                      <a:pt x="361" y="606"/>
                    </a:lnTo>
                    <a:lnTo>
                      <a:pt x="361" y="612"/>
                    </a:lnTo>
                    <a:lnTo>
                      <a:pt x="359" y="618"/>
                    </a:lnTo>
                    <a:lnTo>
                      <a:pt x="355" y="622"/>
                    </a:lnTo>
                    <a:lnTo>
                      <a:pt x="353" y="627"/>
                    </a:lnTo>
                    <a:lnTo>
                      <a:pt x="349" y="633"/>
                    </a:lnTo>
                    <a:lnTo>
                      <a:pt x="347" y="642"/>
                    </a:lnTo>
                    <a:lnTo>
                      <a:pt x="342" y="650"/>
                    </a:lnTo>
                    <a:lnTo>
                      <a:pt x="338" y="658"/>
                    </a:lnTo>
                    <a:lnTo>
                      <a:pt x="334" y="667"/>
                    </a:lnTo>
                    <a:lnTo>
                      <a:pt x="330" y="677"/>
                    </a:lnTo>
                    <a:lnTo>
                      <a:pt x="325" y="684"/>
                    </a:lnTo>
                    <a:lnTo>
                      <a:pt x="321" y="692"/>
                    </a:lnTo>
                    <a:lnTo>
                      <a:pt x="317" y="700"/>
                    </a:lnTo>
                    <a:lnTo>
                      <a:pt x="315" y="709"/>
                    </a:lnTo>
                    <a:lnTo>
                      <a:pt x="311" y="713"/>
                    </a:lnTo>
                    <a:lnTo>
                      <a:pt x="309" y="719"/>
                    </a:lnTo>
                    <a:lnTo>
                      <a:pt x="307" y="722"/>
                    </a:lnTo>
                    <a:lnTo>
                      <a:pt x="307" y="726"/>
                    </a:lnTo>
                    <a:lnTo>
                      <a:pt x="307" y="728"/>
                    </a:lnTo>
                    <a:lnTo>
                      <a:pt x="306" y="732"/>
                    </a:lnTo>
                    <a:lnTo>
                      <a:pt x="306" y="738"/>
                    </a:lnTo>
                    <a:lnTo>
                      <a:pt x="304" y="743"/>
                    </a:lnTo>
                    <a:lnTo>
                      <a:pt x="302" y="751"/>
                    </a:lnTo>
                    <a:lnTo>
                      <a:pt x="300" y="758"/>
                    </a:lnTo>
                    <a:lnTo>
                      <a:pt x="298" y="766"/>
                    </a:lnTo>
                    <a:lnTo>
                      <a:pt x="296" y="774"/>
                    </a:lnTo>
                    <a:lnTo>
                      <a:pt x="294" y="781"/>
                    </a:lnTo>
                    <a:lnTo>
                      <a:pt x="292" y="789"/>
                    </a:lnTo>
                    <a:lnTo>
                      <a:pt x="288" y="796"/>
                    </a:lnTo>
                    <a:lnTo>
                      <a:pt x="288" y="806"/>
                    </a:lnTo>
                    <a:lnTo>
                      <a:pt x="285" y="812"/>
                    </a:lnTo>
                    <a:lnTo>
                      <a:pt x="285" y="817"/>
                    </a:lnTo>
                    <a:lnTo>
                      <a:pt x="283" y="821"/>
                    </a:lnTo>
                    <a:lnTo>
                      <a:pt x="283" y="825"/>
                    </a:lnTo>
                    <a:lnTo>
                      <a:pt x="281" y="827"/>
                    </a:lnTo>
                    <a:lnTo>
                      <a:pt x="281" y="831"/>
                    </a:lnTo>
                    <a:lnTo>
                      <a:pt x="281" y="836"/>
                    </a:lnTo>
                    <a:lnTo>
                      <a:pt x="281" y="842"/>
                    </a:lnTo>
                    <a:lnTo>
                      <a:pt x="279" y="850"/>
                    </a:lnTo>
                    <a:lnTo>
                      <a:pt x="279" y="857"/>
                    </a:lnTo>
                    <a:lnTo>
                      <a:pt x="279" y="865"/>
                    </a:lnTo>
                    <a:lnTo>
                      <a:pt x="279" y="874"/>
                    </a:lnTo>
                    <a:lnTo>
                      <a:pt x="277" y="880"/>
                    </a:lnTo>
                    <a:lnTo>
                      <a:pt x="277" y="888"/>
                    </a:lnTo>
                    <a:lnTo>
                      <a:pt x="275" y="893"/>
                    </a:lnTo>
                    <a:lnTo>
                      <a:pt x="275" y="899"/>
                    </a:lnTo>
                    <a:lnTo>
                      <a:pt x="271" y="905"/>
                    </a:lnTo>
                    <a:lnTo>
                      <a:pt x="269" y="905"/>
                    </a:lnTo>
                    <a:lnTo>
                      <a:pt x="264" y="899"/>
                    </a:lnTo>
                    <a:lnTo>
                      <a:pt x="260" y="893"/>
                    </a:lnTo>
                    <a:lnTo>
                      <a:pt x="258" y="890"/>
                    </a:lnTo>
                    <a:lnTo>
                      <a:pt x="254" y="884"/>
                    </a:lnTo>
                    <a:lnTo>
                      <a:pt x="250" y="878"/>
                    </a:lnTo>
                    <a:lnTo>
                      <a:pt x="249" y="873"/>
                    </a:lnTo>
                    <a:lnTo>
                      <a:pt x="245" y="867"/>
                    </a:lnTo>
                    <a:lnTo>
                      <a:pt x="243" y="861"/>
                    </a:lnTo>
                    <a:lnTo>
                      <a:pt x="237" y="855"/>
                    </a:lnTo>
                    <a:lnTo>
                      <a:pt x="233" y="848"/>
                    </a:lnTo>
                    <a:lnTo>
                      <a:pt x="228" y="840"/>
                    </a:lnTo>
                    <a:lnTo>
                      <a:pt x="222" y="833"/>
                    </a:lnTo>
                    <a:lnTo>
                      <a:pt x="214" y="823"/>
                    </a:lnTo>
                    <a:lnTo>
                      <a:pt x="209" y="819"/>
                    </a:lnTo>
                    <a:lnTo>
                      <a:pt x="203" y="815"/>
                    </a:lnTo>
                    <a:lnTo>
                      <a:pt x="199" y="814"/>
                    </a:lnTo>
                    <a:lnTo>
                      <a:pt x="193" y="814"/>
                    </a:lnTo>
                    <a:lnTo>
                      <a:pt x="188" y="814"/>
                    </a:lnTo>
                    <a:lnTo>
                      <a:pt x="180" y="812"/>
                    </a:lnTo>
                    <a:lnTo>
                      <a:pt x="173" y="812"/>
                    </a:lnTo>
                    <a:lnTo>
                      <a:pt x="165" y="812"/>
                    </a:lnTo>
                    <a:lnTo>
                      <a:pt x="157" y="812"/>
                    </a:lnTo>
                    <a:lnTo>
                      <a:pt x="150" y="812"/>
                    </a:lnTo>
                    <a:lnTo>
                      <a:pt x="144" y="814"/>
                    </a:lnTo>
                    <a:lnTo>
                      <a:pt x="138" y="815"/>
                    </a:lnTo>
                    <a:lnTo>
                      <a:pt x="129" y="821"/>
                    </a:lnTo>
                    <a:lnTo>
                      <a:pt x="123" y="823"/>
                    </a:lnTo>
                    <a:lnTo>
                      <a:pt x="119" y="827"/>
                    </a:lnTo>
                    <a:lnTo>
                      <a:pt x="116" y="831"/>
                    </a:lnTo>
                    <a:lnTo>
                      <a:pt x="110" y="834"/>
                    </a:lnTo>
                    <a:lnTo>
                      <a:pt x="100" y="842"/>
                    </a:lnTo>
                    <a:lnTo>
                      <a:pt x="93" y="850"/>
                    </a:lnTo>
                    <a:lnTo>
                      <a:pt x="85" y="855"/>
                    </a:lnTo>
                    <a:lnTo>
                      <a:pt x="83" y="861"/>
                    </a:lnTo>
                    <a:lnTo>
                      <a:pt x="81" y="865"/>
                    </a:lnTo>
                    <a:lnTo>
                      <a:pt x="79" y="871"/>
                    </a:lnTo>
                    <a:lnTo>
                      <a:pt x="74" y="876"/>
                    </a:lnTo>
                    <a:lnTo>
                      <a:pt x="70" y="886"/>
                    </a:lnTo>
                    <a:lnTo>
                      <a:pt x="62" y="893"/>
                    </a:lnTo>
                    <a:lnTo>
                      <a:pt x="57" y="903"/>
                    </a:lnTo>
                    <a:lnTo>
                      <a:pt x="53" y="907"/>
                    </a:lnTo>
                    <a:lnTo>
                      <a:pt x="49" y="912"/>
                    </a:lnTo>
                    <a:lnTo>
                      <a:pt x="45" y="918"/>
                    </a:lnTo>
                    <a:lnTo>
                      <a:pt x="41" y="924"/>
                    </a:lnTo>
                    <a:lnTo>
                      <a:pt x="34" y="933"/>
                    </a:lnTo>
                    <a:lnTo>
                      <a:pt x="26" y="943"/>
                    </a:lnTo>
                    <a:lnTo>
                      <a:pt x="19" y="952"/>
                    </a:lnTo>
                    <a:lnTo>
                      <a:pt x="13" y="960"/>
                    </a:lnTo>
                    <a:lnTo>
                      <a:pt x="7" y="968"/>
                    </a:lnTo>
                    <a:lnTo>
                      <a:pt x="3" y="973"/>
                    </a:lnTo>
                    <a:lnTo>
                      <a:pt x="0" y="975"/>
                    </a:lnTo>
                    <a:lnTo>
                      <a:pt x="0" y="977"/>
                    </a:lnTo>
                    <a:lnTo>
                      <a:pt x="7" y="1044"/>
                    </a:lnTo>
                    <a:lnTo>
                      <a:pt x="7" y="1042"/>
                    </a:lnTo>
                    <a:lnTo>
                      <a:pt x="11" y="1040"/>
                    </a:lnTo>
                    <a:lnTo>
                      <a:pt x="15" y="1038"/>
                    </a:lnTo>
                    <a:lnTo>
                      <a:pt x="22" y="1034"/>
                    </a:lnTo>
                    <a:lnTo>
                      <a:pt x="28" y="1028"/>
                    </a:lnTo>
                    <a:lnTo>
                      <a:pt x="38" y="1023"/>
                    </a:lnTo>
                    <a:lnTo>
                      <a:pt x="45" y="1015"/>
                    </a:lnTo>
                    <a:lnTo>
                      <a:pt x="55" y="1007"/>
                    </a:lnTo>
                    <a:lnTo>
                      <a:pt x="58" y="1002"/>
                    </a:lnTo>
                    <a:lnTo>
                      <a:pt x="62" y="996"/>
                    </a:lnTo>
                    <a:lnTo>
                      <a:pt x="68" y="990"/>
                    </a:lnTo>
                    <a:lnTo>
                      <a:pt x="74" y="985"/>
                    </a:lnTo>
                    <a:lnTo>
                      <a:pt x="77" y="977"/>
                    </a:lnTo>
                    <a:lnTo>
                      <a:pt x="83" y="971"/>
                    </a:lnTo>
                    <a:lnTo>
                      <a:pt x="87" y="966"/>
                    </a:lnTo>
                    <a:lnTo>
                      <a:pt x="93" y="960"/>
                    </a:lnTo>
                    <a:lnTo>
                      <a:pt x="97" y="954"/>
                    </a:lnTo>
                    <a:lnTo>
                      <a:pt x="100" y="949"/>
                    </a:lnTo>
                    <a:lnTo>
                      <a:pt x="104" y="943"/>
                    </a:lnTo>
                    <a:lnTo>
                      <a:pt x="108" y="939"/>
                    </a:lnTo>
                    <a:lnTo>
                      <a:pt x="112" y="930"/>
                    </a:lnTo>
                    <a:lnTo>
                      <a:pt x="116" y="926"/>
                    </a:lnTo>
                    <a:lnTo>
                      <a:pt x="117" y="920"/>
                    </a:lnTo>
                    <a:lnTo>
                      <a:pt x="125" y="912"/>
                    </a:lnTo>
                    <a:lnTo>
                      <a:pt x="133" y="905"/>
                    </a:lnTo>
                    <a:lnTo>
                      <a:pt x="142" y="897"/>
                    </a:lnTo>
                    <a:lnTo>
                      <a:pt x="150" y="890"/>
                    </a:lnTo>
                    <a:lnTo>
                      <a:pt x="157" y="884"/>
                    </a:lnTo>
                    <a:lnTo>
                      <a:pt x="163" y="880"/>
                    </a:lnTo>
                    <a:lnTo>
                      <a:pt x="167" y="880"/>
                    </a:lnTo>
                    <a:lnTo>
                      <a:pt x="192" y="918"/>
                    </a:lnTo>
                    <a:lnTo>
                      <a:pt x="192" y="922"/>
                    </a:lnTo>
                    <a:lnTo>
                      <a:pt x="193" y="926"/>
                    </a:lnTo>
                    <a:lnTo>
                      <a:pt x="195" y="931"/>
                    </a:lnTo>
                    <a:lnTo>
                      <a:pt x="197" y="937"/>
                    </a:lnTo>
                    <a:lnTo>
                      <a:pt x="199" y="947"/>
                    </a:lnTo>
                    <a:lnTo>
                      <a:pt x="203" y="954"/>
                    </a:lnTo>
                    <a:lnTo>
                      <a:pt x="205" y="962"/>
                    </a:lnTo>
                    <a:lnTo>
                      <a:pt x="209" y="969"/>
                    </a:lnTo>
                    <a:lnTo>
                      <a:pt x="211" y="979"/>
                    </a:lnTo>
                    <a:lnTo>
                      <a:pt x="214" y="987"/>
                    </a:lnTo>
                    <a:lnTo>
                      <a:pt x="218" y="994"/>
                    </a:lnTo>
                    <a:lnTo>
                      <a:pt x="220" y="1000"/>
                    </a:lnTo>
                    <a:lnTo>
                      <a:pt x="224" y="1006"/>
                    </a:lnTo>
                    <a:lnTo>
                      <a:pt x="228" y="1007"/>
                    </a:lnTo>
                    <a:lnTo>
                      <a:pt x="231" y="1011"/>
                    </a:lnTo>
                    <a:lnTo>
                      <a:pt x="237" y="1011"/>
                    </a:lnTo>
                    <a:lnTo>
                      <a:pt x="241" y="1009"/>
                    </a:lnTo>
                    <a:lnTo>
                      <a:pt x="247" y="1007"/>
                    </a:lnTo>
                    <a:lnTo>
                      <a:pt x="252" y="1006"/>
                    </a:lnTo>
                    <a:lnTo>
                      <a:pt x="258" y="1002"/>
                    </a:lnTo>
                    <a:lnTo>
                      <a:pt x="264" y="998"/>
                    </a:lnTo>
                    <a:lnTo>
                      <a:pt x="271" y="994"/>
                    </a:lnTo>
                    <a:lnTo>
                      <a:pt x="281" y="990"/>
                    </a:lnTo>
                    <a:lnTo>
                      <a:pt x="283" y="988"/>
                    </a:lnTo>
                    <a:lnTo>
                      <a:pt x="288" y="987"/>
                    </a:lnTo>
                    <a:lnTo>
                      <a:pt x="294" y="985"/>
                    </a:lnTo>
                    <a:lnTo>
                      <a:pt x="300" y="983"/>
                    </a:lnTo>
                    <a:lnTo>
                      <a:pt x="306" y="979"/>
                    </a:lnTo>
                    <a:lnTo>
                      <a:pt x="311" y="977"/>
                    </a:lnTo>
                    <a:lnTo>
                      <a:pt x="317" y="973"/>
                    </a:lnTo>
                    <a:lnTo>
                      <a:pt x="323" y="971"/>
                    </a:lnTo>
                    <a:lnTo>
                      <a:pt x="332" y="964"/>
                    </a:lnTo>
                    <a:lnTo>
                      <a:pt x="340" y="956"/>
                    </a:lnTo>
                    <a:lnTo>
                      <a:pt x="344" y="949"/>
                    </a:lnTo>
                    <a:lnTo>
                      <a:pt x="345" y="939"/>
                    </a:lnTo>
                    <a:lnTo>
                      <a:pt x="345" y="931"/>
                    </a:lnTo>
                    <a:lnTo>
                      <a:pt x="345" y="926"/>
                    </a:lnTo>
                    <a:lnTo>
                      <a:pt x="345" y="918"/>
                    </a:lnTo>
                    <a:lnTo>
                      <a:pt x="345" y="911"/>
                    </a:lnTo>
                    <a:lnTo>
                      <a:pt x="345" y="901"/>
                    </a:lnTo>
                    <a:lnTo>
                      <a:pt x="347" y="893"/>
                    </a:lnTo>
                    <a:lnTo>
                      <a:pt x="347" y="886"/>
                    </a:lnTo>
                    <a:lnTo>
                      <a:pt x="349" y="878"/>
                    </a:lnTo>
                    <a:lnTo>
                      <a:pt x="349" y="869"/>
                    </a:lnTo>
                    <a:lnTo>
                      <a:pt x="351" y="861"/>
                    </a:lnTo>
                    <a:lnTo>
                      <a:pt x="351" y="852"/>
                    </a:lnTo>
                    <a:lnTo>
                      <a:pt x="353" y="846"/>
                    </a:lnTo>
                    <a:lnTo>
                      <a:pt x="353" y="838"/>
                    </a:lnTo>
                    <a:lnTo>
                      <a:pt x="353" y="834"/>
                    </a:lnTo>
                    <a:lnTo>
                      <a:pt x="353" y="829"/>
                    </a:lnTo>
                    <a:lnTo>
                      <a:pt x="355" y="827"/>
                    </a:lnTo>
                    <a:lnTo>
                      <a:pt x="355" y="823"/>
                    </a:lnTo>
                    <a:lnTo>
                      <a:pt x="355" y="817"/>
                    </a:lnTo>
                    <a:lnTo>
                      <a:pt x="355" y="812"/>
                    </a:lnTo>
                    <a:lnTo>
                      <a:pt x="359" y="804"/>
                    </a:lnTo>
                    <a:lnTo>
                      <a:pt x="361" y="795"/>
                    </a:lnTo>
                    <a:lnTo>
                      <a:pt x="363" y="785"/>
                    </a:lnTo>
                    <a:lnTo>
                      <a:pt x="366" y="776"/>
                    </a:lnTo>
                    <a:lnTo>
                      <a:pt x="368" y="766"/>
                    </a:lnTo>
                    <a:lnTo>
                      <a:pt x="370" y="755"/>
                    </a:lnTo>
                    <a:lnTo>
                      <a:pt x="374" y="747"/>
                    </a:lnTo>
                    <a:lnTo>
                      <a:pt x="376" y="738"/>
                    </a:lnTo>
                    <a:lnTo>
                      <a:pt x="380" y="730"/>
                    </a:lnTo>
                    <a:lnTo>
                      <a:pt x="382" y="724"/>
                    </a:lnTo>
                    <a:lnTo>
                      <a:pt x="383" y="719"/>
                    </a:lnTo>
                    <a:lnTo>
                      <a:pt x="383" y="715"/>
                    </a:lnTo>
                    <a:lnTo>
                      <a:pt x="385" y="715"/>
                    </a:lnTo>
                    <a:lnTo>
                      <a:pt x="461" y="584"/>
                    </a:lnTo>
                    <a:lnTo>
                      <a:pt x="478" y="416"/>
                    </a:lnTo>
                    <a:lnTo>
                      <a:pt x="520" y="376"/>
                    </a:lnTo>
                    <a:lnTo>
                      <a:pt x="520" y="374"/>
                    </a:lnTo>
                    <a:lnTo>
                      <a:pt x="524" y="373"/>
                    </a:lnTo>
                    <a:lnTo>
                      <a:pt x="530" y="369"/>
                    </a:lnTo>
                    <a:lnTo>
                      <a:pt x="536" y="365"/>
                    </a:lnTo>
                    <a:lnTo>
                      <a:pt x="541" y="359"/>
                    </a:lnTo>
                    <a:lnTo>
                      <a:pt x="551" y="355"/>
                    </a:lnTo>
                    <a:lnTo>
                      <a:pt x="560" y="350"/>
                    </a:lnTo>
                    <a:lnTo>
                      <a:pt x="570" y="344"/>
                    </a:lnTo>
                    <a:lnTo>
                      <a:pt x="579" y="336"/>
                    </a:lnTo>
                    <a:lnTo>
                      <a:pt x="589" y="331"/>
                    </a:lnTo>
                    <a:lnTo>
                      <a:pt x="598" y="325"/>
                    </a:lnTo>
                    <a:lnTo>
                      <a:pt x="606" y="319"/>
                    </a:lnTo>
                    <a:lnTo>
                      <a:pt x="613" y="315"/>
                    </a:lnTo>
                    <a:lnTo>
                      <a:pt x="621" y="312"/>
                    </a:lnTo>
                    <a:lnTo>
                      <a:pt x="625" y="310"/>
                    </a:lnTo>
                    <a:lnTo>
                      <a:pt x="631" y="310"/>
                    </a:lnTo>
                    <a:lnTo>
                      <a:pt x="636" y="306"/>
                    </a:lnTo>
                    <a:lnTo>
                      <a:pt x="642" y="298"/>
                    </a:lnTo>
                    <a:lnTo>
                      <a:pt x="646" y="293"/>
                    </a:lnTo>
                    <a:lnTo>
                      <a:pt x="648" y="287"/>
                    </a:lnTo>
                    <a:lnTo>
                      <a:pt x="651" y="281"/>
                    </a:lnTo>
                    <a:lnTo>
                      <a:pt x="655" y="276"/>
                    </a:lnTo>
                    <a:lnTo>
                      <a:pt x="657" y="270"/>
                    </a:lnTo>
                    <a:lnTo>
                      <a:pt x="661" y="262"/>
                    </a:lnTo>
                    <a:lnTo>
                      <a:pt x="663" y="257"/>
                    </a:lnTo>
                    <a:lnTo>
                      <a:pt x="665" y="253"/>
                    </a:lnTo>
                    <a:lnTo>
                      <a:pt x="669" y="243"/>
                    </a:lnTo>
                    <a:lnTo>
                      <a:pt x="669" y="241"/>
                    </a:lnTo>
                    <a:lnTo>
                      <a:pt x="651" y="177"/>
                    </a:lnTo>
                    <a:lnTo>
                      <a:pt x="572" y="154"/>
                    </a:lnTo>
                    <a:lnTo>
                      <a:pt x="568" y="154"/>
                    </a:lnTo>
                    <a:lnTo>
                      <a:pt x="562" y="154"/>
                    </a:lnTo>
                    <a:lnTo>
                      <a:pt x="556" y="154"/>
                    </a:lnTo>
                    <a:lnTo>
                      <a:pt x="551" y="156"/>
                    </a:lnTo>
                    <a:lnTo>
                      <a:pt x="545" y="156"/>
                    </a:lnTo>
                    <a:lnTo>
                      <a:pt x="539" y="156"/>
                    </a:lnTo>
                    <a:lnTo>
                      <a:pt x="532" y="156"/>
                    </a:lnTo>
                    <a:lnTo>
                      <a:pt x="524" y="156"/>
                    </a:lnTo>
                    <a:lnTo>
                      <a:pt x="517" y="154"/>
                    </a:lnTo>
                    <a:lnTo>
                      <a:pt x="511" y="154"/>
                    </a:lnTo>
                    <a:lnTo>
                      <a:pt x="503" y="152"/>
                    </a:lnTo>
                    <a:lnTo>
                      <a:pt x="496" y="150"/>
                    </a:lnTo>
                    <a:lnTo>
                      <a:pt x="490" y="146"/>
                    </a:lnTo>
                    <a:lnTo>
                      <a:pt x="484" y="144"/>
                    </a:lnTo>
                    <a:lnTo>
                      <a:pt x="478" y="139"/>
                    </a:lnTo>
                    <a:lnTo>
                      <a:pt x="473" y="135"/>
                    </a:lnTo>
                    <a:lnTo>
                      <a:pt x="465" y="133"/>
                    </a:lnTo>
                    <a:lnTo>
                      <a:pt x="458" y="129"/>
                    </a:lnTo>
                    <a:lnTo>
                      <a:pt x="450" y="127"/>
                    </a:lnTo>
                    <a:lnTo>
                      <a:pt x="442" y="125"/>
                    </a:lnTo>
                    <a:lnTo>
                      <a:pt x="435" y="123"/>
                    </a:lnTo>
                    <a:lnTo>
                      <a:pt x="427" y="123"/>
                    </a:lnTo>
                    <a:lnTo>
                      <a:pt x="420" y="123"/>
                    </a:lnTo>
                    <a:lnTo>
                      <a:pt x="414" y="122"/>
                    </a:lnTo>
                    <a:lnTo>
                      <a:pt x="408" y="122"/>
                    </a:lnTo>
                    <a:lnTo>
                      <a:pt x="402" y="122"/>
                    </a:lnTo>
                    <a:lnTo>
                      <a:pt x="397" y="122"/>
                    </a:lnTo>
                    <a:lnTo>
                      <a:pt x="393" y="122"/>
                    </a:lnTo>
                    <a:lnTo>
                      <a:pt x="391" y="122"/>
                    </a:lnTo>
                    <a:lnTo>
                      <a:pt x="389" y="122"/>
                    </a:lnTo>
                    <a:lnTo>
                      <a:pt x="385" y="120"/>
                    </a:lnTo>
                    <a:lnTo>
                      <a:pt x="382" y="116"/>
                    </a:lnTo>
                    <a:lnTo>
                      <a:pt x="376" y="110"/>
                    </a:lnTo>
                    <a:lnTo>
                      <a:pt x="370" y="106"/>
                    </a:lnTo>
                    <a:lnTo>
                      <a:pt x="363" y="97"/>
                    </a:lnTo>
                    <a:lnTo>
                      <a:pt x="359" y="89"/>
                    </a:lnTo>
                    <a:lnTo>
                      <a:pt x="355" y="82"/>
                    </a:lnTo>
                    <a:lnTo>
                      <a:pt x="355" y="74"/>
                    </a:lnTo>
                    <a:lnTo>
                      <a:pt x="353" y="68"/>
                    </a:lnTo>
                    <a:lnTo>
                      <a:pt x="353" y="63"/>
                    </a:lnTo>
                    <a:lnTo>
                      <a:pt x="353" y="57"/>
                    </a:lnTo>
                    <a:lnTo>
                      <a:pt x="353" y="53"/>
                    </a:lnTo>
                    <a:lnTo>
                      <a:pt x="351" y="46"/>
                    </a:lnTo>
                    <a:lnTo>
                      <a:pt x="351" y="40"/>
                    </a:lnTo>
                    <a:lnTo>
                      <a:pt x="351" y="34"/>
                    </a:lnTo>
                    <a:lnTo>
                      <a:pt x="351" y="28"/>
                    </a:lnTo>
                    <a:lnTo>
                      <a:pt x="349" y="21"/>
                    </a:lnTo>
                    <a:lnTo>
                      <a:pt x="349" y="15"/>
                    </a:lnTo>
                    <a:lnTo>
                      <a:pt x="347" y="11"/>
                    </a:lnTo>
                    <a:lnTo>
                      <a:pt x="347" y="8"/>
                    </a:lnTo>
                    <a:lnTo>
                      <a:pt x="347" y="2"/>
                    </a:lnTo>
                    <a:lnTo>
                      <a:pt x="347" y="0"/>
                    </a:lnTo>
                    <a:lnTo>
                      <a:pt x="298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7"/>
              <p:cNvSpPr/>
              <p:nvPr/>
            </p:nvSpPr>
            <p:spPr>
              <a:xfrm>
                <a:off x="3830400" y="5328000"/>
                <a:ext cx="638280" cy="612720"/>
              </a:xfrm>
              <a:custGeom>
                <a:avLst/>
                <a:gdLst>
                  <a:gd name="textAreaLeft" fmla="*/ 0 w 638280"/>
                  <a:gd name="textAreaRight" fmla="*/ 638640 w 638280"/>
                  <a:gd name="textAreaTop" fmla="*/ 0 h 612720"/>
                  <a:gd name="textAreaBottom" fmla="*/ 613080 h 612720"/>
                </a:gdLst>
                <a:ahLst/>
                <a:rect l="textAreaLeft" t="textAreaTop" r="textAreaRight" b="textAreaBottom"/>
                <a:pathLst>
                  <a:path w="803" h="771">
                    <a:moveTo>
                      <a:pt x="0" y="34"/>
                    </a:moveTo>
                    <a:lnTo>
                      <a:pt x="0" y="36"/>
                    </a:lnTo>
                    <a:lnTo>
                      <a:pt x="3" y="38"/>
                    </a:lnTo>
                    <a:lnTo>
                      <a:pt x="9" y="41"/>
                    </a:lnTo>
                    <a:lnTo>
                      <a:pt x="17" y="43"/>
                    </a:lnTo>
                    <a:lnTo>
                      <a:pt x="20" y="43"/>
                    </a:lnTo>
                    <a:lnTo>
                      <a:pt x="26" y="45"/>
                    </a:lnTo>
                    <a:lnTo>
                      <a:pt x="30" y="47"/>
                    </a:lnTo>
                    <a:lnTo>
                      <a:pt x="36" y="49"/>
                    </a:lnTo>
                    <a:lnTo>
                      <a:pt x="41" y="49"/>
                    </a:lnTo>
                    <a:lnTo>
                      <a:pt x="47" y="51"/>
                    </a:lnTo>
                    <a:lnTo>
                      <a:pt x="53" y="53"/>
                    </a:lnTo>
                    <a:lnTo>
                      <a:pt x="57" y="55"/>
                    </a:lnTo>
                    <a:lnTo>
                      <a:pt x="62" y="55"/>
                    </a:lnTo>
                    <a:lnTo>
                      <a:pt x="68" y="57"/>
                    </a:lnTo>
                    <a:lnTo>
                      <a:pt x="74" y="57"/>
                    </a:lnTo>
                    <a:lnTo>
                      <a:pt x="81" y="58"/>
                    </a:lnTo>
                    <a:lnTo>
                      <a:pt x="87" y="58"/>
                    </a:lnTo>
                    <a:lnTo>
                      <a:pt x="93" y="60"/>
                    </a:lnTo>
                    <a:lnTo>
                      <a:pt x="98" y="60"/>
                    </a:lnTo>
                    <a:lnTo>
                      <a:pt x="104" y="60"/>
                    </a:lnTo>
                    <a:lnTo>
                      <a:pt x="110" y="60"/>
                    </a:lnTo>
                    <a:lnTo>
                      <a:pt x="116" y="62"/>
                    </a:lnTo>
                    <a:lnTo>
                      <a:pt x="119" y="62"/>
                    </a:lnTo>
                    <a:lnTo>
                      <a:pt x="125" y="64"/>
                    </a:lnTo>
                    <a:lnTo>
                      <a:pt x="135" y="64"/>
                    </a:lnTo>
                    <a:lnTo>
                      <a:pt x="142" y="66"/>
                    </a:lnTo>
                    <a:lnTo>
                      <a:pt x="150" y="64"/>
                    </a:lnTo>
                    <a:lnTo>
                      <a:pt x="157" y="64"/>
                    </a:lnTo>
                    <a:lnTo>
                      <a:pt x="163" y="62"/>
                    </a:lnTo>
                    <a:lnTo>
                      <a:pt x="167" y="62"/>
                    </a:lnTo>
                    <a:lnTo>
                      <a:pt x="173" y="60"/>
                    </a:lnTo>
                    <a:lnTo>
                      <a:pt x="178" y="60"/>
                    </a:lnTo>
                    <a:lnTo>
                      <a:pt x="182" y="60"/>
                    </a:lnTo>
                    <a:lnTo>
                      <a:pt x="188" y="60"/>
                    </a:lnTo>
                    <a:lnTo>
                      <a:pt x="193" y="58"/>
                    </a:lnTo>
                    <a:lnTo>
                      <a:pt x="199" y="58"/>
                    </a:lnTo>
                    <a:lnTo>
                      <a:pt x="205" y="57"/>
                    </a:lnTo>
                    <a:lnTo>
                      <a:pt x="211" y="57"/>
                    </a:lnTo>
                    <a:lnTo>
                      <a:pt x="216" y="55"/>
                    </a:lnTo>
                    <a:lnTo>
                      <a:pt x="222" y="55"/>
                    </a:lnTo>
                    <a:lnTo>
                      <a:pt x="231" y="53"/>
                    </a:lnTo>
                    <a:lnTo>
                      <a:pt x="241" y="51"/>
                    </a:lnTo>
                    <a:lnTo>
                      <a:pt x="250" y="47"/>
                    </a:lnTo>
                    <a:lnTo>
                      <a:pt x="260" y="45"/>
                    </a:lnTo>
                    <a:lnTo>
                      <a:pt x="266" y="43"/>
                    </a:lnTo>
                    <a:lnTo>
                      <a:pt x="271" y="41"/>
                    </a:lnTo>
                    <a:lnTo>
                      <a:pt x="275" y="39"/>
                    </a:lnTo>
                    <a:lnTo>
                      <a:pt x="279" y="39"/>
                    </a:lnTo>
                    <a:lnTo>
                      <a:pt x="281" y="34"/>
                    </a:lnTo>
                    <a:lnTo>
                      <a:pt x="290" y="28"/>
                    </a:lnTo>
                    <a:lnTo>
                      <a:pt x="294" y="24"/>
                    </a:lnTo>
                    <a:lnTo>
                      <a:pt x="300" y="20"/>
                    </a:lnTo>
                    <a:lnTo>
                      <a:pt x="306" y="17"/>
                    </a:lnTo>
                    <a:lnTo>
                      <a:pt x="313" y="15"/>
                    </a:lnTo>
                    <a:lnTo>
                      <a:pt x="319" y="11"/>
                    </a:lnTo>
                    <a:lnTo>
                      <a:pt x="326" y="9"/>
                    </a:lnTo>
                    <a:lnTo>
                      <a:pt x="334" y="5"/>
                    </a:lnTo>
                    <a:lnTo>
                      <a:pt x="342" y="3"/>
                    </a:lnTo>
                    <a:lnTo>
                      <a:pt x="347" y="3"/>
                    </a:lnTo>
                    <a:lnTo>
                      <a:pt x="353" y="1"/>
                    </a:lnTo>
                    <a:lnTo>
                      <a:pt x="359" y="0"/>
                    </a:lnTo>
                    <a:lnTo>
                      <a:pt x="363" y="1"/>
                    </a:lnTo>
                    <a:lnTo>
                      <a:pt x="370" y="1"/>
                    </a:lnTo>
                    <a:lnTo>
                      <a:pt x="376" y="3"/>
                    </a:lnTo>
                    <a:lnTo>
                      <a:pt x="383" y="7"/>
                    </a:lnTo>
                    <a:lnTo>
                      <a:pt x="391" y="9"/>
                    </a:lnTo>
                    <a:lnTo>
                      <a:pt x="397" y="13"/>
                    </a:lnTo>
                    <a:lnTo>
                      <a:pt x="406" y="15"/>
                    </a:lnTo>
                    <a:lnTo>
                      <a:pt x="410" y="17"/>
                    </a:lnTo>
                    <a:lnTo>
                      <a:pt x="416" y="19"/>
                    </a:lnTo>
                    <a:lnTo>
                      <a:pt x="421" y="19"/>
                    </a:lnTo>
                    <a:lnTo>
                      <a:pt x="429" y="20"/>
                    </a:lnTo>
                    <a:lnTo>
                      <a:pt x="435" y="20"/>
                    </a:lnTo>
                    <a:lnTo>
                      <a:pt x="442" y="22"/>
                    </a:lnTo>
                    <a:lnTo>
                      <a:pt x="448" y="26"/>
                    </a:lnTo>
                    <a:lnTo>
                      <a:pt x="456" y="30"/>
                    </a:lnTo>
                    <a:lnTo>
                      <a:pt x="461" y="34"/>
                    </a:lnTo>
                    <a:lnTo>
                      <a:pt x="467" y="39"/>
                    </a:lnTo>
                    <a:lnTo>
                      <a:pt x="473" y="45"/>
                    </a:lnTo>
                    <a:lnTo>
                      <a:pt x="478" y="53"/>
                    </a:lnTo>
                    <a:lnTo>
                      <a:pt x="482" y="58"/>
                    </a:lnTo>
                    <a:lnTo>
                      <a:pt x="488" y="64"/>
                    </a:lnTo>
                    <a:lnTo>
                      <a:pt x="492" y="68"/>
                    </a:lnTo>
                    <a:lnTo>
                      <a:pt x="496" y="74"/>
                    </a:lnTo>
                    <a:lnTo>
                      <a:pt x="501" y="83"/>
                    </a:lnTo>
                    <a:lnTo>
                      <a:pt x="505" y="89"/>
                    </a:lnTo>
                    <a:lnTo>
                      <a:pt x="507" y="95"/>
                    </a:lnTo>
                    <a:lnTo>
                      <a:pt x="509" y="98"/>
                    </a:lnTo>
                    <a:lnTo>
                      <a:pt x="511" y="108"/>
                    </a:lnTo>
                    <a:lnTo>
                      <a:pt x="513" y="115"/>
                    </a:lnTo>
                    <a:lnTo>
                      <a:pt x="517" y="125"/>
                    </a:lnTo>
                    <a:lnTo>
                      <a:pt x="517" y="131"/>
                    </a:lnTo>
                    <a:lnTo>
                      <a:pt x="520" y="134"/>
                    </a:lnTo>
                    <a:lnTo>
                      <a:pt x="520" y="140"/>
                    </a:lnTo>
                    <a:lnTo>
                      <a:pt x="524" y="146"/>
                    </a:lnTo>
                    <a:lnTo>
                      <a:pt x="524" y="152"/>
                    </a:lnTo>
                    <a:lnTo>
                      <a:pt x="526" y="157"/>
                    </a:lnTo>
                    <a:lnTo>
                      <a:pt x="528" y="163"/>
                    </a:lnTo>
                    <a:lnTo>
                      <a:pt x="530" y="169"/>
                    </a:lnTo>
                    <a:lnTo>
                      <a:pt x="530" y="174"/>
                    </a:lnTo>
                    <a:lnTo>
                      <a:pt x="532" y="180"/>
                    </a:lnTo>
                    <a:lnTo>
                      <a:pt x="534" y="186"/>
                    </a:lnTo>
                    <a:lnTo>
                      <a:pt x="536" y="192"/>
                    </a:lnTo>
                    <a:lnTo>
                      <a:pt x="537" y="199"/>
                    </a:lnTo>
                    <a:lnTo>
                      <a:pt x="539" y="211"/>
                    </a:lnTo>
                    <a:lnTo>
                      <a:pt x="541" y="218"/>
                    </a:lnTo>
                    <a:lnTo>
                      <a:pt x="541" y="228"/>
                    </a:lnTo>
                    <a:lnTo>
                      <a:pt x="541" y="233"/>
                    </a:lnTo>
                    <a:lnTo>
                      <a:pt x="541" y="241"/>
                    </a:lnTo>
                    <a:lnTo>
                      <a:pt x="539" y="249"/>
                    </a:lnTo>
                    <a:lnTo>
                      <a:pt x="539" y="260"/>
                    </a:lnTo>
                    <a:lnTo>
                      <a:pt x="537" y="268"/>
                    </a:lnTo>
                    <a:lnTo>
                      <a:pt x="537" y="277"/>
                    </a:lnTo>
                    <a:lnTo>
                      <a:pt x="536" y="283"/>
                    </a:lnTo>
                    <a:lnTo>
                      <a:pt x="536" y="288"/>
                    </a:lnTo>
                    <a:lnTo>
                      <a:pt x="536" y="294"/>
                    </a:lnTo>
                    <a:lnTo>
                      <a:pt x="536" y="300"/>
                    </a:lnTo>
                    <a:lnTo>
                      <a:pt x="534" y="304"/>
                    </a:lnTo>
                    <a:lnTo>
                      <a:pt x="534" y="309"/>
                    </a:lnTo>
                    <a:lnTo>
                      <a:pt x="534" y="315"/>
                    </a:lnTo>
                    <a:lnTo>
                      <a:pt x="534" y="321"/>
                    </a:lnTo>
                    <a:lnTo>
                      <a:pt x="534" y="327"/>
                    </a:lnTo>
                    <a:lnTo>
                      <a:pt x="534" y="332"/>
                    </a:lnTo>
                    <a:lnTo>
                      <a:pt x="534" y="338"/>
                    </a:lnTo>
                    <a:lnTo>
                      <a:pt x="534" y="344"/>
                    </a:lnTo>
                    <a:lnTo>
                      <a:pt x="534" y="347"/>
                    </a:lnTo>
                    <a:lnTo>
                      <a:pt x="534" y="353"/>
                    </a:lnTo>
                    <a:lnTo>
                      <a:pt x="534" y="359"/>
                    </a:lnTo>
                    <a:lnTo>
                      <a:pt x="536" y="365"/>
                    </a:lnTo>
                    <a:lnTo>
                      <a:pt x="536" y="368"/>
                    </a:lnTo>
                    <a:lnTo>
                      <a:pt x="537" y="374"/>
                    </a:lnTo>
                    <a:lnTo>
                      <a:pt x="537" y="380"/>
                    </a:lnTo>
                    <a:lnTo>
                      <a:pt x="541" y="385"/>
                    </a:lnTo>
                    <a:lnTo>
                      <a:pt x="543" y="393"/>
                    </a:lnTo>
                    <a:lnTo>
                      <a:pt x="547" y="403"/>
                    </a:lnTo>
                    <a:lnTo>
                      <a:pt x="549" y="412"/>
                    </a:lnTo>
                    <a:lnTo>
                      <a:pt x="553" y="422"/>
                    </a:lnTo>
                    <a:lnTo>
                      <a:pt x="555" y="429"/>
                    </a:lnTo>
                    <a:lnTo>
                      <a:pt x="558" y="439"/>
                    </a:lnTo>
                    <a:lnTo>
                      <a:pt x="562" y="446"/>
                    </a:lnTo>
                    <a:lnTo>
                      <a:pt x="566" y="456"/>
                    </a:lnTo>
                    <a:lnTo>
                      <a:pt x="570" y="461"/>
                    </a:lnTo>
                    <a:lnTo>
                      <a:pt x="572" y="469"/>
                    </a:lnTo>
                    <a:lnTo>
                      <a:pt x="575" y="475"/>
                    </a:lnTo>
                    <a:lnTo>
                      <a:pt x="577" y="480"/>
                    </a:lnTo>
                    <a:lnTo>
                      <a:pt x="579" y="484"/>
                    </a:lnTo>
                    <a:lnTo>
                      <a:pt x="581" y="488"/>
                    </a:lnTo>
                    <a:lnTo>
                      <a:pt x="583" y="492"/>
                    </a:lnTo>
                    <a:lnTo>
                      <a:pt x="585" y="494"/>
                    </a:lnTo>
                    <a:lnTo>
                      <a:pt x="587" y="498"/>
                    </a:lnTo>
                    <a:lnTo>
                      <a:pt x="591" y="503"/>
                    </a:lnTo>
                    <a:lnTo>
                      <a:pt x="598" y="513"/>
                    </a:lnTo>
                    <a:lnTo>
                      <a:pt x="606" y="522"/>
                    </a:lnTo>
                    <a:lnTo>
                      <a:pt x="613" y="532"/>
                    </a:lnTo>
                    <a:lnTo>
                      <a:pt x="621" y="541"/>
                    </a:lnTo>
                    <a:lnTo>
                      <a:pt x="627" y="549"/>
                    </a:lnTo>
                    <a:lnTo>
                      <a:pt x="632" y="557"/>
                    </a:lnTo>
                    <a:lnTo>
                      <a:pt x="636" y="564"/>
                    </a:lnTo>
                    <a:lnTo>
                      <a:pt x="640" y="570"/>
                    </a:lnTo>
                    <a:lnTo>
                      <a:pt x="642" y="574"/>
                    </a:lnTo>
                    <a:lnTo>
                      <a:pt x="644" y="579"/>
                    </a:lnTo>
                    <a:lnTo>
                      <a:pt x="646" y="585"/>
                    </a:lnTo>
                    <a:lnTo>
                      <a:pt x="648" y="595"/>
                    </a:lnTo>
                    <a:lnTo>
                      <a:pt x="650" y="604"/>
                    </a:lnTo>
                    <a:lnTo>
                      <a:pt x="657" y="614"/>
                    </a:lnTo>
                    <a:lnTo>
                      <a:pt x="661" y="619"/>
                    </a:lnTo>
                    <a:lnTo>
                      <a:pt x="667" y="623"/>
                    </a:lnTo>
                    <a:lnTo>
                      <a:pt x="670" y="629"/>
                    </a:lnTo>
                    <a:lnTo>
                      <a:pt x="676" y="634"/>
                    </a:lnTo>
                    <a:lnTo>
                      <a:pt x="682" y="638"/>
                    </a:lnTo>
                    <a:lnTo>
                      <a:pt x="688" y="642"/>
                    </a:lnTo>
                    <a:lnTo>
                      <a:pt x="691" y="646"/>
                    </a:lnTo>
                    <a:lnTo>
                      <a:pt x="697" y="650"/>
                    </a:lnTo>
                    <a:lnTo>
                      <a:pt x="705" y="655"/>
                    </a:lnTo>
                    <a:lnTo>
                      <a:pt x="710" y="661"/>
                    </a:lnTo>
                    <a:lnTo>
                      <a:pt x="712" y="661"/>
                    </a:lnTo>
                    <a:lnTo>
                      <a:pt x="714" y="663"/>
                    </a:lnTo>
                    <a:lnTo>
                      <a:pt x="720" y="665"/>
                    </a:lnTo>
                    <a:lnTo>
                      <a:pt x="726" y="667"/>
                    </a:lnTo>
                    <a:lnTo>
                      <a:pt x="729" y="671"/>
                    </a:lnTo>
                    <a:lnTo>
                      <a:pt x="737" y="673"/>
                    </a:lnTo>
                    <a:lnTo>
                      <a:pt x="745" y="674"/>
                    </a:lnTo>
                    <a:lnTo>
                      <a:pt x="752" y="678"/>
                    </a:lnTo>
                    <a:lnTo>
                      <a:pt x="760" y="680"/>
                    </a:lnTo>
                    <a:lnTo>
                      <a:pt x="765" y="684"/>
                    </a:lnTo>
                    <a:lnTo>
                      <a:pt x="773" y="688"/>
                    </a:lnTo>
                    <a:lnTo>
                      <a:pt x="779" y="692"/>
                    </a:lnTo>
                    <a:lnTo>
                      <a:pt x="784" y="693"/>
                    </a:lnTo>
                    <a:lnTo>
                      <a:pt x="788" y="699"/>
                    </a:lnTo>
                    <a:lnTo>
                      <a:pt x="790" y="703"/>
                    </a:lnTo>
                    <a:lnTo>
                      <a:pt x="794" y="709"/>
                    </a:lnTo>
                    <a:lnTo>
                      <a:pt x="794" y="712"/>
                    </a:lnTo>
                    <a:lnTo>
                      <a:pt x="794" y="718"/>
                    </a:lnTo>
                    <a:lnTo>
                      <a:pt x="794" y="722"/>
                    </a:lnTo>
                    <a:lnTo>
                      <a:pt x="796" y="728"/>
                    </a:lnTo>
                    <a:lnTo>
                      <a:pt x="796" y="733"/>
                    </a:lnTo>
                    <a:lnTo>
                      <a:pt x="796" y="739"/>
                    </a:lnTo>
                    <a:lnTo>
                      <a:pt x="798" y="743"/>
                    </a:lnTo>
                    <a:lnTo>
                      <a:pt x="800" y="749"/>
                    </a:lnTo>
                    <a:lnTo>
                      <a:pt x="800" y="756"/>
                    </a:lnTo>
                    <a:lnTo>
                      <a:pt x="802" y="764"/>
                    </a:lnTo>
                    <a:lnTo>
                      <a:pt x="803" y="769"/>
                    </a:lnTo>
                    <a:lnTo>
                      <a:pt x="803" y="771"/>
                    </a:lnTo>
                    <a:lnTo>
                      <a:pt x="708" y="745"/>
                    </a:lnTo>
                    <a:lnTo>
                      <a:pt x="707" y="743"/>
                    </a:lnTo>
                    <a:lnTo>
                      <a:pt x="705" y="739"/>
                    </a:lnTo>
                    <a:lnTo>
                      <a:pt x="701" y="731"/>
                    </a:lnTo>
                    <a:lnTo>
                      <a:pt x="697" y="724"/>
                    </a:lnTo>
                    <a:lnTo>
                      <a:pt x="691" y="714"/>
                    </a:lnTo>
                    <a:lnTo>
                      <a:pt x="686" y="707"/>
                    </a:lnTo>
                    <a:lnTo>
                      <a:pt x="680" y="699"/>
                    </a:lnTo>
                    <a:lnTo>
                      <a:pt x="676" y="695"/>
                    </a:lnTo>
                    <a:lnTo>
                      <a:pt x="669" y="690"/>
                    </a:lnTo>
                    <a:lnTo>
                      <a:pt x="663" y="688"/>
                    </a:lnTo>
                    <a:lnTo>
                      <a:pt x="655" y="682"/>
                    </a:lnTo>
                    <a:lnTo>
                      <a:pt x="646" y="678"/>
                    </a:lnTo>
                    <a:lnTo>
                      <a:pt x="638" y="674"/>
                    </a:lnTo>
                    <a:lnTo>
                      <a:pt x="632" y="671"/>
                    </a:lnTo>
                    <a:lnTo>
                      <a:pt x="627" y="667"/>
                    </a:lnTo>
                    <a:lnTo>
                      <a:pt x="621" y="661"/>
                    </a:lnTo>
                    <a:lnTo>
                      <a:pt x="613" y="653"/>
                    </a:lnTo>
                    <a:lnTo>
                      <a:pt x="606" y="646"/>
                    </a:lnTo>
                    <a:lnTo>
                      <a:pt x="598" y="638"/>
                    </a:lnTo>
                    <a:lnTo>
                      <a:pt x="591" y="629"/>
                    </a:lnTo>
                    <a:lnTo>
                      <a:pt x="585" y="623"/>
                    </a:lnTo>
                    <a:lnTo>
                      <a:pt x="581" y="617"/>
                    </a:lnTo>
                    <a:lnTo>
                      <a:pt x="577" y="614"/>
                    </a:lnTo>
                    <a:lnTo>
                      <a:pt x="574" y="608"/>
                    </a:lnTo>
                    <a:lnTo>
                      <a:pt x="566" y="598"/>
                    </a:lnTo>
                    <a:lnTo>
                      <a:pt x="560" y="589"/>
                    </a:lnTo>
                    <a:lnTo>
                      <a:pt x="553" y="579"/>
                    </a:lnTo>
                    <a:lnTo>
                      <a:pt x="547" y="570"/>
                    </a:lnTo>
                    <a:lnTo>
                      <a:pt x="541" y="562"/>
                    </a:lnTo>
                    <a:lnTo>
                      <a:pt x="539" y="555"/>
                    </a:lnTo>
                    <a:lnTo>
                      <a:pt x="534" y="547"/>
                    </a:lnTo>
                    <a:lnTo>
                      <a:pt x="530" y="541"/>
                    </a:lnTo>
                    <a:lnTo>
                      <a:pt x="526" y="534"/>
                    </a:lnTo>
                    <a:lnTo>
                      <a:pt x="524" y="532"/>
                    </a:lnTo>
                    <a:lnTo>
                      <a:pt x="520" y="524"/>
                    </a:lnTo>
                    <a:lnTo>
                      <a:pt x="520" y="522"/>
                    </a:lnTo>
                    <a:lnTo>
                      <a:pt x="518" y="519"/>
                    </a:lnTo>
                    <a:lnTo>
                      <a:pt x="513" y="513"/>
                    </a:lnTo>
                    <a:lnTo>
                      <a:pt x="509" y="507"/>
                    </a:lnTo>
                    <a:lnTo>
                      <a:pt x="505" y="501"/>
                    </a:lnTo>
                    <a:lnTo>
                      <a:pt x="501" y="494"/>
                    </a:lnTo>
                    <a:lnTo>
                      <a:pt x="498" y="488"/>
                    </a:lnTo>
                    <a:lnTo>
                      <a:pt x="494" y="480"/>
                    </a:lnTo>
                    <a:lnTo>
                      <a:pt x="490" y="475"/>
                    </a:lnTo>
                    <a:lnTo>
                      <a:pt x="486" y="469"/>
                    </a:lnTo>
                    <a:lnTo>
                      <a:pt x="482" y="463"/>
                    </a:lnTo>
                    <a:lnTo>
                      <a:pt x="480" y="458"/>
                    </a:lnTo>
                    <a:lnTo>
                      <a:pt x="477" y="452"/>
                    </a:lnTo>
                    <a:lnTo>
                      <a:pt x="477" y="448"/>
                    </a:lnTo>
                    <a:lnTo>
                      <a:pt x="477" y="446"/>
                    </a:lnTo>
                    <a:lnTo>
                      <a:pt x="475" y="442"/>
                    </a:lnTo>
                    <a:lnTo>
                      <a:pt x="475" y="439"/>
                    </a:lnTo>
                    <a:lnTo>
                      <a:pt x="473" y="433"/>
                    </a:lnTo>
                    <a:lnTo>
                      <a:pt x="473" y="429"/>
                    </a:lnTo>
                    <a:lnTo>
                      <a:pt x="469" y="422"/>
                    </a:lnTo>
                    <a:lnTo>
                      <a:pt x="467" y="416"/>
                    </a:lnTo>
                    <a:lnTo>
                      <a:pt x="465" y="408"/>
                    </a:lnTo>
                    <a:lnTo>
                      <a:pt x="465" y="403"/>
                    </a:lnTo>
                    <a:lnTo>
                      <a:pt x="461" y="395"/>
                    </a:lnTo>
                    <a:lnTo>
                      <a:pt x="461" y="387"/>
                    </a:lnTo>
                    <a:lnTo>
                      <a:pt x="459" y="378"/>
                    </a:lnTo>
                    <a:lnTo>
                      <a:pt x="459" y="370"/>
                    </a:lnTo>
                    <a:lnTo>
                      <a:pt x="459" y="363"/>
                    </a:lnTo>
                    <a:lnTo>
                      <a:pt x="459" y="353"/>
                    </a:lnTo>
                    <a:lnTo>
                      <a:pt x="459" y="346"/>
                    </a:lnTo>
                    <a:lnTo>
                      <a:pt x="461" y="338"/>
                    </a:lnTo>
                    <a:lnTo>
                      <a:pt x="461" y="330"/>
                    </a:lnTo>
                    <a:lnTo>
                      <a:pt x="463" y="321"/>
                    </a:lnTo>
                    <a:lnTo>
                      <a:pt x="463" y="313"/>
                    </a:lnTo>
                    <a:lnTo>
                      <a:pt x="465" y="304"/>
                    </a:lnTo>
                    <a:lnTo>
                      <a:pt x="465" y="296"/>
                    </a:lnTo>
                    <a:lnTo>
                      <a:pt x="467" y="287"/>
                    </a:lnTo>
                    <a:lnTo>
                      <a:pt x="467" y="279"/>
                    </a:lnTo>
                    <a:lnTo>
                      <a:pt x="469" y="271"/>
                    </a:lnTo>
                    <a:lnTo>
                      <a:pt x="469" y="266"/>
                    </a:lnTo>
                    <a:lnTo>
                      <a:pt x="469" y="260"/>
                    </a:lnTo>
                    <a:lnTo>
                      <a:pt x="469" y="252"/>
                    </a:lnTo>
                    <a:lnTo>
                      <a:pt x="469" y="249"/>
                    </a:lnTo>
                    <a:lnTo>
                      <a:pt x="469" y="243"/>
                    </a:lnTo>
                    <a:lnTo>
                      <a:pt x="471" y="241"/>
                    </a:lnTo>
                    <a:lnTo>
                      <a:pt x="469" y="237"/>
                    </a:lnTo>
                    <a:lnTo>
                      <a:pt x="469" y="231"/>
                    </a:lnTo>
                    <a:lnTo>
                      <a:pt x="467" y="228"/>
                    </a:lnTo>
                    <a:lnTo>
                      <a:pt x="467" y="222"/>
                    </a:lnTo>
                    <a:lnTo>
                      <a:pt x="465" y="216"/>
                    </a:lnTo>
                    <a:lnTo>
                      <a:pt x="465" y="211"/>
                    </a:lnTo>
                    <a:lnTo>
                      <a:pt x="463" y="205"/>
                    </a:lnTo>
                    <a:lnTo>
                      <a:pt x="463" y="197"/>
                    </a:lnTo>
                    <a:lnTo>
                      <a:pt x="461" y="190"/>
                    </a:lnTo>
                    <a:lnTo>
                      <a:pt x="461" y="182"/>
                    </a:lnTo>
                    <a:lnTo>
                      <a:pt x="459" y="173"/>
                    </a:lnTo>
                    <a:lnTo>
                      <a:pt x="458" y="165"/>
                    </a:lnTo>
                    <a:lnTo>
                      <a:pt x="458" y="155"/>
                    </a:lnTo>
                    <a:lnTo>
                      <a:pt x="458" y="148"/>
                    </a:lnTo>
                    <a:lnTo>
                      <a:pt x="456" y="138"/>
                    </a:lnTo>
                    <a:lnTo>
                      <a:pt x="454" y="131"/>
                    </a:lnTo>
                    <a:lnTo>
                      <a:pt x="450" y="123"/>
                    </a:lnTo>
                    <a:lnTo>
                      <a:pt x="446" y="115"/>
                    </a:lnTo>
                    <a:lnTo>
                      <a:pt x="440" y="110"/>
                    </a:lnTo>
                    <a:lnTo>
                      <a:pt x="437" y="104"/>
                    </a:lnTo>
                    <a:lnTo>
                      <a:pt x="431" y="98"/>
                    </a:lnTo>
                    <a:lnTo>
                      <a:pt x="425" y="95"/>
                    </a:lnTo>
                    <a:lnTo>
                      <a:pt x="420" y="89"/>
                    </a:lnTo>
                    <a:lnTo>
                      <a:pt x="416" y="87"/>
                    </a:lnTo>
                    <a:lnTo>
                      <a:pt x="410" y="83"/>
                    </a:lnTo>
                    <a:lnTo>
                      <a:pt x="406" y="81"/>
                    </a:lnTo>
                    <a:lnTo>
                      <a:pt x="401" y="77"/>
                    </a:lnTo>
                    <a:lnTo>
                      <a:pt x="399" y="77"/>
                    </a:lnTo>
                    <a:lnTo>
                      <a:pt x="395" y="77"/>
                    </a:lnTo>
                    <a:lnTo>
                      <a:pt x="391" y="76"/>
                    </a:lnTo>
                    <a:lnTo>
                      <a:pt x="383" y="74"/>
                    </a:lnTo>
                    <a:lnTo>
                      <a:pt x="376" y="72"/>
                    </a:lnTo>
                    <a:lnTo>
                      <a:pt x="366" y="70"/>
                    </a:lnTo>
                    <a:lnTo>
                      <a:pt x="359" y="68"/>
                    </a:lnTo>
                    <a:lnTo>
                      <a:pt x="351" y="66"/>
                    </a:lnTo>
                    <a:lnTo>
                      <a:pt x="345" y="66"/>
                    </a:lnTo>
                    <a:lnTo>
                      <a:pt x="340" y="66"/>
                    </a:lnTo>
                    <a:lnTo>
                      <a:pt x="330" y="72"/>
                    </a:lnTo>
                    <a:lnTo>
                      <a:pt x="325" y="74"/>
                    </a:lnTo>
                    <a:lnTo>
                      <a:pt x="321" y="77"/>
                    </a:lnTo>
                    <a:lnTo>
                      <a:pt x="315" y="81"/>
                    </a:lnTo>
                    <a:lnTo>
                      <a:pt x="311" y="85"/>
                    </a:lnTo>
                    <a:lnTo>
                      <a:pt x="306" y="87"/>
                    </a:lnTo>
                    <a:lnTo>
                      <a:pt x="300" y="91"/>
                    </a:lnTo>
                    <a:lnTo>
                      <a:pt x="296" y="95"/>
                    </a:lnTo>
                    <a:lnTo>
                      <a:pt x="292" y="98"/>
                    </a:lnTo>
                    <a:lnTo>
                      <a:pt x="285" y="104"/>
                    </a:lnTo>
                    <a:lnTo>
                      <a:pt x="281" y="106"/>
                    </a:lnTo>
                    <a:lnTo>
                      <a:pt x="277" y="106"/>
                    </a:lnTo>
                    <a:lnTo>
                      <a:pt x="273" y="108"/>
                    </a:lnTo>
                    <a:lnTo>
                      <a:pt x="268" y="108"/>
                    </a:lnTo>
                    <a:lnTo>
                      <a:pt x="262" y="108"/>
                    </a:lnTo>
                    <a:lnTo>
                      <a:pt x="254" y="108"/>
                    </a:lnTo>
                    <a:lnTo>
                      <a:pt x="249" y="110"/>
                    </a:lnTo>
                    <a:lnTo>
                      <a:pt x="241" y="110"/>
                    </a:lnTo>
                    <a:lnTo>
                      <a:pt x="233" y="112"/>
                    </a:lnTo>
                    <a:lnTo>
                      <a:pt x="226" y="112"/>
                    </a:lnTo>
                    <a:lnTo>
                      <a:pt x="218" y="112"/>
                    </a:lnTo>
                    <a:lnTo>
                      <a:pt x="211" y="112"/>
                    </a:lnTo>
                    <a:lnTo>
                      <a:pt x="205" y="114"/>
                    </a:lnTo>
                    <a:lnTo>
                      <a:pt x="199" y="114"/>
                    </a:lnTo>
                    <a:lnTo>
                      <a:pt x="193" y="115"/>
                    </a:lnTo>
                    <a:lnTo>
                      <a:pt x="190" y="115"/>
                    </a:lnTo>
                    <a:lnTo>
                      <a:pt x="188" y="117"/>
                    </a:lnTo>
                    <a:lnTo>
                      <a:pt x="184" y="119"/>
                    </a:lnTo>
                    <a:lnTo>
                      <a:pt x="178" y="121"/>
                    </a:lnTo>
                    <a:lnTo>
                      <a:pt x="173" y="121"/>
                    </a:lnTo>
                    <a:lnTo>
                      <a:pt x="163" y="123"/>
                    </a:lnTo>
                    <a:lnTo>
                      <a:pt x="157" y="123"/>
                    </a:lnTo>
                    <a:lnTo>
                      <a:pt x="154" y="125"/>
                    </a:lnTo>
                    <a:lnTo>
                      <a:pt x="148" y="125"/>
                    </a:lnTo>
                    <a:lnTo>
                      <a:pt x="142" y="127"/>
                    </a:lnTo>
                    <a:lnTo>
                      <a:pt x="136" y="127"/>
                    </a:lnTo>
                    <a:lnTo>
                      <a:pt x="131" y="129"/>
                    </a:lnTo>
                    <a:lnTo>
                      <a:pt x="125" y="129"/>
                    </a:lnTo>
                    <a:lnTo>
                      <a:pt x="119" y="131"/>
                    </a:lnTo>
                    <a:lnTo>
                      <a:pt x="112" y="131"/>
                    </a:lnTo>
                    <a:lnTo>
                      <a:pt x="108" y="131"/>
                    </a:lnTo>
                    <a:lnTo>
                      <a:pt x="100" y="131"/>
                    </a:lnTo>
                    <a:lnTo>
                      <a:pt x="95" y="131"/>
                    </a:lnTo>
                    <a:lnTo>
                      <a:pt x="89" y="131"/>
                    </a:lnTo>
                    <a:lnTo>
                      <a:pt x="83" y="131"/>
                    </a:lnTo>
                    <a:lnTo>
                      <a:pt x="79" y="131"/>
                    </a:lnTo>
                    <a:lnTo>
                      <a:pt x="74" y="131"/>
                    </a:lnTo>
                    <a:lnTo>
                      <a:pt x="64" y="131"/>
                    </a:lnTo>
                    <a:lnTo>
                      <a:pt x="57" y="131"/>
                    </a:lnTo>
                    <a:lnTo>
                      <a:pt x="51" y="129"/>
                    </a:lnTo>
                    <a:lnTo>
                      <a:pt x="47" y="127"/>
                    </a:lnTo>
                    <a:lnTo>
                      <a:pt x="45" y="121"/>
                    </a:lnTo>
                    <a:lnTo>
                      <a:pt x="41" y="117"/>
                    </a:lnTo>
                    <a:lnTo>
                      <a:pt x="38" y="110"/>
                    </a:lnTo>
                    <a:lnTo>
                      <a:pt x="34" y="104"/>
                    </a:lnTo>
                    <a:lnTo>
                      <a:pt x="30" y="96"/>
                    </a:lnTo>
                    <a:lnTo>
                      <a:pt x="26" y="89"/>
                    </a:lnTo>
                    <a:lnTo>
                      <a:pt x="20" y="81"/>
                    </a:lnTo>
                    <a:lnTo>
                      <a:pt x="19" y="74"/>
                    </a:lnTo>
                    <a:lnTo>
                      <a:pt x="13" y="66"/>
                    </a:lnTo>
                    <a:lnTo>
                      <a:pt x="9" y="58"/>
                    </a:lnTo>
                    <a:lnTo>
                      <a:pt x="7" y="51"/>
                    </a:lnTo>
                    <a:lnTo>
                      <a:pt x="5" y="45"/>
                    </a:lnTo>
                    <a:lnTo>
                      <a:pt x="1" y="38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8"/>
              <p:cNvSpPr/>
              <p:nvPr/>
            </p:nvSpPr>
            <p:spPr>
              <a:xfrm>
                <a:off x="4014360" y="6166080"/>
                <a:ext cx="1362240" cy="425520"/>
              </a:xfrm>
              <a:custGeom>
                <a:avLst/>
                <a:gdLst>
                  <a:gd name="textAreaLeft" fmla="*/ 0 w 1362240"/>
                  <a:gd name="textAreaRight" fmla="*/ 1362600 w 136224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1717" h="536">
                    <a:moveTo>
                      <a:pt x="706" y="536"/>
                    </a:moveTo>
                    <a:lnTo>
                      <a:pt x="740" y="359"/>
                    </a:lnTo>
                    <a:lnTo>
                      <a:pt x="742" y="357"/>
                    </a:lnTo>
                    <a:lnTo>
                      <a:pt x="745" y="357"/>
                    </a:lnTo>
                    <a:lnTo>
                      <a:pt x="749" y="355"/>
                    </a:lnTo>
                    <a:lnTo>
                      <a:pt x="759" y="353"/>
                    </a:lnTo>
                    <a:lnTo>
                      <a:pt x="763" y="353"/>
                    </a:lnTo>
                    <a:lnTo>
                      <a:pt x="766" y="351"/>
                    </a:lnTo>
                    <a:lnTo>
                      <a:pt x="772" y="351"/>
                    </a:lnTo>
                    <a:lnTo>
                      <a:pt x="780" y="349"/>
                    </a:lnTo>
                    <a:lnTo>
                      <a:pt x="785" y="348"/>
                    </a:lnTo>
                    <a:lnTo>
                      <a:pt x="793" y="348"/>
                    </a:lnTo>
                    <a:lnTo>
                      <a:pt x="801" y="346"/>
                    </a:lnTo>
                    <a:lnTo>
                      <a:pt x="808" y="346"/>
                    </a:lnTo>
                    <a:lnTo>
                      <a:pt x="816" y="342"/>
                    </a:lnTo>
                    <a:lnTo>
                      <a:pt x="823" y="342"/>
                    </a:lnTo>
                    <a:lnTo>
                      <a:pt x="833" y="338"/>
                    </a:lnTo>
                    <a:lnTo>
                      <a:pt x="842" y="338"/>
                    </a:lnTo>
                    <a:lnTo>
                      <a:pt x="850" y="334"/>
                    </a:lnTo>
                    <a:lnTo>
                      <a:pt x="861" y="334"/>
                    </a:lnTo>
                    <a:lnTo>
                      <a:pt x="869" y="330"/>
                    </a:lnTo>
                    <a:lnTo>
                      <a:pt x="880" y="330"/>
                    </a:lnTo>
                    <a:lnTo>
                      <a:pt x="890" y="327"/>
                    </a:lnTo>
                    <a:lnTo>
                      <a:pt x="899" y="325"/>
                    </a:lnTo>
                    <a:lnTo>
                      <a:pt x="911" y="323"/>
                    </a:lnTo>
                    <a:lnTo>
                      <a:pt x="922" y="321"/>
                    </a:lnTo>
                    <a:lnTo>
                      <a:pt x="934" y="319"/>
                    </a:lnTo>
                    <a:lnTo>
                      <a:pt x="945" y="317"/>
                    </a:lnTo>
                    <a:lnTo>
                      <a:pt x="956" y="315"/>
                    </a:lnTo>
                    <a:lnTo>
                      <a:pt x="968" y="313"/>
                    </a:lnTo>
                    <a:lnTo>
                      <a:pt x="977" y="311"/>
                    </a:lnTo>
                    <a:lnTo>
                      <a:pt x="989" y="308"/>
                    </a:lnTo>
                    <a:lnTo>
                      <a:pt x="1000" y="306"/>
                    </a:lnTo>
                    <a:lnTo>
                      <a:pt x="1011" y="304"/>
                    </a:lnTo>
                    <a:lnTo>
                      <a:pt x="1023" y="302"/>
                    </a:lnTo>
                    <a:lnTo>
                      <a:pt x="1034" y="300"/>
                    </a:lnTo>
                    <a:lnTo>
                      <a:pt x="1046" y="298"/>
                    </a:lnTo>
                    <a:lnTo>
                      <a:pt x="1055" y="296"/>
                    </a:lnTo>
                    <a:lnTo>
                      <a:pt x="1067" y="292"/>
                    </a:lnTo>
                    <a:lnTo>
                      <a:pt x="1076" y="291"/>
                    </a:lnTo>
                    <a:lnTo>
                      <a:pt x="1088" y="291"/>
                    </a:lnTo>
                    <a:lnTo>
                      <a:pt x="1099" y="287"/>
                    </a:lnTo>
                    <a:lnTo>
                      <a:pt x="1108" y="285"/>
                    </a:lnTo>
                    <a:lnTo>
                      <a:pt x="1118" y="285"/>
                    </a:lnTo>
                    <a:lnTo>
                      <a:pt x="1129" y="283"/>
                    </a:lnTo>
                    <a:lnTo>
                      <a:pt x="1139" y="281"/>
                    </a:lnTo>
                    <a:lnTo>
                      <a:pt x="1148" y="279"/>
                    </a:lnTo>
                    <a:lnTo>
                      <a:pt x="1158" y="277"/>
                    </a:lnTo>
                    <a:lnTo>
                      <a:pt x="1167" y="275"/>
                    </a:lnTo>
                    <a:lnTo>
                      <a:pt x="1177" y="273"/>
                    </a:lnTo>
                    <a:lnTo>
                      <a:pt x="1184" y="271"/>
                    </a:lnTo>
                    <a:lnTo>
                      <a:pt x="1192" y="271"/>
                    </a:lnTo>
                    <a:lnTo>
                      <a:pt x="1200" y="270"/>
                    </a:lnTo>
                    <a:lnTo>
                      <a:pt x="1209" y="270"/>
                    </a:lnTo>
                    <a:lnTo>
                      <a:pt x="1215" y="268"/>
                    </a:lnTo>
                    <a:lnTo>
                      <a:pt x="1222" y="266"/>
                    </a:lnTo>
                    <a:lnTo>
                      <a:pt x="1228" y="266"/>
                    </a:lnTo>
                    <a:lnTo>
                      <a:pt x="1234" y="266"/>
                    </a:lnTo>
                    <a:lnTo>
                      <a:pt x="1240" y="264"/>
                    </a:lnTo>
                    <a:lnTo>
                      <a:pt x="1243" y="264"/>
                    </a:lnTo>
                    <a:lnTo>
                      <a:pt x="1249" y="264"/>
                    </a:lnTo>
                    <a:lnTo>
                      <a:pt x="1253" y="264"/>
                    </a:lnTo>
                    <a:lnTo>
                      <a:pt x="1260" y="262"/>
                    </a:lnTo>
                    <a:lnTo>
                      <a:pt x="1270" y="262"/>
                    </a:lnTo>
                    <a:lnTo>
                      <a:pt x="1278" y="260"/>
                    </a:lnTo>
                    <a:lnTo>
                      <a:pt x="1289" y="258"/>
                    </a:lnTo>
                    <a:lnTo>
                      <a:pt x="1293" y="258"/>
                    </a:lnTo>
                    <a:lnTo>
                      <a:pt x="1298" y="256"/>
                    </a:lnTo>
                    <a:lnTo>
                      <a:pt x="1304" y="256"/>
                    </a:lnTo>
                    <a:lnTo>
                      <a:pt x="1308" y="254"/>
                    </a:lnTo>
                    <a:lnTo>
                      <a:pt x="1314" y="254"/>
                    </a:lnTo>
                    <a:lnTo>
                      <a:pt x="1319" y="252"/>
                    </a:lnTo>
                    <a:lnTo>
                      <a:pt x="1325" y="252"/>
                    </a:lnTo>
                    <a:lnTo>
                      <a:pt x="1333" y="252"/>
                    </a:lnTo>
                    <a:lnTo>
                      <a:pt x="1338" y="251"/>
                    </a:lnTo>
                    <a:lnTo>
                      <a:pt x="1344" y="249"/>
                    </a:lnTo>
                    <a:lnTo>
                      <a:pt x="1350" y="249"/>
                    </a:lnTo>
                    <a:lnTo>
                      <a:pt x="1355" y="247"/>
                    </a:lnTo>
                    <a:lnTo>
                      <a:pt x="1361" y="245"/>
                    </a:lnTo>
                    <a:lnTo>
                      <a:pt x="1369" y="245"/>
                    </a:lnTo>
                    <a:lnTo>
                      <a:pt x="1374" y="243"/>
                    </a:lnTo>
                    <a:lnTo>
                      <a:pt x="1380" y="243"/>
                    </a:lnTo>
                    <a:lnTo>
                      <a:pt x="1386" y="241"/>
                    </a:lnTo>
                    <a:lnTo>
                      <a:pt x="1393" y="241"/>
                    </a:lnTo>
                    <a:lnTo>
                      <a:pt x="1399" y="239"/>
                    </a:lnTo>
                    <a:lnTo>
                      <a:pt x="1407" y="239"/>
                    </a:lnTo>
                    <a:lnTo>
                      <a:pt x="1412" y="237"/>
                    </a:lnTo>
                    <a:lnTo>
                      <a:pt x="1418" y="237"/>
                    </a:lnTo>
                    <a:lnTo>
                      <a:pt x="1426" y="235"/>
                    </a:lnTo>
                    <a:lnTo>
                      <a:pt x="1431" y="235"/>
                    </a:lnTo>
                    <a:lnTo>
                      <a:pt x="1437" y="233"/>
                    </a:lnTo>
                    <a:lnTo>
                      <a:pt x="1443" y="232"/>
                    </a:lnTo>
                    <a:lnTo>
                      <a:pt x="1449" y="232"/>
                    </a:lnTo>
                    <a:lnTo>
                      <a:pt x="1454" y="230"/>
                    </a:lnTo>
                    <a:lnTo>
                      <a:pt x="1460" y="228"/>
                    </a:lnTo>
                    <a:lnTo>
                      <a:pt x="1466" y="228"/>
                    </a:lnTo>
                    <a:lnTo>
                      <a:pt x="1471" y="226"/>
                    </a:lnTo>
                    <a:lnTo>
                      <a:pt x="1477" y="226"/>
                    </a:lnTo>
                    <a:lnTo>
                      <a:pt x="1485" y="224"/>
                    </a:lnTo>
                    <a:lnTo>
                      <a:pt x="1496" y="222"/>
                    </a:lnTo>
                    <a:lnTo>
                      <a:pt x="1506" y="222"/>
                    </a:lnTo>
                    <a:lnTo>
                      <a:pt x="1515" y="220"/>
                    </a:lnTo>
                    <a:lnTo>
                      <a:pt x="1523" y="216"/>
                    </a:lnTo>
                    <a:lnTo>
                      <a:pt x="1528" y="216"/>
                    </a:lnTo>
                    <a:lnTo>
                      <a:pt x="1534" y="214"/>
                    </a:lnTo>
                    <a:lnTo>
                      <a:pt x="1542" y="214"/>
                    </a:lnTo>
                    <a:lnTo>
                      <a:pt x="1549" y="214"/>
                    </a:lnTo>
                    <a:lnTo>
                      <a:pt x="1551" y="214"/>
                    </a:lnTo>
                    <a:lnTo>
                      <a:pt x="1599" y="308"/>
                    </a:lnTo>
                    <a:lnTo>
                      <a:pt x="1625" y="353"/>
                    </a:lnTo>
                    <a:lnTo>
                      <a:pt x="1717" y="336"/>
                    </a:lnTo>
                    <a:lnTo>
                      <a:pt x="1580" y="135"/>
                    </a:lnTo>
                    <a:lnTo>
                      <a:pt x="890" y="0"/>
                    </a:lnTo>
                    <a:lnTo>
                      <a:pt x="890" y="60"/>
                    </a:lnTo>
                    <a:lnTo>
                      <a:pt x="1397" y="165"/>
                    </a:lnTo>
                    <a:lnTo>
                      <a:pt x="1395" y="165"/>
                    </a:lnTo>
                    <a:lnTo>
                      <a:pt x="1390" y="165"/>
                    </a:lnTo>
                    <a:lnTo>
                      <a:pt x="1386" y="165"/>
                    </a:lnTo>
                    <a:lnTo>
                      <a:pt x="1382" y="167"/>
                    </a:lnTo>
                    <a:lnTo>
                      <a:pt x="1376" y="167"/>
                    </a:lnTo>
                    <a:lnTo>
                      <a:pt x="1371" y="169"/>
                    </a:lnTo>
                    <a:lnTo>
                      <a:pt x="1363" y="169"/>
                    </a:lnTo>
                    <a:lnTo>
                      <a:pt x="1357" y="171"/>
                    </a:lnTo>
                    <a:lnTo>
                      <a:pt x="1348" y="173"/>
                    </a:lnTo>
                    <a:lnTo>
                      <a:pt x="1340" y="175"/>
                    </a:lnTo>
                    <a:lnTo>
                      <a:pt x="1331" y="175"/>
                    </a:lnTo>
                    <a:lnTo>
                      <a:pt x="1321" y="178"/>
                    </a:lnTo>
                    <a:lnTo>
                      <a:pt x="1310" y="178"/>
                    </a:lnTo>
                    <a:lnTo>
                      <a:pt x="1300" y="182"/>
                    </a:lnTo>
                    <a:lnTo>
                      <a:pt x="1289" y="182"/>
                    </a:lnTo>
                    <a:lnTo>
                      <a:pt x="1278" y="184"/>
                    </a:lnTo>
                    <a:lnTo>
                      <a:pt x="1266" y="186"/>
                    </a:lnTo>
                    <a:lnTo>
                      <a:pt x="1255" y="190"/>
                    </a:lnTo>
                    <a:lnTo>
                      <a:pt x="1241" y="192"/>
                    </a:lnTo>
                    <a:lnTo>
                      <a:pt x="1228" y="194"/>
                    </a:lnTo>
                    <a:lnTo>
                      <a:pt x="1215" y="197"/>
                    </a:lnTo>
                    <a:lnTo>
                      <a:pt x="1202" y="199"/>
                    </a:lnTo>
                    <a:lnTo>
                      <a:pt x="1188" y="201"/>
                    </a:lnTo>
                    <a:lnTo>
                      <a:pt x="1175" y="205"/>
                    </a:lnTo>
                    <a:lnTo>
                      <a:pt x="1160" y="207"/>
                    </a:lnTo>
                    <a:lnTo>
                      <a:pt x="1146" y="209"/>
                    </a:lnTo>
                    <a:lnTo>
                      <a:pt x="1131" y="213"/>
                    </a:lnTo>
                    <a:lnTo>
                      <a:pt x="1118" y="214"/>
                    </a:lnTo>
                    <a:lnTo>
                      <a:pt x="1103" y="216"/>
                    </a:lnTo>
                    <a:lnTo>
                      <a:pt x="1088" y="220"/>
                    </a:lnTo>
                    <a:lnTo>
                      <a:pt x="1072" y="222"/>
                    </a:lnTo>
                    <a:lnTo>
                      <a:pt x="1057" y="224"/>
                    </a:lnTo>
                    <a:lnTo>
                      <a:pt x="1042" y="228"/>
                    </a:lnTo>
                    <a:lnTo>
                      <a:pt x="1027" y="230"/>
                    </a:lnTo>
                    <a:lnTo>
                      <a:pt x="1011" y="232"/>
                    </a:lnTo>
                    <a:lnTo>
                      <a:pt x="998" y="235"/>
                    </a:lnTo>
                    <a:lnTo>
                      <a:pt x="985" y="237"/>
                    </a:lnTo>
                    <a:lnTo>
                      <a:pt x="970" y="241"/>
                    </a:lnTo>
                    <a:lnTo>
                      <a:pt x="954" y="243"/>
                    </a:lnTo>
                    <a:lnTo>
                      <a:pt x="941" y="245"/>
                    </a:lnTo>
                    <a:lnTo>
                      <a:pt x="928" y="247"/>
                    </a:lnTo>
                    <a:lnTo>
                      <a:pt x="915" y="251"/>
                    </a:lnTo>
                    <a:lnTo>
                      <a:pt x="901" y="252"/>
                    </a:lnTo>
                    <a:lnTo>
                      <a:pt x="888" y="254"/>
                    </a:lnTo>
                    <a:lnTo>
                      <a:pt x="875" y="258"/>
                    </a:lnTo>
                    <a:lnTo>
                      <a:pt x="865" y="260"/>
                    </a:lnTo>
                    <a:lnTo>
                      <a:pt x="852" y="262"/>
                    </a:lnTo>
                    <a:lnTo>
                      <a:pt x="840" y="264"/>
                    </a:lnTo>
                    <a:lnTo>
                      <a:pt x="829" y="266"/>
                    </a:lnTo>
                    <a:lnTo>
                      <a:pt x="818" y="268"/>
                    </a:lnTo>
                    <a:lnTo>
                      <a:pt x="806" y="270"/>
                    </a:lnTo>
                    <a:lnTo>
                      <a:pt x="799" y="271"/>
                    </a:lnTo>
                    <a:lnTo>
                      <a:pt x="789" y="273"/>
                    </a:lnTo>
                    <a:lnTo>
                      <a:pt x="782" y="277"/>
                    </a:lnTo>
                    <a:lnTo>
                      <a:pt x="774" y="277"/>
                    </a:lnTo>
                    <a:lnTo>
                      <a:pt x="766" y="279"/>
                    </a:lnTo>
                    <a:lnTo>
                      <a:pt x="761" y="279"/>
                    </a:lnTo>
                    <a:lnTo>
                      <a:pt x="755" y="281"/>
                    </a:lnTo>
                    <a:lnTo>
                      <a:pt x="745" y="285"/>
                    </a:lnTo>
                    <a:lnTo>
                      <a:pt x="740" y="287"/>
                    </a:lnTo>
                    <a:lnTo>
                      <a:pt x="738" y="285"/>
                    </a:lnTo>
                    <a:lnTo>
                      <a:pt x="736" y="285"/>
                    </a:lnTo>
                    <a:lnTo>
                      <a:pt x="730" y="283"/>
                    </a:lnTo>
                    <a:lnTo>
                      <a:pt x="723" y="283"/>
                    </a:lnTo>
                    <a:lnTo>
                      <a:pt x="715" y="279"/>
                    </a:lnTo>
                    <a:lnTo>
                      <a:pt x="706" y="277"/>
                    </a:lnTo>
                    <a:lnTo>
                      <a:pt x="698" y="275"/>
                    </a:lnTo>
                    <a:lnTo>
                      <a:pt x="692" y="275"/>
                    </a:lnTo>
                    <a:lnTo>
                      <a:pt x="688" y="273"/>
                    </a:lnTo>
                    <a:lnTo>
                      <a:pt x="683" y="273"/>
                    </a:lnTo>
                    <a:lnTo>
                      <a:pt x="675" y="271"/>
                    </a:lnTo>
                    <a:lnTo>
                      <a:pt x="668" y="270"/>
                    </a:lnTo>
                    <a:lnTo>
                      <a:pt x="660" y="268"/>
                    </a:lnTo>
                    <a:lnTo>
                      <a:pt x="652" y="266"/>
                    </a:lnTo>
                    <a:lnTo>
                      <a:pt x="643" y="264"/>
                    </a:lnTo>
                    <a:lnTo>
                      <a:pt x="635" y="262"/>
                    </a:lnTo>
                    <a:lnTo>
                      <a:pt x="628" y="260"/>
                    </a:lnTo>
                    <a:lnTo>
                      <a:pt x="620" y="258"/>
                    </a:lnTo>
                    <a:lnTo>
                      <a:pt x="610" y="256"/>
                    </a:lnTo>
                    <a:lnTo>
                      <a:pt x="603" y="254"/>
                    </a:lnTo>
                    <a:lnTo>
                      <a:pt x="593" y="252"/>
                    </a:lnTo>
                    <a:lnTo>
                      <a:pt x="584" y="251"/>
                    </a:lnTo>
                    <a:lnTo>
                      <a:pt x="574" y="247"/>
                    </a:lnTo>
                    <a:lnTo>
                      <a:pt x="567" y="245"/>
                    </a:lnTo>
                    <a:lnTo>
                      <a:pt x="557" y="243"/>
                    </a:lnTo>
                    <a:lnTo>
                      <a:pt x="550" y="241"/>
                    </a:lnTo>
                    <a:lnTo>
                      <a:pt x="538" y="239"/>
                    </a:lnTo>
                    <a:lnTo>
                      <a:pt x="529" y="235"/>
                    </a:lnTo>
                    <a:lnTo>
                      <a:pt x="519" y="233"/>
                    </a:lnTo>
                    <a:lnTo>
                      <a:pt x="510" y="232"/>
                    </a:lnTo>
                    <a:lnTo>
                      <a:pt x="500" y="228"/>
                    </a:lnTo>
                    <a:lnTo>
                      <a:pt x="491" y="226"/>
                    </a:lnTo>
                    <a:lnTo>
                      <a:pt x="481" y="222"/>
                    </a:lnTo>
                    <a:lnTo>
                      <a:pt x="472" y="222"/>
                    </a:lnTo>
                    <a:lnTo>
                      <a:pt x="462" y="218"/>
                    </a:lnTo>
                    <a:lnTo>
                      <a:pt x="453" y="216"/>
                    </a:lnTo>
                    <a:lnTo>
                      <a:pt x="443" y="213"/>
                    </a:lnTo>
                    <a:lnTo>
                      <a:pt x="436" y="211"/>
                    </a:lnTo>
                    <a:lnTo>
                      <a:pt x="426" y="209"/>
                    </a:lnTo>
                    <a:lnTo>
                      <a:pt x="419" y="207"/>
                    </a:lnTo>
                    <a:lnTo>
                      <a:pt x="409" y="203"/>
                    </a:lnTo>
                    <a:lnTo>
                      <a:pt x="401" y="201"/>
                    </a:lnTo>
                    <a:lnTo>
                      <a:pt x="394" y="199"/>
                    </a:lnTo>
                    <a:lnTo>
                      <a:pt x="384" y="195"/>
                    </a:lnTo>
                    <a:lnTo>
                      <a:pt x="377" y="194"/>
                    </a:lnTo>
                    <a:lnTo>
                      <a:pt x="371" y="192"/>
                    </a:lnTo>
                    <a:lnTo>
                      <a:pt x="362" y="188"/>
                    </a:lnTo>
                    <a:lnTo>
                      <a:pt x="356" y="186"/>
                    </a:lnTo>
                    <a:lnTo>
                      <a:pt x="348" y="184"/>
                    </a:lnTo>
                    <a:lnTo>
                      <a:pt x="343" y="182"/>
                    </a:lnTo>
                    <a:lnTo>
                      <a:pt x="337" y="178"/>
                    </a:lnTo>
                    <a:lnTo>
                      <a:pt x="331" y="176"/>
                    </a:lnTo>
                    <a:lnTo>
                      <a:pt x="325" y="175"/>
                    </a:lnTo>
                    <a:lnTo>
                      <a:pt x="320" y="173"/>
                    </a:lnTo>
                    <a:lnTo>
                      <a:pt x="310" y="169"/>
                    </a:lnTo>
                    <a:lnTo>
                      <a:pt x="305" y="165"/>
                    </a:lnTo>
                    <a:lnTo>
                      <a:pt x="308" y="165"/>
                    </a:lnTo>
                    <a:lnTo>
                      <a:pt x="310" y="163"/>
                    </a:lnTo>
                    <a:lnTo>
                      <a:pt x="316" y="163"/>
                    </a:lnTo>
                    <a:lnTo>
                      <a:pt x="322" y="161"/>
                    </a:lnTo>
                    <a:lnTo>
                      <a:pt x="329" y="159"/>
                    </a:lnTo>
                    <a:lnTo>
                      <a:pt x="333" y="159"/>
                    </a:lnTo>
                    <a:lnTo>
                      <a:pt x="339" y="157"/>
                    </a:lnTo>
                    <a:lnTo>
                      <a:pt x="344" y="157"/>
                    </a:lnTo>
                    <a:lnTo>
                      <a:pt x="350" y="157"/>
                    </a:lnTo>
                    <a:lnTo>
                      <a:pt x="354" y="156"/>
                    </a:lnTo>
                    <a:lnTo>
                      <a:pt x="360" y="156"/>
                    </a:lnTo>
                    <a:lnTo>
                      <a:pt x="365" y="154"/>
                    </a:lnTo>
                    <a:lnTo>
                      <a:pt x="371" y="154"/>
                    </a:lnTo>
                    <a:lnTo>
                      <a:pt x="377" y="152"/>
                    </a:lnTo>
                    <a:lnTo>
                      <a:pt x="382" y="152"/>
                    </a:lnTo>
                    <a:lnTo>
                      <a:pt x="388" y="150"/>
                    </a:lnTo>
                    <a:lnTo>
                      <a:pt x="396" y="150"/>
                    </a:lnTo>
                    <a:lnTo>
                      <a:pt x="401" y="148"/>
                    </a:lnTo>
                    <a:lnTo>
                      <a:pt x="409" y="148"/>
                    </a:lnTo>
                    <a:lnTo>
                      <a:pt x="417" y="146"/>
                    </a:lnTo>
                    <a:lnTo>
                      <a:pt x="424" y="146"/>
                    </a:lnTo>
                    <a:lnTo>
                      <a:pt x="430" y="144"/>
                    </a:lnTo>
                    <a:lnTo>
                      <a:pt x="438" y="144"/>
                    </a:lnTo>
                    <a:lnTo>
                      <a:pt x="443" y="142"/>
                    </a:lnTo>
                    <a:lnTo>
                      <a:pt x="451" y="142"/>
                    </a:lnTo>
                    <a:lnTo>
                      <a:pt x="458" y="140"/>
                    </a:lnTo>
                    <a:lnTo>
                      <a:pt x="464" y="138"/>
                    </a:lnTo>
                    <a:lnTo>
                      <a:pt x="472" y="137"/>
                    </a:lnTo>
                    <a:lnTo>
                      <a:pt x="479" y="137"/>
                    </a:lnTo>
                    <a:lnTo>
                      <a:pt x="485" y="135"/>
                    </a:lnTo>
                    <a:lnTo>
                      <a:pt x="493" y="135"/>
                    </a:lnTo>
                    <a:lnTo>
                      <a:pt x="498" y="133"/>
                    </a:lnTo>
                    <a:lnTo>
                      <a:pt x="506" y="133"/>
                    </a:lnTo>
                    <a:lnTo>
                      <a:pt x="512" y="131"/>
                    </a:lnTo>
                    <a:lnTo>
                      <a:pt x="519" y="129"/>
                    </a:lnTo>
                    <a:lnTo>
                      <a:pt x="525" y="129"/>
                    </a:lnTo>
                    <a:lnTo>
                      <a:pt x="533" y="127"/>
                    </a:lnTo>
                    <a:lnTo>
                      <a:pt x="538" y="127"/>
                    </a:lnTo>
                    <a:lnTo>
                      <a:pt x="544" y="125"/>
                    </a:lnTo>
                    <a:lnTo>
                      <a:pt x="550" y="125"/>
                    </a:lnTo>
                    <a:lnTo>
                      <a:pt x="557" y="125"/>
                    </a:lnTo>
                    <a:lnTo>
                      <a:pt x="565" y="121"/>
                    </a:lnTo>
                    <a:lnTo>
                      <a:pt x="576" y="121"/>
                    </a:lnTo>
                    <a:lnTo>
                      <a:pt x="584" y="119"/>
                    </a:lnTo>
                    <a:lnTo>
                      <a:pt x="593" y="118"/>
                    </a:lnTo>
                    <a:lnTo>
                      <a:pt x="599" y="116"/>
                    </a:lnTo>
                    <a:lnTo>
                      <a:pt x="605" y="116"/>
                    </a:lnTo>
                    <a:lnTo>
                      <a:pt x="609" y="116"/>
                    </a:lnTo>
                    <a:lnTo>
                      <a:pt x="610" y="116"/>
                    </a:lnTo>
                    <a:lnTo>
                      <a:pt x="614" y="114"/>
                    </a:lnTo>
                    <a:lnTo>
                      <a:pt x="618" y="112"/>
                    </a:lnTo>
                    <a:lnTo>
                      <a:pt x="624" y="112"/>
                    </a:lnTo>
                    <a:lnTo>
                      <a:pt x="629" y="110"/>
                    </a:lnTo>
                    <a:lnTo>
                      <a:pt x="637" y="108"/>
                    </a:lnTo>
                    <a:lnTo>
                      <a:pt x="645" y="108"/>
                    </a:lnTo>
                    <a:lnTo>
                      <a:pt x="652" y="106"/>
                    </a:lnTo>
                    <a:lnTo>
                      <a:pt x="662" y="106"/>
                    </a:lnTo>
                    <a:lnTo>
                      <a:pt x="668" y="104"/>
                    </a:lnTo>
                    <a:lnTo>
                      <a:pt x="675" y="102"/>
                    </a:lnTo>
                    <a:lnTo>
                      <a:pt x="683" y="102"/>
                    </a:lnTo>
                    <a:lnTo>
                      <a:pt x="688" y="100"/>
                    </a:lnTo>
                    <a:lnTo>
                      <a:pt x="692" y="100"/>
                    </a:lnTo>
                    <a:lnTo>
                      <a:pt x="696" y="100"/>
                    </a:lnTo>
                    <a:lnTo>
                      <a:pt x="698" y="100"/>
                    </a:lnTo>
                    <a:lnTo>
                      <a:pt x="700" y="100"/>
                    </a:lnTo>
                    <a:lnTo>
                      <a:pt x="706" y="26"/>
                    </a:lnTo>
                    <a:lnTo>
                      <a:pt x="445" y="72"/>
                    </a:lnTo>
                    <a:lnTo>
                      <a:pt x="441" y="72"/>
                    </a:lnTo>
                    <a:lnTo>
                      <a:pt x="436" y="74"/>
                    </a:lnTo>
                    <a:lnTo>
                      <a:pt x="430" y="74"/>
                    </a:lnTo>
                    <a:lnTo>
                      <a:pt x="424" y="76"/>
                    </a:lnTo>
                    <a:lnTo>
                      <a:pt x="417" y="78"/>
                    </a:lnTo>
                    <a:lnTo>
                      <a:pt x="409" y="79"/>
                    </a:lnTo>
                    <a:lnTo>
                      <a:pt x="400" y="79"/>
                    </a:lnTo>
                    <a:lnTo>
                      <a:pt x="392" y="81"/>
                    </a:lnTo>
                    <a:lnTo>
                      <a:pt x="381" y="83"/>
                    </a:lnTo>
                    <a:lnTo>
                      <a:pt x="373" y="85"/>
                    </a:lnTo>
                    <a:lnTo>
                      <a:pt x="367" y="85"/>
                    </a:lnTo>
                    <a:lnTo>
                      <a:pt x="362" y="89"/>
                    </a:lnTo>
                    <a:lnTo>
                      <a:pt x="356" y="89"/>
                    </a:lnTo>
                    <a:lnTo>
                      <a:pt x="350" y="89"/>
                    </a:lnTo>
                    <a:lnTo>
                      <a:pt x="344" y="91"/>
                    </a:lnTo>
                    <a:lnTo>
                      <a:pt x="339" y="93"/>
                    </a:lnTo>
                    <a:lnTo>
                      <a:pt x="333" y="93"/>
                    </a:lnTo>
                    <a:lnTo>
                      <a:pt x="327" y="95"/>
                    </a:lnTo>
                    <a:lnTo>
                      <a:pt x="322" y="95"/>
                    </a:lnTo>
                    <a:lnTo>
                      <a:pt x="316" y="97"/>
                    </a:lnTo>
                    <a:lnTo>
                      <a:pt x="310" y="97"/>
                    </a:lnTo>
                    <a:lnTo>
                      <a:pt x="305" y="98"/>
                    </a:lnTo>
                    <a:lnTo>
                      <a:pt x="297" y="100"/>
                    </a:lnTo>
                    <a:lnTo>
                      <a:pt x="291" y="100"/>
                    </a:lnTo>
                    <a:lnTo>
                      <a:pt x="286" y="102"/>
                    </a:lnTo>
                    <a:lnTo>
                      <a:pt x="280" y="104"/>
                    </a:lnTo>
                    <a:lnTo>
                      <a:pt x="274" y="104"/>
                    </a:lnTo>
                    <a:lnTo>
                      <a:pt x="268" y="106"/>
                    </a:lnTo>
                    <a:lnTo>
                      <a:pt x="261" y="106"/>
                    </a:lnTo>
                    <a:lnTo>
                      <a:pt x="255" y="108"/>
                    </a:lnTo>
                    <a:lnTo>
                      <a:pt x="251" y="108"/>
                    </a:lnTo>
                    <a:lnTo>
                      <a:pt x="246" y="110"/>
                    </a:lnTo>
                    <a:lnTo>
                      <a:pt x="240" y="110"/>
                    </a:lnTo>
                    <a:lnTo>
                      <a:pt x="234" y="112"/>
                    </a:lnTo>
                    <a:lnTo>
                      <a:pt x="228" y="112"/>
                    </a:lnTo>
                    <a:lnTo>
                      <a:pt x="223" y="114"/>
                    </a:lnTo>
                    <a:lnTo>
                      <a:pt x="217" y="114"/>
                    </a:lnTo>
                    <a:lnTo>
                      <a:pt x="213" y="116"/>
                    </a:lnTo>
                    <a:lnTo>
                      <a:pt x="202" y="116"/>
                    </a:lnTo>
                    <a:lnTo>
                      <a:pt x="194" y="118"/>
                    </a:lnTo>
                    <a:lnTo>
                      <a:pt x="185" y="119"/>
                    </a:lnTo>
                    <a:lnTo>
                      <a:pt x="177" y="119"/>
                    </a:lnTo>
                    <a:lnTo>
                      <a:pt x="171" y="121"/>
                    </a:lnTo>
                    <a:lnTo>
                      <a:pt x="166" y="121"/>
                    </a:lnTo>
                    <a:lnTo>
                      <a:pt x="0" y="308"/>
                    </a:lnTo>
                    <a:lnTo>
                      <a:pt x="82" y="342"/>
                    </a:lnTo>
                    <a:lnTo>
                      <a:pt x="82" y="340"/>
                    </a:lnTo>
                    <a:lnTo>
                      <a:pt x="86" y="334"/>
                    </a:lnTo>
                    <a:lnTo>
                      <a:pt x="90" y="327"/>
                    </a:lnTo>
                    <a:lnTo>
                      <a:pt x="97" y="319"/>
                    </a:lnTo>
                    <a:lnTo>
                      <a:pt x="101" y="313"/>
                    </a:lnTo>
                    <a:lnTo>
                      <a:pt x="105" y="308"/>
                    </a:lnTo>
                    <a:lnTo>
                      <a:pt x="109" y="302"/>
                    </a:lnTo>
                    <a:lnTo>
                      <a:pt x="114" y="296"/>
                    </a:lnTo>
                    <a:lnTo>
                      <a:pt x="120" y="291"/>
                    </a:lnTo>
                    <a:lnTo>
                      <a:pt x="124" y="283"/>
                    </a:lnTo>
                    <a:lnTo>
                      <a:pt x="130" y="277"/>
                    </a:lnTo>
                    <a:lnTo>
                      <a:pt x="135" y="271"/>
                    </a:lnTo>
                    <a:lnTo>
                      <a:pt x="139" y="264"/>
                    </a:lnTo>
                    <a:lnTo>
                      <a:pt x="145" y="256"/>
                    </a:lnTo>
                    <a:lnTo>
                      <a:pt x="149" y="251"/>
                    </a:lnTo>
                    <a:lnTo>
                      <a:pt x="154" y="245"/>
                    </a:lnTo>
                    <a:lnTo>
                      <a:pt x="160" y="237"/>
                    </a:lnTo>
                    <a:lnTo>
                      <a:pt x="164" y="232"/>
                    </a:lnTo>
                    <a:lnTo>
                      <a:pt x="170" y="226"/>
                    </a:lnTo>
                    <a:lnTo>
                      <a:pt x="175" y="222"/>
                    </a:lnTo>
                    <a:lnTo>
                      <a:pt x="183" y="213"/>
                    </a:lnTo>
                    <a:lnTo>
                      <a:pt x="189" y="205"/>
                    </a:lnTo>
                    <a:lnTo>
                      <a:pt x="194" y="201"/>
                    </a:lnTo>
                    <a:lnTo>
                      <a:pt x="200" y="199"/>
                    </a:lnTo>
                    <a:lnTo>
                      <a:pt x="202" y="197"/>
                    </a:lnTo>
                    <a:lnTo>
                      <a:pt x="208" y="199"/>
                    </a:lnTo>
                    <a:lnTo>
                      <a:pt x="213" y="201"/>
                    </a:lnTo>
                    <a:lnTo>
                      <a:pt x="223" y="203"/>
                    </a:lnTo>
                    <a:lnTo>
                      <a:pt x="228" y="205"/>
                    </a:lnTo>
                    <a:lnTo>
                      <a:pt x="234" y="207"/>
                    </a:lnTo>
                    <a:lnTo>
                      <a:pt x="240" y="209"/>
                    </a:lnTo>
                    <a:lnTo>
                      <a:pt x="246" y="211"/>
                    </a:lnTo>
                    <a:lnTo>
                      <a:pt x="251" y="213"/>
                    </a:lnTo>
                    <a:lnTo>
                      <a:pt x="259" y="216"/>
                    </a:lnTo>
                    <a:lnTo>
                      <a:pt x="268" y="218"/>
                    </a:lnTo>
                    <a:lnTo>
                      <a:pt x="276" y="222"/>
                    </a:lnTo>
                    <a:lnTo>
                      <a:pt x="284" y="224"/>
                    </a:lnTo>
                    <a:lnTo>
                      <a:pt x="293" y="226"/>
                    </a:lnTo>
                    <a:lnTo>
                      <a:pt x="301" y="230"/>
                    </a:lnTo>
                    <a:lnTo>
                      <a:pt x="310" y="232"/>
                    </a:lnTo>
                    <a:lnTo>
                      <a:pt x="318" y="235"/>
                    </a:lnTo>
                    <a:lnTo>
                      <a:pt x="329" y="239"/>
                    </a:lnTo>
                    <a:lnTo>
                      <a:pt x="339" y="243"/>
                    </a:lnTo>
                    <a:lnTo>
                      <a:pt x="350" y="247"/>
                    </a:lnTo>
                    <a:lnTo>
                      <a:pt x="360" y="249"/>
                    </a:lnTo>
                    <a:lnTo>
                      <a:pt x="369" y="252"/>
                    </a:lnTo>
                    <a:lnTo>
                      <a:pt x="379" y="256"/>
                    </a:lnTo>
                    <a:lnTo>
                      <a:pt x="390" y="260"/>
                    </a:lnTo>
                    <a:lnTo>
                      <a:pt x="400" y="264"/>
                    </a:lnTo>
                    <a:lnTo>
                      <a:pt x="411" y="268"/>
                    </a:lnTo>
                    <a:lnTo>
                      <a:pt x="422" y="271"/>
                    </a:lnTo>
                    <a:lnTo>
                      <a:pt x="432" y="277"/>
                    </a:lnTo>
                    <a:lnTo>
                      <a:pt x="441" y="279"/>
                    </a:lnTo>
                    <a:lnTo>
                      <a:pt x="453" y="285"/>
                    </a:lnTo>
                    <a:lnTo>
                      <a:pt x="462" y="287"/>
                    </a:lnTo>
                    <a:lnTo>
                      <a:pt x="474" y="291"/>
                    </a:lnTo>
                    <a:lnTo>
                      <a:pt x="483" y="294"/>
                    </a:lnTo>
                    <a:lnTo>
                      <a:pt x="493" y="298"/>
                    </a:lnTo>
                    <a:lnTo>
                      <a:pt x="502" y="302"/>
                    </a:lnTo>
                    <a:lnTo>
                      <a:pt x="514" y="306"/>
                    </a:lnTo>
                    <a:lnTo>
                      <a:pt x="523" y="310"/>
                    </a:lnTo>
                    <a:lnTo>
                      <a:pt x="533" y="313"/>
                    </a:lnTo>
                    <a:lnTo>
                      <a:pt x="542" y="315"/>
                    </a:lnTo>
                    <a:lnTo>
                      <a:pt x="552" y="319"/>
                    </a:lnTo>
                    <a:lnTo>
                      <a:pt x="559" y="323"/>
                    </a:lnTo>
                    <a:lnTo>
                      <a:pt x="567" y="327"/>
                    </a:lnTo>
                    <a:lnTo>
                      <a:pt x="576" y="329"/>
                    </a:lnTo>
                    <a:lnTo>
                      <a:pt x="586" y="332"/>
                    </a:lnTo>
                    <a:lnTo>
                      <a:pt x="591" y="334"/>
                    </a:lnTo>
                    <a:lnTo>
                      <a:pt x="599" y="338"/>
                    </a:lnTo>
                    <a:lnTo>
                      <a:pt x="607" y="340"/>
                    </a:lnTo>
                    <a:lnTo>
                      <a:pt x="612" y="344"/>
                    </a:lnTo>
                    <a:lnTo>
                      <a:pt x="618" y="346"/>
                    </a:lnTo>
                    <a:lnTo>
                      <a:pt x="624" y="348"/>
                    </a:lnTo>
                    <a:lnTo>
                      <a:pt x="629" y="349"/>
                    </a:lnTo>
                    <a:lnTo>
                      <a:pt x="635" y="351"/>
                    </a:lnTo>
                    <a:lnTo>
                      <a:pt x="643" y="353"/>
                    </a:lnTo>
                    <a:lnTo>
                      <a:pt x="648" y="355"/>
                    </a:lnTo>
                    <a:lnTo>
                      <a:pt x="652" y="357"/>
                    </a:lnTo>
                    <a:lnTo>
                      <a:pt x="654" y="359"/>
                    </a:lnTo>
                    <a:lnTo>
                      <a:pt x="618" y="517"/>
                    </a:lnTo>
                    <a:lnTo>
                      <a:pt x="706" y="5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9"/>
              <p:cNvSpPr/>
              <p:nvPr/>
            </p:nvSpPr>
            <p:spPr>
              <a:xfrm>
                <a:off x="4022640" y="6378840"/>
                <a:ext cx="1357200" cy="239760"/>
              </a:xfrm>
              <a:custGeom>
                <a:avLst/>
                <a:gdLst>
                  <a:gd name="textAreaLeft" fmla="*/ 0 w 1357200"/>
                  <a:gd name="textAreaRight" fmla="*/ 1357560 w 135720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708" h="302">
                    <a:moveTo>
                      <a:pt x="0" y="45"/>
                    </a:moveTo>
                    <a:lnTo>
                      <a:pt x="636" y="302"/>
                    </a:lnTo>
                    <a:lnTo>
                      <a:pt x="640" y="300"/>
                    </a:lnTo>
                    <a:lnTo>
                      <a:pt x="648" y="298"/>
                    </a:lnTo>
                    <a:lnTo>
                      <a:pt x="657" y="298"/>
                    </a:lnTo>
                    <a:lnTo>
                      <a:pt x="661" y="296"/>
                    </a:lnTo>
                    <a:lnTo>
                      <a:pt x="667" y="294"/>
                    </a:lnTo>
                    <a:lnTo>
                      <a:pt x="673" y="292"/>
                    </a:lnTo>
                    <a:lnTo>
                      <a:pt x="680" y="292"/>
                    </a:lnTo>
                    <a:lnTo>
                      <a:pt x="688" y="291"/>
                    </a:lnTo>
                    <a:lnTo>
                      <a:pt x="695" y="289"/>
                    </a:lnTo>
                    <a:lnTo>
                      <a:pt x="705" y="287"/>
                    </a:lnTo>
                    <a:lnTo>
                      <a:pt x="714" y="287"/>
                    </a:lnTo>
                    <a:lnTo>
                      <a:pt x="722" y="285"/>
                    </a:lnTo>
                    <a:lnTo>
                      <a:pt x="732" y="283"/>
                    </a:lnTo>
                    <a:lnTo>
                      <a:pt x="741" y="281"/>
                    </a:lnTo>
                    <a:lnTo>
                      <a:pt x="752" y="279"/>
                    </a:lnTo>
                    <a:lnTo>
                      <a:pt x="762" y="275"/>
                    </a:lnTo>
                    <a:lnTo>
                      <a:pt x="773" y="273"/>
                    </a:lnTo>
                    <a:lnTo>
                      <a:pt x="785" y="272"/>
                    </a:lnTo>
                    <a:lnTo>
                      <a:pt x="798" y="270"/>
                    </a:lnTo>
                    <a:lnTo>
                      <a:pt x="808" y="268"/>
                    </a:lnTo>
                    <a:lnTo>
                      <a:pt x="819" y="266"/>
                    </a:lnTo>
                    <a:lnTo>
                      <a:pt x="832" y="262"/>
                    </a:lnTo>
                    <a:lnTo>
                      <a:pt x="846" y="260"/>
                    </a:lnTo>
                    <a:lnTo>
                      <a:pt x="857" y="258"/>
                    </a:lnTo>
                    <a:lnTo>
                      <a:pt x="870" y="256"/>
                    </a:lnTo>
                    <a:lnTo>
                      <a:pt x="884" y="253"/>
                    </a:lnTo>
                    <a:lnTo>
                      <a:pt x="897" y="251"/>
                    </a:lnTo>
                    <a:lnTo>
                      <a:pt x="910" y="249"/>
                    </a:lnTo>
                    <a:lnTo>
                      <a:pt x="922" y="245"/>
                    </a:lnTo>
                    <a:lnTo>
                      <a:pt x="935" y="243"/>
                    </a:lnTo>
                    <a:lnTo>
                      <a:pt x="950" y="239"/>
                    </a:lnTo>
                    <a:lnTo>
                      <a:pt x="963" y="237"/>
                    </a:lnTo>
                    <a:lnTo>
                      <a:pt x="977" y="234"/>
                    </a:lnTo>
                    <a:lnTo>
                      <a:pt x="988" y="232"/>
                    </a:lnTo>
                    <a:lnTo>
                      <a:pt x="1003" y="230"/>
                    </a:lnTo>
                    <a:lnTo>
                      <a:pt x="1015" y="226"/>
                    </a:lnTo>
                    <a:lnTo>
                      <a:pt x="1028" y="224"/>
                    </a:lnTo>
                    <a:lnTo>
                      <a:pt x="1041" y="220"/>
                    </a:lnTo>
                    <a:lnTo>
                      <a:pt x="1055" y="218"/>
                    </a:lnTo>
                    <a:lnTo>
                      <a:pt x="1066" y="216"/>
                    </a:lnTo>
                    <a:lnTo>
                      <a:pt x="1079" y="215"/>
                    </a:lnTo>
                    <a:lnTo>
                      <a:pt x="1093" y="213"/>
                    </a:lnTo>
                    <a:lnTo>
                      <a:pt x="1106" y="211"/>
                    </a:lnTo>
                    <a:lnTo>
                      <a:pt x="1117" y="207"/>
                    </a:lnTo>
                    <a:lnTo>
                      <a:pt x="1129" y="205"/>
                    </a:lnTo>
                    <a:lnTo>
                      <a:pt x="1140" y="201"/>
                    </a:lnTo>
                    <a:lnTo>
                      <a:pt x="1152" y="199"/>
                    </a:lnTo>
                    <a:lnTo>
                      <a:pt x="1163" y="197"/>
                    </a:lnTo>
                    <a:lnTo>
                      <a:pt x="1172" y="196"/>
                    </a:lnTo>
                    <a:lnTo>
                      <a:pt x="1184" y="194"/>
                    </a:lnTo>
                    <a:lnTo>
                      <a:pt x="1195" y="192"/>
                    </a:lnTo>
                    <a:lnTo>
                      <a:pt x="1205" y="190"/>
                    </a:lnTo>
                    <a:lnTo>
                      <a:pt x="1214" y="188"/>
                    </a:lnTo>
                    <a:lnTo>
                      <a:pt x="1222" y="186"/>
                    </a:lnTo>
                    <a:lnTo>
                      <a:pt x="1229" y="184"/>
                    </a:lnTo>
                    <a:lnTo>
                      <a:pt x="1237" y="182"/>
                    </a:lnTo>
                    <a:lnTo>
                      <a:pt x="1247" y="182"/>
                    </a:lnTo>
                    <a:lnTo>
                      <a:pt x="1254" y="180"/>
                    </a:lnTo>
                    <a:lnTo>
                      <a:pt x="1262" y="180"/>
                    </a:lnTo>
                    <a:lnTo>
                      <a:pt x="1267" y="178"/>
                    </a:lnTo>
                    <a:lnTo>
                      <a:pt x="1273" y="177"/>
                    </a:lnTo>
                    <a:lnTo>
                      <a:pt x="1281" y="175"/>
                    </a:lnTo>
                    <a:lnTo>
                      <a:pt x="1288" y="173"/>
                    </a:lnTo>
                    <a:lnTo>
                      <a:pt x="1294" y="171"/>
                    </a:lnTo>
                    <a:lnTo>
                      <a:pt x="1302" y="169"/>
                    </a:lnTo>
                    <a:lnTo>
                      <a:pt x="1311" y="167"/>
                    </a:lnTo>
                    <a:lnTo>
                      <a:pt x="1319" y="167"/>
                    </a:lnTo>
                    <a:lnTo>
                      <a:pt x="1326" y="163"/>
                    </a:lnTo>
                    <a:lnTo>
                      <a:pt x="1336" y="161"/>
                    </a:lnTo>
                    <a:lnTo>
                      <a:pt x="1343" y="159"/>
                    </a:lnTo>
                    <a:lnTo>
                      <a:pt x="1351" y="157"/>
                    </a:lnTo>
                    <a:lnTo>
                      <a:pt x="1361" y="156"/>
                    </a:lnTo>
                    <a:lnTo>
                      <a:pt x="1370" y="156"/>
                    </a:lnTo>
                    <a:lnTo>
                      <a:pt x="1380" y="154"/>
                    </a:lnTo>
                    <a:lnTo>
                      <a:pt x="1389" y="150"/>
                    </a:lnTo>
                    <a:lnTo>
                      <a:pt x="1397" y="148"/>
                    </a:lnTo>
                    <a:lnTo>
                      <a:pt x="1406" y="146"/>
                    </a:lnTo>
                    <a:lnTo>
                      <a:pt x="1414" y="144"/>
                    </a:lnTo>
                    <a:lnTo>
                      <a:pt x="1423" y="142"/>
                    </a:lnTo>
                    <a:lnTo>
                      <a:pt x="1433" y="138"/>
                    </a:lnTo>
                    <a:lnTo>
                      <a:pt x="1442" y="137"/>
                    </a:lnTo>
                    <a:lnTo>
                      <a:pt x="1452" y="135"/>
                    </a:lnTo>
                    <a:lnTo>
                      <a:pt x="1461" y="133"/>
                    </a:lnTo>
                    <a:lnTo>
                      <a:pt x="1471" y="129"/>
                    </a:lnTo>
                    <a:lnTo>
                      <a:pt x="1478" y="127"/>
                    </a:lnTo>
                    <a:lnTo>
                      <a:pt x="1488" y="125"/>
                    </a:lnTo>
                    <a:lnTo>
                      <a:pt x="1497" y="123"/>
                    </a:lnTo>
                    <a:lnTo>
                      <a:pt x="1507" y="119"/>
                    </a:lnTo>
                    <a:lnTo>
                      <a:pt x="1516" y="118"/>
                    </a:lnTo>
                    <a:lnTo>
                      <a:pt x="1526" y="116"/>
                    </a:lnTo>
                    <a:lnTo>
                      <a:pt x="1535" y="114"/>
                    </a:lnTo>
                    <a:lnTo>
                      <a:pt x="1543" y="112"/>
                    </a:lnTo>
                    <a:lnTo>
                      <a:pt x="1553" y="108"/>
                    </a:lnTo>
                    <a:lnTo>
                      <a:pt x="1560" y="106"/>
                    </a:lnTo>
                    <a:lnTo>
                      <a:pt x="1570" y="104"/>
                    </a:lnTo>
                    <a:lnTo>
                      <a:pt x="1577" y="100"/>
                    </a:lnTo>
                    <a:lnTo>
                      <a:pt x="1585" y="99"/>
                    </a:lnTo>
                    <a:lnTo>
                      <a:pt x="1592" y="97"/>
                    </a:lnTo>
                    <a:lnTo>
                      <a:pt x="1600" y="95"/>
                    </a:lnTo>
                    <a:lnTo>
                      <a:pt x="1608" y="93"/>
                    </a:lnTo>
                    <a:lnTo>
                      <a:pt x="1615" y="91"/>
                    </a:lnTo>
                    <a:lnTo>
                      <a:pt x="1623" y="89"/>
                    </a:lnTo>
                    <a:lnTo>
                      <a:pt x="1630" y="87"/>
                    </a:lnTo>
                    <a:lnTo>
                      <a:pt x="1636" y="85"/>
                    </a:lnTo>
                    <a:lnTo>
                      <a:pt x="1644" y="85"/>
                    </a:lnTo>
                    <a:lnTo>
                      <a:pt x="1649" y="83"/>
                    </a:lnTo>
                    <a:lnTo>
                      <a:pt x="1657" y="81"/>
                    </a:lnTo>
                    <a:lnTo>
                      <a:pt x="1661" y="80"/>
                    </a:lnTo>
                    <a:lnTo>
                      <a:pt x="1667" y="78"/>
                    </a:lnTo>
                    <a:lnTo>
                      <a:pt x="1670" y="76"/>
                    </a:lnTo>
                    <a:lnTo>
                      <a:pt x="1676" y="76"/>
                    </a:lnTo>
                    <a:lnTo>
                      <a:pt x="1686" y="74"/>
                    </a:lnTo>
                    <a:lnTo>
                      <a:pt x="1693" y="72"/>
                    </a:lnTo>
                    <a:lnTo>
                      <a:pt x="1699" y="70"/>
                    </a:lnTo>
                    <a:lnTo>
                      <a:pt x="1703" y="68"/>
                    </a:lnTo>
                    <a:lnTo>
                      <a:pt x="1706" y="68"/>
                    </a:lnTo>
                    <a:lnTo>
                      <a:pt x="1708" y="68"/>
                    </a:lnTo>
                    <a:lnTo>
                      <a:pt x="1706" y="68"/>
                    </a:lnTo>
                    <a:lnTo>
                      <a:pt x="1703" y="66"/>
                    </a:lnTo>
                    <a:lnTo>
                      <a:pt x="1697" y="64"/>
                    </a:lnTo>
                    <a:lnTo>
                      <a:pt x="1691" y="62"/>
                    </a:lnTo>
                    <a:lnTo>
                      <a:pt x="1682" y="59"/>
                    </a:lnTo>
                    <a:lnTo>
                      <a:pt x="1674" y="57"/>
                    </a:lnTo>
                    <a:lnTo>
                      <a:pt x="1665" y="53"/>
                    </a:lnTo>
                    <a:lnTo>
                      <a:pt x="1655" y="51"/>
                    </a:lnTo>
                    <a:lnTo>
                      <a:pt x="1649" y="47"/>
                    </a:lnTo>
                    <a:lnTo>
                      <a:pt x="1644" y="47"/>
                    </a:lnTo>
                    <a:lnTo>
                      <a:pt x="1638" y="45"/>
                    </a:lnTo>
                    <a:lnTo>
                      <a:pt x="1632" y="43"/>
                    </a:lnTo>
                    <a:lnTo>
                      <a:pt x="1623" y="42"/>
                    </a:lnTo>
                    <a:lnTo>
                      <a:pt x="1613" y="38"/>
                    </a:lnTo>
                    <a:lnTo>
                      <a:pt x="1604" y="36"/>
                    </a:lnTo>
                    <a:lnTo>
                      <a:pt x="1598" y="34"/>
                    </a:lnTo>
                    <a:lnTo>
                      <a:pt x="1592" y="34"/>
                    </a:lnTo>
                    <a:lnTo>
                      <a:pt x="1589" y="34"/>
                    </a:lnTo>
                    <a:lnTo>
                      <a:pt x="1587" y="34"/>
                    </a:lnTo>
                    <a:lnTo>
                      <a:pt x="1581" y="34"/>
                    </a:lnTo>
                    <a:lnTo>
                      <a:pt x="1575" y="34"/>
                    </a:lnTo>
                    <a:lnTo>
                      <a:pt x="1570" y="36"/>
                    </a:lnTo>
                    <a:lnTo>
                      <a:pt x="1564" y="36"/>
                    </a:lnTo>
                    <a:lnTo>
                      <a:pt x="1560" y="38"/>
                    </a:lnTo>
                    <a:lnTo>
                      <a:pt x="1554" y="38"/>
                    </a:lnTo>
                    <a:lnTo>
                      <a:pt x="1549" y="40"/>
                    </a:lnTo>
                    <a:lnTo>
                      <a:pt x="1543" y="42"/>
                    </a:lnTo>
                    <a:lnTo>
                      <a:pt x="1537" y="43"/>
                    </a:lnTo>
                    <a:lnTo>
                      <a:pt x="1532" y="43"/>
                    </a:lnTo>
                    <a:lnTo>
                      <a:pt x="1528" y="45"/>
                    </a:lnTo>
                    <a:lnTo>
                      <a:pt x="1520" y="47"/>
                    </a:lnTo>
                    <a:lnTo>
                      <a:pt x="1513" y="49"/>
                    </a:lnTo>
                    <a:lnTo>
                      <a:pt x="1505" y="49"/>
                    </a:lnTo>
                    <a:lnTo>
                      <a:pt x="1499" y="51"/>
                    </a:lnTo>
                    <a:lnTo>
                      <a:pt x="1490" y="53"/>
                    </a:lnTo>
                    <a:lnTo>
                      <a:pt x="1484" y="55"/>
                    </a:lnTo>
                    <a:lnTo>
                      <a:pt x="1475" y="55"/>
                    </a:lnTo>
                    <a:lnTo>
                      <a:pt x="1469" y="59"/>
                    </a:lnTo>
                    <a:lnTo>
                      <a:pt x="1461" y="59"/>
                    </a:lnTo>
                    <a:lnTo>
                      <a:pt x="1454" y="62"/>
                    </a:lnTo>
                    <a:lnTo>
                      <a:pt x="1446" y="62"/>
                    </a:lnTo>
                    <a:lnTo>
                      <a:pt x="1438" y="66"/>
                    </a:lnTo>
                    <a:lnTo>
                      <a:pt x="1429" y="68"/>
                    </a:lnTo>
                    <a:lnTo>
                      <a:pt x="1421" y="70"/>
                    </a:lnTo>
                    <a:lnTo>
                      <a:pt x="1414" y="72"/>
                    </a:lnTo>
                    <a:lnTo>
                      <a:pt x="1406" y="74"/>
                    </a:lnTo>
                    <a:lnTo>
                      <a:pt x="1399" y="76"/>
                    </a:lnTo>
                    <a:lnTo>
                      <a:pt x="1389" y="78"/>
                    </a:lnTo>
                    <a:lnTo>
                      <a:pt x="1381" y="80"/>
                    </a:lnTo>
                    <a:lnTo>
                      <a:pt x="1372" y="81"/>
                    </a:lnTo>
                    <a:lnTo>
                      <a:pt x="1364" y="81"/>
                    </a:lnTo>
                    <a:lnTo>
                      <a:pt x="1357" y="85"/>
                    </a:lnTo>
                    <a:lnTo>
                      <a:pt x="1349" y="85"/>
                    </a:lnTo>
                    <a:lnTo>
                      <a:pt x="1342" y="87"/>
                    </a:lnTo>
                    <a:lnTo>
                      <a:pt x="1334" y="89"/>
                    </a:lnTo>
                    <a:lnTo>
                      <a:pt x="1326" y="91"/>
                    </a:lnTo>
                    <a:lnTo>
                      <a:pt x="1319" y="93"/>
                    </a:lnTo>
                    <a:lnTo>
                      <a:pt x="1313" y="95"/>
                    </a:lnTo>
                    <a:lnTo>
                      <a:pt x="1305" y="95"/>
                    </a:lnTo>
                    <a:lnTo>
                      <a:pt x="1298" y="97"/>
                    </a:lnTo>
                    <a:lnTo>
                      <a:pt x="1292" y="99"/>
                    </a:lnTo>
                    <a:lnTo>
                      <a:pt x="1286" y="100"/>
                    </a:lnTo>
                    <a:lnTo>
                      <a:pt x="1281" y="102"/>
                    </a:lnTo>
                    <a:lnTo>
                      <a:pt x="1275" y="102"/>
                    </a:lnTo>
                    <a:lnTo>
                      <a:pt x="1269" y="104"/>
                    </a:lnTo>
                    <a:lnTo>
                      <a:pt x="1266" y="106"/>
                    </a:lnTo>
                    <a:lnTo>
                      <a:pt x="1256" y="108"/>
                    </a:lnTo>
                    <a:lnTo>
                      <a:pt x="1248" y="110"/>
                    </a:lnTo>
                    <a:lnTo>
                      <a:pt x="1243" y="112"/>
                    </a:lnTo>
                    <a:lnTo>
                      <a:pt x="1237" y="112"/>
                    </a:lnTo>
                    <a:lnTo>
                      <a:pt x="1235" y="114"/>
                    </a:lnTo>
                    <a:lnTo>
                      <a:pt x="682" y="224"/>
                    </a:lnTo>
                    <a:lnTo>
                      <a:pt x="635" y="222"/>
                    </a:lnTo>
                    <a:lnTo>
                      <a:pt x="633" y="220"/>
                    </a:lnTo>
                    <a:lnTo>
                      <a:pt x="629" y="218"/>
                    </a:lnTo>
                    <a:lnTo>
                      <a:pt x="621" y="216"/>
                    </a:lnTo>
                    <a:lnTo>
                      <a:pt x="614" y="215"/>
                    </a:lnTo>
                    <a:lnTo>
                      <a:pt x="608" y="211"/>
                    </a:lnTo>
                    <a:lnTo>
                      <a:pt x="602" y="209"/>
                    </a:lnTo>
                    <a:lnTo>
                      <a:pt x="597" y="205"/>
                    </a:lnTo>
                    <a:lnTo>
                      <a:pt x="591" y="203"/>
                    </a:lnTo>
                    <a:lnTo>
                      <a:pt x="583" y="201"/>
                    </a:lnTo>
                    <a:lnTo>
                      <a:pt x="576" y="197"/>
                    </a:lnTo>
                    <a:lnTo>
                      <a:pt x="568" y="196"/>
                    </a:lnTo>
                    <a:lnTo>
                      <a:pt x="560" y="192"/>
                    </a:lnTo>
                    <a:lnTo>
                      <a:pt x="551" y="188"/>
                    </a:lnTo>
                    <a:lnTo>
                      <a:pt x="541" y="184"/>
                    </a:lnTo>
                    <a:lnTo>
                      <a:pt x="532" y="180"/>
                    </a:lnTo>
                    <a:lnTo>
                      <a:pt x="522" y="177"/>
                    </a:lnTo>
                    <a:lnTo>
                      <a:pt x="513" y="171"/>
                    </a:lnTo>
                    <a:lnTo>
                      <a:pt x="502" y="167"/>
                    </a:lnTo>
                    <a:lnTo>
                      <a:pt x="492" y="163"/>
                    </a:lnTo>
                    <a:lnTo>
                      <a:pt x="483" y="159"/>
                    </a:lnTo>
                    <a:lnTo>
                      <a:pt x="471" y="156"/>
                    </a:lnTo>
                    <a:lnTo>
                      <a:pt x="460" y="150"/>
                    </a:lnTo>
                    <a:lnTo>
                      <a:pt x="448" y="146"/>
                    </a:lnTo>
                    <a:lnTo>
                      <a:pt x="437" y="142"/>
                    </a:lnTo>
                    <a:lnTo>
                      <a:pt x="426" y="137"/>
                    </a:lnTo>
                    <a:lnTo>
                      <a:pt x="414" y="133"/>
                    </a:lnTo>
                    <a:lnTo>
                      <a:pt x="403" y="127"/>
                    </a:lnTo>
                    <a:lnTo>
                      <a:pt x="391" y="123"/>
                    </a:lnTo>
                    <a:lnTo>
                      <a:pt x="378" y="118"/>
                    </a:lnTo>
                    <a:lnTo>
                      <a:pt x="367" y="114"/>
                    </a:lnTo>
                    <a:lnTo>
                      <a:pt x="353" y="108"/>
                    </a:lnTo>
                    <a:lnTo>
                      <a:pt x="342" y="104"/>
                    </a:lnTo>
                    <a:lnTo>
                      <a:pt x="331" y="99"/>
                    </a:lnTo>
                    <a:lnTo>
                      <a:pt x="317" y="93"/>
                    </a:lnTo>
                    <a:lnTo>
                      <a:pt x="306" y="89"/>
                    </a:lnTo>
                    <a:lnTo>
                      <a:pt x="294" y="85"/>
                    </a:lnTo>
                    <a:lnTo>
                      <a:pt x="283" y="80"/>
                    </a:lnTo>
                    <a:lnTo>
                      <a:pt x="270" y="76"/>
                    </a:lnTo>
                    <a:lnTo>
                      <a:pt x="258" y="70"/>
                    </a:lnTo>
                    <a:lnTo>
                      <a:pt x="247" y="66"/>
                    </a:lnTo>
                    <a:lnTo>
                      <a:pt x="237" y="61"/>
                    </a:lnTo>
                    <a:lnTo>
                      <a:pt x="226" y="57"/>
                    </a:lnTo>
                    <a:lnTo>
                      <a:pt x="215" y="53"/>
                    </a:lnTo>
                    <a:lnTo>
                      <a:pt x="205" y="49"/>
                    </a:lnTo>
                    <a:lnTo>
                      <a:pt x="194" y="43"/>
                    </a:lnTo>
                    <a:lnTo>
                      <a:pt x="182" y="40"/>
                    </a:lnTo>
                    <a:lnTo>
                      <a:pt x="173" y="36"/>
                    </a:lnTo>
                    <a:lnTo>
                      <a:pt x="163" y="32"/>
                    </a:lnTo>
                    <a:lnTo>
                      <a:pt x="154" y="28"/>
                    </a:lnTo>
                    <a:lnTo>
                      <a:pt x="144" y="24"/>
                    </a:lnTo>
                    <a:lnTo>
                      <a:pt x="137" y="21"/>
                    </a:lnTo>
                    <a:lnTo>
                      <a:pt x="129" y="17"/>
                    </a:lnTo>
                    <a:lnTo>
                      <a:pt x="120" y="15"/>
                    </a:lnTo>
                    <a:lnTo>
                      <a:pt x="112" y="11"/>
                    </a:lnTo>
                    <a:lnTo>
                      <a:pt x="106" y="9"/>
                    </a:lnTo>
                    <a:lnTo>
                      <a:pt x="99" y="7"/>
                    </a:lnTo>
                    <a:lnTo>
                      <a:pt x="93" y="3"/>
                    </a:lnTo>
                    <a:lnTo>
                      <a:pt x="87" y="2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30"/>
              <p:cNvSpPr/>
              <p:nvPr/>
            </p:nvSpPr>
            <p:spPr>
              <a:xfrm>
                <a:off x="4124160" y="4361040"/>
                <a:ext cx="1058760" cy="15764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1576440"/>
                  <a:gd name="textAreaBottom" fmla="*/ 1576800 h 1576440"/>
                </a:gdLst>
                <a:ahLst/>
                <a:rect l="textAreaLeft" t="textAreaTop" r="textAreaRight" b="textAreaBottom"/>
                <a:pathLst>
                  <a:path w="1334" h="1987">
                    <a:moveTo>
                      <a:pt x="8" y="207"/>
                    </a:moveTo>
                    <a:lnTo>
                      <a:pt x="21" y="257"/>
                    </a:lnTo>
                    <a:lnTo>
                      <a:pt x="40" y="272"/>
                    </a:lnTo>
                    <a:lnTo>
                      <a:pt x="69" y="272"/>
                    </a:lnTo>
                    <a:lnTo>
                      <a:pt x="108" y="285"/>
                    </a:lnTo>
                    <a:lnTo>
                      <a:pt x="137" y="310"/>
                    </a:lnTo>
                    <a:lnTo>
                      <a:pt x="171" y="315"/>
                    </a:lnTo>
                    <a:lnTo>
                      <a:pt x="215" y="302"/>
                    </a:lnTo>
                    <a:lnTo>
                      <a:pt x="281" y="319"/>
                    </a:lnTo>
                    <a:lnTo>
                      <a:pt x="312" y="346"/>
                    </a:lnTo>
                    <a:lnTo>
                      <a:pt x="325" y="382"/>
                    </a:lnTo>
                    <a:lnTo>
                      <a:pt x="329" y="450"/>
                    </a:lnTo>
                    <a:lnTo>
                      <a:pt x="319" y="488"/>
                    </a:lnTo>
                    <a:lnTo>
                      <a:pt x="281" y="536"/>
                    </a:lnTo>
                    <a:lnTo>
                      <a:pt x="215" y="561"/>
                    </a:lnTo>
                    <a:lnTo>
                      <a:pt x="158" y="601"/>
                    </a:lnTo>
                    <a:lnTo>
                      <a:pt x="135" y="629"/>
                    </a:lnTo>
                    <a:lnTo>
                      <a:pt x="137" y="724"/>
                    </a:lnTo>
                    <a:lnTo>
                      <a:pt x="137" y="793"/>
                    </a:lnTo>
                    <a:lnTo>
                      <a:pt x="108" y="844"/>
                    </a:lnTo>
                    <a:lnTo>
                      <a:pt x="67" y="912"/>
                    </a:lnTo>
                    <a:lnTo>
                      <a:pt x="42" y="988"/>
                    </a:lnTo>
                    <a:lnTo>
                      <a:pt x="23" y="1070"/>
                    </a:lnTo>
                    <a:lnTo>
                      <a:pt x="23" y="1141"/>
                    </a:lnTo>
                    <a:lnTo>
                      <a:pt x="0" y="1179"/>
                    </a:lnTo>
                    <a:lnTo>
                      <a:pt x="46" y="1196"/>
                    </a:lnTo>
                    <a:lnTo>
                      <a:pt x="103" y="1207"/>
                    </a:lnTo>
                    <a:lnTo>
                      <a:pt x="164" y="1260"/>
                    </a:lnTo>
                    <a:lnTo>
                      <a:pt x="194" y="1338"/>
                    </a:lnTo>
                    <a:lnTo>
                      <a:pt x="215" y="1422"/>
                    </a:lnTo>
                    <a:lnTo>
                      <a:pt x="215" y="1500"/>
                    </a:lnTo>
                    <a:lnTo>
                      <a:pt x="207" y="1584"/>
                    </a:lnTo>
                    <a:lnTo>
                      <a:pt x="242" y="1665"/>
                    </a:lnTo>
                    <a:lnTo>
                      <a:pt x="274" y="1711"/>
                    </a:lnTo>
                    <a:lnTo>
                      <a:pt x="308" y="1751"/>
                    </a:lnTo>
                    <a:lnTo>
                      <a:pt x="321" y="1796"/>
                    </a:lnTo>
                    <a:lnTo>
                      <a:pt x="348" y="1829"/>
                    </a:lnTo>
                    <a:lnTo>
                      <a:pt x="392" y="1853"/>
                    </a:lnTo>
                    <a:lnTo>
                      <a:pt x="437" y="1871"/>
                    </a:lnTo>
                    <a:lnTo>
                      <a:pt x="462" y="1905"/>
                    </a:lnTo>
                    <a:lnTo>
                      <a:pt x="475" y="1950"/>
                    </a:lnTo>
                    <a:lnTo>
                      <a:pt x="477" y="1983"/>
                    </a:lnTo>
                    <a:lnTo>
                      <a:pt x="540" y="1987"/>
                    </a:lnTo>
                    <a:lnTo>
                      <a:pt x="549" y="1941"/>
                    </a:lnTo>
                    <a:lnTo>
                      <a:pt x="568" y="1892"/>
                    </a:lnTo>
                    <a:lnTo>
                      <a:pt x="599" y="1853"/>
                    </a:lnTo>
                    <a:lnTo>
                      <a:pt x="635" y="1831"/>
                    </a:lnTo>
                    <a:lnTo>
                      <a:pt x="688" y="1827"/>
                    </a:lnTo>
                    <a:lnTo>
                      <a:pt x="717" y="1808"/>
                    </a:lnTo>
                    <a:lnTo>
                      <a:pt x="751" y="1766"/>
                    </a:lnTo>
                    <a:lnTo>
                      <a:pt x="810" y="1751"/>
                    </a:lnTo>
                    <a:lnTo>
                      <a:pt x="867" y="1722"/>
                    </a:lnTo>
                    <a:lnTo>
                      <a:pt x="924" y="1665"/>
                    </a:lnTo>
                    <a:lnTo>
                      <a:pt x="954" y="1597"/>
                    </a:lnTo>
                    <a:lnTo>
                      <a:pt x="971" y="1546"/>
                    </a:lnTo>
                    <a:lnTo>
                      <a:pt x="1023" y="1500"/>
                    </a:lnTo>
                    <a:lnTo>
                      <a:pt x="1080" y="1466"/>
                    </a:lnTo>
                    <a:lnTo>
                      <a:pt x="1135" y="1475"/>
                    </a:lnTo>
                    <a:lnTo>
                      <a:pt x="1222" y="1475"/>
                    </a:lnTo>
                    <a:lnTo>
                      <a:pt x="1296" y="1454"/>
                    </a:lnTo>
                    <a:lnTo>
                      <a:pt x="1334" y="1435"/>
                    </a:lnTo>
                    <a:lnTo>
                      <a:pt x="1289" y="1426"/>
                    </a:lnTo>
                    <a:lnTo>
                      <a:pt x="1232" y="1395"/>
                    </a:lnTo>
                    <a:lnTo>
                      <a:pt x="1178" y="1338"/>
                    </a:lnTo>
                    <a:lnTo>
                      <a:pt x="1112" y="1260"/>
                    </a:lnTo>
                    <a:lnTo>
                      <a:pt x="1034" y="1190"/>
                    </a:lnTo>
                    <a:lnTo>
                      <a:pt x="947" y="1123"/>
                    </a:lnTo>
                    <a:lnTo>
                      <a:pt x="912" y="1103"/>
                    </a:lnTo>
                    <a:lnTo>
                      <a:pt x="840" y="1133"/>
                    </a:lnTo>
                    <a:lnTo>
                      <a:pt x="757" y="1142"/>
                    </a:lnTo>
                    <a:lnTo>
                      <a:pt x="684" y="1129"/>
                    </a:lnTo>
                    <a:lnTo>
                      <a:pt x="620" y="1076"/>
                    </a:lnTo>
                    <a:lnTo>
                      <a:pt x="574" y="1011"/>
                    </a:lnTo>
                    <a:lnTo>
                      <a:pt x="559" y="914"/>
                    </a:lnTo>
                    <a:lnTo>
                      <a:pt x="559" y="800"/>
                    </a:lnTo>
                    <a:lnTo>
                      <a:pt x="586" y="690"/>
                    </a:lnTo>
                    <a:lnTo>
                      <a:pt x="553" y="644"/>
                    </a:lnTo>
                    <a:lnTo>
                      <a:pt x="513" y="580"/>
                    </a:lnTo>
                    <a:lnTo>
                      <a:pt x="508" y="483"/>
                    </a:lnTo>
                    <a:lnTo>
                      <a:pt x="517" y="373"/>
                    </a:lnTo>
                    <a:lnTo>
                      <a:pt x="498" y="329"/>
                    </a:lnTo>
                    <a:lnTo>
                      <a:pt x="529" y="277"/>
                    </a:lnTo>
                    <a:lnTo>
                      <a:pt x="481" y="238"/>
                    </a:lnTo>
                    <a:lnTo>
                      <a:pt x="451" y="182"/>
                    </a:lnTo>
                    <a:lnTo>
                      <a:pt x="454" y="123"/>
                    </a:lnTo>
                    <a:lnTo>
                      <a:pt x="470" y="61"/>
                    </a:lnTo>
                    <a:lnTo>
                      <a:pt x="508" y="0"/>
                    </a:lnTo>
                    <a:lnTo>
                      <a:pt x="352" y="13"/>
                    </a:lnTo>
                    <a:lnTo>
                      <a:pt x="107" y="133"/>
                    </a:lnTo>
                    <a:lnTo>
                      <a:pt x="8" y="207"/>
                    </a:lnTo>
                    <a:close/>
                  </a:path>
                </a:pathLst>
              </a:custGeom>
              <a:solidFill>
                <a:srgbClr val="8a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1"/>
              <p:cNvSpPr/>
              <p:nvPr/>
            </p:nvSpPr>
            <p:spPr>
              <a:xfrm>
                <a:off x="4910040" y="4650120"/>
                <a:ext cx="60120" cy="8388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76" h="104">
                    <a:moveTo>
                      <a:pt x="40" y="0"/>
                    </a:moveTo>
                    <a:lnTo>
                      <a:pt x="31" y="44"/>
                    </a:lnTo>
                    <a:lnTo>
                      <a:pt x="10" y="85"/>
                    </a:lnTo>
                    <a:lnTo>
                      <a:pt x="0" y="103"/>
                    </a:lnTo>
                    <a:lnTo>
                      <a:pt x="31" y="104"/>
                    </a:lnTo>
                    <a:lnTo>
                      <a:pt x="65" y="103"/>
                    </a:lnTo>
                    <a:lnTo>
                      <a:pt x="76" y="80"/>
                    </a:lnTo>
                    <a:lnTo>
                      <a:pt x="67" y="2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8a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2"/>
              <p:cNvSpPr/>
              <p:nvPr/>
            </p:nvSpPr>
            <p:spPr>
              <a:xfrm>
                <a:off x="4706640" y="4732560"/>
                <a:ext cx="125280" cy="9360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57" h="117">
                    <a:moveTo>
                      <a:pt x="0" y="116"/>
                    </a:moveTo>
                    <a:lnTo>
                      <a:pt x="49" y="106"/>
                    </a:lnTo>
                    <a:lnTo>
                      <a:pt x="76" y="81"/>
                    </a:lnTo>
                    <a:lnTo>
                      <a:pt x="102" y="30"/>
                    </a:lnTo>
                    <a:lnTo>
                      <a:pt x="131" y="0"/>
                    </a:lnTo>
                    <a:lnTo>
                      <a:pt x="157" y="38"/>
                    </a:lnTo>
                    <a:lnTo>
                      <a:pt x="125" y="70"/>
                    </a:lnTo>
                    <a:lnTo>
                      <a:pt x="102" y="108"/>
                    </a:lnTo>
                    <a:lnTo>
                      <a:pt x="76" y="117"/>
                    </a:lnTo>
                    <a:lnTo>
                      <a:pt x="40" y="117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8a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3"/>
              <p:cNvSpPr/>
              <p:nvPr/>
            </p:nvSpPr>
            <p:spPr>
              <a:xfrm>
                <a:off x="5189400" y="4665960"/>
                <a:ext cx="163440" cy="21420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05" h="270">
                    <a:moveTo>
                      <a:pt x="46" y="0"/>
                    </a:moveTo>
                    <a:lnTo>
                      <a:pt x="9" y="9"/>
                    </a:lnTo>
                    <a:lnTo>
                      <a:pt x="0" y="42"/>
                    </a:lnTo>
                    <a:lnTo>
                      <a:pt x="47" y="84"/>
                    </a:lnTo>
                    <a:lnTo>
                      <a:pt x="127" y="158"/>
                    </a:lnTo>
                    <a:lnTo>
                      <a:pt x="205" y="270"/>
                    </a:lnTo>
                    <a:lnTo>
                      <a:pt x="127" y="9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8a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4"/>
              <p:cNvSpPr/>
              <p:nvPr/>
            </p:nvSpPr>
            <p:spPr>
              <a:xfrm>
                <a:off x="5249520" y="4921560"/>
                <a:ext cx="163440" cy="59040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590400"/>
                  <a:gd name="textAreaBottom" fmla="*/ 590760 h 590400"/>
                </a:gdLst>
                <a:ahLst/>
                <a:rect l="textAreaLeft" t="textAreaTop" r="textAreaRight" b="textAreaBottom"/>
                <a:pathLst>
                  <a:path w="205" h="745">
                    <a:moveTo>
                      <a:pt x="146" y="0"/>
                    </a:moveTo>
                    <a:lnTo>
                      <a:pt x="103" y="57"/>
                    </a:lnTo>
                    <a:lnTo>
                      <a:pt x="80" y="112"/>
                    </a:lnTo>
                    <a:lnTo>
                      <a:pt x="76" y="175"/>
                    </a:lnTo>
                    <a:lnTo>
                      <a:pt x="70" y="242"/>
                    </a:lnTo>
                    <a:lnTo>
                      <a:pt x="61" y="302"/>
                    </a:lnTo>
                    <a:lnTo>
                      <a:pt x="72" y="358"/>
                    </a:lnTo>
                    <a:lnTo>
                      <a:pt x="89" y="445"/>
                    </a:lnTo>
                    <a:lnTo>
                      <a:pt x="87" y="502"/>
                    </a:lnTo>
                    <a:lnTo>
                      <a:pt x="76" y="590"/>
                    </a:lnTo>
                    <a:lnTo>
                      <a:pt x="57" y="690"/>
                    </a:lnTo>
                    <a:lnTo>
                      <a:pt x="44" y="713"/>
                    </a:lnTo>
                    <a:lnTo>
                      <a:pt x="0" y="713"/>
                    </a:lnTo>
                    <a:lnTo>
                      <a:pt x="28" y="732"/>
                    </a:lnTo>
                    <a:lnTo>
                      <a:pt x="80" y="745"/>
                    </a:lnTo>
                    <a:lnTo>
                      <a:pt x="146" y="620"/>
                    </a:lnTo>
                    <a:lnTo>
                      <a:pt x="203" y="413"/>
                    </a:lnTo>
                    <a:lnTo>
                      <a:pt x="205" y="145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8a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5"/>
              <p:cNvSpPr/>
              <p:nvPr/>
            </p:nvSpPr>
            <p:spPr>
              <a:xfrm>
                <a:off x="3874680" y="5253120"/>
                <a:ext cx="144720" cy="10152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80" h="130">
                    <a:moveTo>
                      <a:pt x="0" y="116"/>
                    </a:moveTo>
                    <a:lnTo>
                      <a:pt x="34" y="92"/>
                    </a:lnTo>
                    <a:lnTo>
                      <a:pt x="79" y="37"/>
                    </a:lnTo>
                    <a:lnTo>
                      <a:pt x="106" y="0"/>
                    </a:lnTo>
                    <a:lnTo>
                      <a:pt x="117" y="40"/>
                    </a:lnTo>
                    <a:lnTo>
                      <a:pt x="129" y="97"/>
                    </a:lnTo>
                    <a:lnTo>
                      <a:pt x="148" y="105"/>
                    </a:lnTo>
                    <a:lnTo>
                      <a:pt x="180" y="109"/>
                    </a:lnTo>
                    <a:lnTo>
                      <a:pt x="154" y="124"/>
                    </a:lnTo>
                    <a:lnTo>
                      <a:pt x="95" y="130"/>
                    </a:lnTo>
                    <a:lnTo>
                      <a:pt x="34" y="12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8a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6"/>
              <p:cNvSpPr/>
              <p:nvPr/>
            </p:nvSpPr>
            <p:spPr>
              <a:xfrm>
                <a:off x="4682880" y="5618160"/>
                <a:ext cx="555480" cy="325440"/>
              </a:xfrm>
              <a:custGeom>
                <a:avLst/>
                <a:gdLst>
                  <a:gd name="textAreaLeft" fmla="*/ 0 w 555480"/>
                  <a:gd name="textAreaRight" fmla="*/ 555840 w 55548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702" h="410">
                    <a:moveTo>
                      <a:pt x="0" y="403"/>
                    </a:moveTo>
                    <a:lnTo>
                      <a:pt x="38" y="372"/>
                    </a:lnTo>
                    <a:lnTo>
                      <a:pt x="111" y="357"/>
                    </a:lnTo>
                    <a:lnTo>
                      <a:pt x="150" y="330"/>
                    </a:lnTo>
                    <a:lnTo>
                      <a:pt x="160" y="288"/>
                    </a:lnTo>
                    <a:lnTo>
                      <a:pt x="213" y="273"/>
                    </a:lnTo>
                    <a:lnTo>
                      <a:pt x="242" y="245"/>
                    </a:lnTo>
                    <a:lnTo>
                      <a:pt x="293" y="226"/>
                    </a:lnTo>
                    <a:lnTo>
                      <a:pt x="327" y="171"/>
                    </a:lnTo>
                    <a:lnTo>
                      <a:pt x="363" y="138"/>
                    </a:lnTo>
                    <a:lnTo>
                      <a:pt x="367" y="98"/>
                    </a:lnTo>
                    <a:lnTo>
                      <a:pt x="407" y="57"/>
                    </a:lnTo>
                    <a:lnTo>
                      <a:pt x="466" y="41"/>
                    </a:lnTo>
                    <a:lnTo>
                      <a:pt x="563" y="24"/>
                    </a:lnTo>
                    <a:lnTo>
                      <a:pt x="658" y="0"/>
                    </a:lnTo>
                    <a:lnTo>
                      <a:pt x="702" y="13"/>
                    </a:lnTo>
                    <a:lnTo>
                      <a:pt x="652" y="117"/>
                    </a:lnTo>
                    <a:lnTo>
                      <a:pt x="489" y="260"/>
                    </a:lnTo>
                    <a:lnTo>
                      <a:pt x="333" y="347"/>
                    </a:lnTo>
                    <a:lnTo>
                      <a:pt x="114" y="410"/>
                    </a:lnTo>
                    <a:lnTo>
                      <a:pt x="0" y="403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7"/>
              <p:cNvSpPr/>
              <p:nvPr/>
            </p:nvSpPr>
            <p:spPr>
              <a:xfrm>
                <a:off x="4159080" y="4346640"/>
                <a:ext cx="950760" cy="1524240"/>
              </a:xfrm>
              <a:custGeom>
                <a:avLst/>
                <a:gdLst>
                  <a:gd name="textAreaLeft" fmla="*/ 0 w 950760"/>
                  <a:gd name="textAreaRight" fmla="*/ 951120 w 950760"/>
                  <a:gd name="textAreaTop" fmla="*/ 0 h 1524240"/>
                  <a:gd name="textAreaBottom" fmla="*/ 1524600 h 1524240"/>
                </a:gdLst>
                <a:ahLst/>
                <a:rect l="textAreaLeft" t="textAreaTop" r="textAreaRight" b="textAreaBottom"/>
                <a:pathLst>
                  <a:path w="1197" h="1920">
                    <a:moveTo>
                      <a:pt x="0" y="196"/>
                    </a:moveTo>
                    <a:lnTo>
                      <a:pt x="9" y="236"/>
                    </a:lnTo>
                    <a:lnTo>
                      <a:pt x="30" y="253"/>
                    </a:lnTo>
                    <a:lnTo>
                      <a:pt x="74" y="260"/>
                    </a:lnTo>
                    <a:lnTo>
                      <a:pt x="104" y="285"/>
                    </a:lnTo>
                    <a:lnTo>
                      <a:pt x="122" y="293"/>
                    </a:lnTo>
                    <a:lnTo>
                      <a:pt x="167" y="275"/>
                    </a:lnTo>
                    <a:lnTo>
                      <a:pt x="239" y="289"/>
                    </a:lnTo>
                    <a:lnTo>
                      <a:pt x="283" y="325"/>
                    </a:lnTo>
                    <a:lnTo>
                      <a:pt x="312" y="378"/>
                    </a:lnTo>
                    <a:lnTo>
                      <a:pt x="321" y="448"/>
                    </a:lnTo>
                    <a:lnTo>
                      <a:pt x="313" y="507"/>
                    </a:lnTo>
                    <a:lnTo>
                      <a:pt x="285" y="561"/>
                    </a:lnTo>
                    <a:lnTo>
                      <a:pt x="247" y="593"/>
                    </a:lnTo>
                    <a:lnTo>
                      <a:pt x="186" y="625"/>
                    </a:lnTo>
                    <a:lnTo>
                      <a:pt x="127" y="661"/>
                    </a:lnTo>
                    <a:lnTo>
                      <a:pt x="127" y="720"/>
                    </a:lnTo>
                    <a:lnTo>
                      <a:pt x="139" y="800"/>
                    </a:lnTo>
                    <a:lnTo>
                      <a:pt x="131" y="848"/>
                    </a:lnTo>
                    <a:lnTo>
                      <a:pt x="84" y="909"/>
                    </a:lnTo>
                    <a:lnTo>
                      <a:pt x="47" y="979"/>
                    </a:lnTo>
                    <a:lnTo>
                      <a:pt x="30" y="1055"/>
                    </a:lnTo>
                    <a:lnTo>
                      <a:pt x="23" y="1129"/>
                    </a:lnTo>
                    <a:lnTo>
                      <a:pt x="19" y="1173"/>
                    </a:lnTo>
                    <a:lnTo>
                      <a:pt x="78" y="1186"/>
                    </a:lnTo>
                    <a:lnTo>
                      <a:pt x="133" y="1220"/>
                    </a:lnTo>
                    <a:lnTo>
                      <a:pt x="179" y="1296"/>
                    </a:lnTo>
                    <a:lnTo>
                      <a:pt x="209" y="1397"/>
                    </a:lnTo>
                    <a:lnTo>
                      <a:pt x="218" y="1496"/>
                    </a:lnTo>
                    <a:lnTo>
                      <a:pt x="209" y="1578"/>
                    </a:lnTo>
                    <a:lnTo>
                      <a:pt x="222" y="1637"/>
                    </a:lnTo>
                    <a:lnTo>
                      <a:pt x="255" y="1699"/>
                    </a:lnTo>
                    <a:lnTo>
                      <a:pt x="298" y="1747"/>
                    </a:lnTo>
                    <a:lnTo>
                      <a:pt x="313" y="1798"/>
                    </a:lnTo>
                    <a:lnTo>
                      <a:pt x="351" y="1832"/>
                    </a:lnTo>
                    <a:lnTo>
                      <a:pt x="410" y="1846"/>
                    </a:lnTo>
                    <a:lnTo>
                      <a:pt x="443" y="1876"/>
                    </a:lnTo>
                    <a:lnTo>
                      <a:pt x="465" y="1920"/>
                    </a:lnTo>
                    <a:lnTo>
                      <a:pt x="490" y="1874"/>
                    </a:lnTo>
                    <a:lnTo>
                      <a:pt x="523" y="1829"/>
                    </a:lnTo>
                    <a:lnTo>
                      <a:pt x="576" y="1806"/>
                    </a:lnTo>
                    <a:lnTo>
                      <a:pt x="621" y="1806"/>
                    </a:lnTo>
                    <a:lnTo>
                      <a:pt x="644" y="1785"/>
                    </a:lnTo>
                    <a:lnTo>
                      <a:pt x="682" y="1739"/>
                    </a:lnTo>
                    <a:lnTo>
                      <a:pt x="737" y="1726"/>
                    </a:lnTo>
                    <a:lnTo>
                      <a:pt x="796" y="1697"/>
                    </a:lnTo>
                    <a:lnTo>
                      <a:pt x="842" y="1656"/>
                    </a:lnTo>
                    <a:lnTo>
                      <a:pt x="870" y="1599"/>
                    </a:lnTo>
                    <a:lnTo>
                      <a:pt x="878" y="1536"/>
                    </a:lnTo>
                    <a:lnTo>
                      <a:pt x="948" y="1483"/>
                    </a:lnTo>
                    <a:lnTo>
                      <a:pt x="1011" y="1439"/>
                    </a:lnTo>
                    <a:lnTo>
                      <a:pt x="1062" y="1445"/>
                    </a:lnTo>
                    <a:lnTo>
                      <a:pt x="1127" y="1454"/>
                    </a:lnTo>
                    <a:lnTo>
                      <a:pt x="1197" y="1452"/>
                    </a:lnTo>
                    <a:lnTo>
                      <a:pt x="1138" y="1420"/>
                    </a:lnTo>
                    <a:lnTo>
                      <a:pt x="1081" y="1361"/>
                    </a:lnTo>
                    <a:lnTo>
                      <a:pt x="1019" y="1285"/>
                    </a:lnTo>
                    <a:lnTo>
                      <a:pt x="948" y="1226"/>
                    </a:lnTo>
                    <a:lnTo>
                      <a:pt x="863" y="1159"/>
                    </a:lnTo>
                    <a:lnTo>
                      <a:pt x="815" y="1184"/>
                    </a:lnTo>
                    <a:lnTo>
                      <a:pt x="751" y="1199"/>
                    </a:lnTo>
                    <a:lnTo>
                      <a:pt x="680" y="1197"/>
                    </a:lnTo>
                    <a:lnTo>
                      <a:pt x="597" y="1173"/>
                    </a:lnTo>
                    <a:lnTo>
                      <a:pt x="530" y="1121"/>
                    </a:lnTo>
                    <a:lnTo>
                      <a:pt x="494" y="1064"/>
                    </a:lnTo>
                    <a:lnTo>
                      <a:pt x="477" y="960"/>
                    </a:lnTo>
                    <a:lnTo>
                      <a:pt x="473" y="859"/>
                    </a:lnTo>
                    <a:lnTo>
                      <a:pt x="483" y="755"/>
                    </a:lnTo>
                    <a:lnTo>
                      <a:pt x="496" y="705"/>
                    </a:lnTo>
                    <a:lnTo>
                      <a:pt x="450" y="656"/>
                    </a:lnTo>
                    <a:lnTo>
                      <a:pt x="424" y="601"/>
                    </a:lnTo>
                    <a:lnTo>
                      <a:pt x="420" y="528"/>
                    </a:lnTo>
                    <a:lnTo>
                      <a:pt x="426" y="447"/>
                    </a:lnTo>
                    <a:lnTo>
                      <a:pt x="433" y="395"/>
                    </a:lnTo>
                    <a:lnTo>
                      <a:pt x="407" y="346"/>
                    </a:lnTo>
                    <a:lnTo>
                      <a:pt x="431" y="302"/>
                    </a:lnTo>
                    <a:lnTo>
                      <a:pt x="395" y="270"/>
                    </a:lnTo>
                    <a:lnTo>
                      <a:pt x="367" y="228"/>
                    </a:lnTo>
                    <a:lnTo>
                      <a:pt x="361" y="175"/>
                    </a:lnTo>
                    <a:lnTo>
                      <a:pt x="369" y="108"/>
                    </a:lnTo>
                    <a:lnTo>
                      <a:pt x="386" y="42"/>
                    </a:lnTo>
                    <a:lnTo>
                      <a:pt x="405" y="0"/>
                    </a:lnTo>
                    <a:lnTo>
                      <a:pt x="236" y="57"/>
                    </a:lnTo>
                    <a:lnTo>
                      <a:pt x="64" y="144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5e75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8"/>
              <p:cNvSpPr/>
              <p:nvPr/>
            </p:nvSpPr>
            <p:spPr>
              <a:xfrm>
                <a:off x="4933800" y="4692960"/>
                <a:ext cx="19080" cy="252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3" h="32">
                    <a:moveTo>
                      <a:pt x="17" y="0"/>
                    </a:moveTo>
                    <a:lnTo>
                      <a:pt x="0" y="32"/>
                    </a:lnTo>
                    <a:lnTo>
                      <a:pt x="23" y="3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e75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9"/>
              <p:cNvSpPr/>
              <p:nvPr/>
            </p:nvSpPr>
            <p:spPr>
              <a:xfrm>
                <a:off x="4767120" y="4759560"/>
                <a:ext cx="44280" cy="522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57" h="66">
                    <a:moveTo>
                      <a:pt x="0" y="66"/>
                    </a:moveTo>
                    <a:lnTo>
                      <a:pt x="30" y="30"/>
                    </a:lnTo>
                    <a:lnTo>
                      <a:pt x="49" y="0"/>
                    </a:lnTo>
                    <a:lnTo>
                      <a:pt x="57" y="11"/>
                    </a:lnTo>
                    <a:lnTo>
                      <a:pt x="34" y="38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e75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40"/>
              <p:cNvSpPr/>
              <p:nvPr/>
            </p:nvSpPr>
            <p:spPr>
              <a:xfrm>
                <a:off x="5219280" y="4686480"/>
                <a:ext cx="79560" cy="745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101" h="93">
                    <a:moveTo>
                      <a:pt x="28" y="0"/>
                    </a:moveTo>
                    <a:lnTo>
                      <a:pt x="4" y="1"/>
                    </a:lnTo>
                    <a:lnTo>
                      <a:pt x="0" y="19"/>
                    </a:lnTo>
                    <a:lnTo>
                      <a:pt x="30" y="45"/>
                    </a:lnTo>
                    <a:lnTo>
                      <a:pt x="101" y="9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5e75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1"/>
              <p:cNvSpPr/>
              <p:nvPr/>
            </p:nvSpPr>
            <p:spPr>
              <a:xfrm>
                <a:off x="5313240" y="4956480"/>
                <a:ext cx="99720" cy="5382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38200"/>
                  <a:gd name="textAreaBottom" fmla="*/ 538560 h 538200"/>
                </a:gdLst>
                <a:ahLst/>
                <a:rect l="textAreaLeft" t="textAreaTop" r="textAreaRight" b="textAreaBottom"/>
                <a:pathLst>
                  <a:path w="125" h="677">
                    <a:moveTo>
                      <a:pt x="74" y="0"/>
                    </a:moveTo>
                    <a:lnTo>
                      <a:pt x="47" y="34"/>
                    </a:lnTo>
                    <a:lnTo>
                      <a:pt x="32" y="91"/>
                    </a:lnTo>
                    <a:lnTo>
                      <a:pt x="26" y="163"/>
                    </a:lnTo>
                    <a:lnTo>
                      <a:pt x="17" y="236"/>
                    </a:lnTo>
                    <a:lnTo>
                      <a:pt x="26" y="279"/>
                    </a:lnTo>
                    <a:lnTo>
                      <a:pt x="42" y="346"/>
                    </a:lnTo>
                    <a:lnTo>
                      <a:pt x="47" y="414"/>
                    </a:lnTo>
                    <a:lnTo>
                      <a:pt x="32" y="513"/>
                    </a:lnTo>
                    <a:lnTo>
                      <a:pt x="7" y="639"/>
                    </a:lnTo>
                    <a:lnTo>
                      <a:pt x="0" y="677"/>
                    </a:lnTo>
                    <a:lnTo>
                      <a:pt x="64" y="595"/>
                    </a:lnTo>
                    <a:lnTo>
                      <a:pt x="116" y="376"/>
                    </a:lnTo>
                    <a:lnTo>
                      <a:pt x="125" y="10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5e75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>
                <a:off x="3919320" y="5297760"/>
                <a:ext cx="41400" cy="349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51" h="44">
                    <a:moveTo>
                      <a:pt x="0" y="42"/>
                    </a:moveTo>
                    <a:lnTo>
                      <a:pt x="26" y="19"/>
                    </a:lnTo>
                    <a:lnTo>
                      <a:pt x="38" y="0"/>
                    </a:lnTo>
                    <a:lnTo>
                      <a:pt x="40" y="29"/>
                    </a:lnTo>
                    <a:lnTo>
                      <a:pt x="51" y="4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e75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>
                <a:off x="4192200" y="4368960"/>
                <a:ext cx="270000" cy="26676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340" h="337">
                    <a:moveTo>
                      <a:pt x="0" y="141"/>
                    </a:moveTo>
                    <a:lnTo>
                      <a:pt x="5" y="177"/>
                    </a:lnTo>
                    <a:lnTo>
                      <a:pt x="26" y="198"/>
                    </a:lnTo>
                    <a:lnTo>
                      <a:pt x="74" y="215"/>
                    </a:lnTo>
                    <a:lnTo>
                      <a:pt x="91" y="229"/>
                    </a:lnTo>
                    <a:lnTo>
                      <a:pt x="119" y="213"/>
                    </a:lnTo>
                    <a:lnTo>
                      <a:pt x="176" y="215"/>
                    </a:lnTo>
                    <a:lnTo>
                      <a:pt x="233" y="232"/>
                    </a:lnTo>
                    <a:lnTo>
                      <a:pt x="285" y="272"/>
                    </a:lnTo>
                    <a:lnTo>
                      <a:pt x="313" y="337"/>
                    </a:lnTo>
                    <a:lnTo>
                      <a:pt x="340" y="286"/>
                    </a:lnTo>
                    <a:lnTo>
                      <a:pt x="306" y="236"/>
                    </a:lnTo>
                    <a:lnTo>
                      <a:pt x="279" y="185"/>
                    </a:lnTo>
                    <a:lnTo>
                      <a:pt x="277" y="130"/>
                    </a:lnTo>
                    <a:lnTo>
                      <a:pt x="287" y="59"/>
                    </a:lnTo>
                    <a:lnTo>
                      <a:pt x="302" y="0"/>
                    </a:lnTo>
                    <a:lnTo>
                      <a:pt x="154" y="44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2945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>
                <a:off x="4208040" y="4611960"/>
                <a:ext cx="808200" cy="1203120"/>
              </a:xfrm>
              <a:custGeom>
                <a:avLst/>
                <a:gdLst>
                  <a:gd name="textAreaLeft" fmla="*/ 0 w 808200"/>
                  <a:gd name="textAreaRight" fmla="*/ 808560 w 808200"/>
                  <a:gd name="textAreaTop" fmla="*/ 0 h 1203120"/>
                  <a:gd name="textAreaBottom" fmla="*/ 1203480 h 1203120"/>
                </a:gdLst>
                <a:ahLst/>
                <a:rect l="textAreaLeft" t="textAreaTop" r="textAreaRight" b="textAreaBottom"/>
                <a:pathLst>
                  <a:path w="1016" h="1518">
                    <a:moveTo>
                      <a:pt x="302" y="82"/>
                    </a:moveTo>
                    <a:lnTo>
                      <a:pt x="292" y="154"/>
                    </a:lnTo>
                    <a:lnTo>
                      <a:pt x="273" y="217"/>
                    </a:lnTo>
                    <a:lnTo>
                      <a:pt x="245" y="272"/>
                    </a:lnTo>
                    <a:lnTo>
                      <a:pt x="195" y="310"/>
                    </a:lnTo>
                    <a:lnTo>
                      <a:pt x="129" y="341"/>
                    </a:lnTo>
                    <a:lnTo>
                      <a:pt x="104" y="352"/>
                    </a:lnTo>
                    <a:lnTo>
                      <a:pt x="108" y="404"/>
                    </a:lnTo>
                    <a:lnTo>
                      <a:pt x="116" y="476"/>
                    </a:lnTo>
                    <a:lnTo>
                      <a:pt x="108" y="521"/>
                    </a:lnTo>
                    <a:lnTo>
                      <a:pt x="83" y="561"/>
                    </a:lnTo>
                    <a:lnTo>
                      <a:pt x="30" y="628"/>
                    </a:lnTo>
                    <a:lnTo>
                      <a:pt x="11" y="685"/>
                    </a:lnTo>
                    <a:lnTo>
                      <a:pt x="1" y="755"/>
                    </a:lnTo>
                    <a:lnTo>
                      <a:pt x="0" y="807"/>
                    </a:lnTo>
                    <a:lnTo>
                      <a:pt x="55" y="827"/>
                    </a:lnTo>
                    <a:lnTo>
                      <a:pt x="114" y="884"/>
                    </a:lnTo>
                    <a:lnTo>
                      <a:pt x="155" y="961"/>
                    </a:lnTo>
                    <a:lnTo>
                      <a:pt x="182" y="1044"/>
                    </a:lnTo>
                    <a:lnTo>
                      <a:pt x="192" y="1132"/>
                    </a:lnTo>
                    <a:lnTo>
                      <a:pt x="188" y="1223"/>
                    </a:lnTo>
                    <a:lnTo>
                      <a:pt x="192" y="1276"/>
                    </a:lnTo>
                    <a:lnTo>
                      <a:pt x="220" y="1339"/>
                    </a:lnTo>
                    <a:lnTo>
                      <a:pt x="262" y="1388"/>
                    </a:lnTo>
                    <a:lnTo>
                      <a:pt x="285" y="1432"/>
                    </a:lnTo>
                    <a:lnTo>
                      <a:pt x="313" y="1468"/>
                    </a:lnTo>
                    <a:lnTo>
                      <a:pt x="370" y="1480"/>
                    </a:lnTo>
                    <a:lnTo>
                      <a:pt x="401" y="1518"/>
                    </a:lnTo>
                    <a:lnTo>
                      <a:pt x="420" y="1483"/>
                    </a:lnTo>
                    <a:lnTo>
                      <a:pt x="461" y="1451"/>
                    </a:lnTo>
                    <a:lnTo>
                      <a:pt x="526" y="1428"/>
                    </a:lnTo>
                    <a:lnTo>
                      <a:pt x="566" y="1398"/>
                    </a:lnTo>
                    <a:lnTo>
                      <a:pt x="604" y="1356"/>
                    </a:lnTo>
                    <a:lnTo>
                      <a:pt x="650" y="1358"/>
                    </a:lnTo>
                    <a:lnTo>
                      <a:pt x="703" y="1337"/>
                    </a:lnTo>
                    <a:lnTo>
                      <a:pt x="739" y="1303"/>
                    </a:lnTo>
                    <a:lnTo>
                      <a:pt x="760" y="1246"/>
                    </a:lnTo>
                    <a:lnTo>
                      <a:pt x="760" y="1192"/>
                    </a:lnTo>
                    <a:lnTo>
                      <a:pt x="838" y="1128"/>
                    </a:lnTo>
                    <a:lnTo>
                      <a:pt x="937" y="1058"/>
                    </a:lnTo>
                    <a:lnTo>
                      <a:pt x="988" y="1067"/>
                    </a:lnTo>
                    <a:lnTo>
                      <a:pt x="1016" y="1078"/>
                    </a:lnTo>
                    <a:lnTo>
                      <a:pt x="971" y="1031"/>
                    </a:lnTo>
                    <a:lnTo>
                      <a:pt x="904" y="970"/>
                    </a:lnTo>
                    <a:lnTo>
                      <a:pt x="828" y="907"/>
                    </a:lnTo>
                    <a:lnTo>
                      <a:pt x="788" y="884"/>
                    </a:lnTo>
                    <a:lnTo>
                      <a:pt x="733" y="905"/>
                    </a:lnTo>
                    <a:lnTo>
                      <a:pt x="634" y="919"/>
                    </a:lnTo>
                    <a:lnTo>
                      <a:pt x="560" y="907"/>
                    </a:lnTo>
                    <a:lnTo>
                      <a:pt x="475" y="865"/>
                    </a:lnTo>
                    <a:lnTo>
                      <a:pt x="416" y="807"/>
                    </a:lnTo>
                    <a:lnTo>
                      <a:pt x="382" y="734"/>
                    </a:lnTo>
                    <a:lnTo>
                      <a:pt x="364" y="616"/>
                    </a:lnTo>
                    <a:lnTo>
                      <a:pt x="364" y="504"/>
                    </a:lnTo>
                    <a:lnTo>
                      <a:pt x="382" y="388"/>
                    </a:lnTo>
                    <a:lnTo>
                      <a:pt x="357" y="352"/>
                    </a:lnTo>
                    <a:lnTo>
                      <a:pt x="325" y="295"/>
                    </a:lnTo>
                    <a:lnTo>
                      <a:pt x="306" y="229"/>
                    </a:lnTo>
                    <a:lnTo>
                      <a:pt x="325" y="111"/>
                    </a:lnTo>
                    <a:lnTo>
                      <a:pt x="325" y="50"/>
                    </a:lnTo>
                    <a:lnTo>
                      <a:pt x="285" y="0"/>
                    </a:lnTo>
                    <a:lnTo>
                      <a:pt x="298" y="63"/>
                    </a:lnTo>
                    <a:lnTo>
                      <a:pt x="302" y="82"/>
                    </a:lnTo>
                    <a:close/>
                  </a:path>
                </a:pathLst>
              </a:custGeom>
              <a:solidFill>
                <a:srgbClr val="2945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5"/>
              <p:cNvSpPr/>
              <p:nvPr/>
            </p:nvSpPr>
            <p:spPr>
              <a:xfrm>
                <a:off x="5354280" y="4997520"/>
                <a:ext cx="54000" cy="2336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33640"/>
                  <a:gd name="textAreaBottom" fmla="*/ 234000 h 233640"/>
                </a:gdLst>
                <a:ahLst/>
                <a:rect l="textAreaLeft" t="textAreaTop" r="textAreaRight" b="textAreaBottom"/>
                <a:pathLst>
                  <a:path w="66" h="295">
                    <a:moveTo>
                      <a:pt x="36" y="0"/>
                    </a:moveTo>
                    <a:lnTo>
                      <a:pt x="17" y="42"/>
                    </a:lnTo>
                    <a:lnTo>
                      <a:pt x="8" y="110"/>
                    </a:lnTo>
                    <a:lnTo>
                      <a:pt x="0" y="166"/>
                    </a:lnTo>
                    <a:lnTo>
                      <a:pt x="9" y="217"/>
                    </a:lnTo>
                    <a:lnTo>
                      <a:pt x="46" y="295"/>
                    </a:lnTo>
                    <a:lnTo>
                      <a:pt x="66" y="179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2945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6"/>
              <p:cNvSpPr/>
              <p:nvPr/>
            </p:nvSpPr>
            <p:spPr>
              <a:xfrm>
                <a:off x="4641480" y="4364280"/>
                <a:ext cx="515880" cy="353880"/>
              </a:xfrm>
              <a:custGeom>
                <a:avLst/>
                <a:gdLst>
                  <a:gd name="textAreaLeft" fmla="*/ 0 w 515880"/>
                  <a:gd name="textAreaRight" fmla="*/ 516240 w 51588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650" h="446">
                    <a:moveTo>
                      <a:pt x="40" y="0"/>
                    </a:moveTo>
                    <a:lnTo>
                      <a:pt x="21" y="28"/>
                    </a:lnTo>
                    <a:lnTo>
                      <a:pt x="0" y="62"/>
                    </a:lnTo>
                    <a:lnTo>
                      <a:pt x="40" y="66"/>
                    </a:lnTo>
                    <a:lnTo>
                      <a:pt x="78" y="87"/>
                    </a:lnTo>
                    <a:lnTo>
                      <a:pt x="106" y="116"/>
                    </a:lnTo>
                    <a:lnTo>
                      <a:pt x="99" y="178"/>
                    </a:lnTo>
                    <a:lnTo>
                      <a:pt x="93" y="226"/>
                    </a:lnTo>
                    <a:lnTo>
                      <a:pt x="80" y="262"/>
                    </a:lnTo>
                    <a:lnTo>
                      <a:pt x="53" y="302"/>
                    </a:lnTo>
                    <a:lnTo>
                      <a:pt x="25" y="342"/>
                    </a:lnTo>
                    <a:lnTo>
                      <a:pt x="25" y="401"/>
                    </a:lnTo>
                    <a:lnTo>
                      <a:pt x="21" y="446"/>
                    </a:lnTo>
                    <a:lnTo>
                      <a:pt x="61" y="416"/>
                    </a:lnTo>
                    <a:lnTo>
                      <a:pt x="76" y="443"/>
                    </a:lnTo>
                    <a:lnTo>
                      <a:pt x="97" y="435"/>
                    </a:lnTo>
                    <a:lnTo>
                      <a:pt x="118" y="391"/>
                    </a:lnTo>
                    <a:lnTo>
                      <a:pt x="141" y="334"/>
                    </a:lnTo>
                    <a:lnTo>
                      <a:pt x="171" y="289"/>
                    </a:lnTo>
                    <a:lnTo>
                      <a:pt x="213" y="279"/>
                    </a:lnTo>
                    <a:lnTo>
                      <a:pt x="243" y="289"/>
                    </a:lnTo>
                    <a:lnTo>
                      <a:pt x="247" y="258"/>
                    </a:lnTo>
                    <a:lnTo>
                      <a:pt x="279" y="215"/>
                    </a:lnTo>
                    <a:lnTo>
                      <a:pt x="316" y="188"/>
                    </a:lnTo>
                    <a:lnTo>
                      <a:pt x="367" y="203"/>
                    </a:lnTo>
                    <a:lnTo>
                      <a:pt x="422" y="241"/>
                    </a:lnTo>
                    <a:lnTo>
                      <a:pt x="471" y="247"/>
                    </a:lnTo>
                    <a:lnTo>
                      <a:pt x="513" y="285"/>
                    </a:lnTo>
                    <a:lnTo>
                      <a:pt x="542" y="348"/>
                    </a:lnTo>
                    <a:lnTo>
                      <a:pt x="553" y="410"/>
                    </a:lnTo>
                    <a:lnTo>
                      <a:pt x="568" y="349"/>
                    </a:lnTo>
                    <a:lnTo>
                      <a:pt x="587" y="298"/>
                    </a:lnTo>
                    <a:lnTo>
                      <a:pt x="650" y="254"/>
                    </a:lnTo>
                    <a:lnTo>
                      <a:pt x="507" y="133"/>
                    </a:lnTo>
                    <a:lnTo>
                      <a:pt x="238" y="1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7"/>
              <p:cNvSpPr/>
              <p:nvPr/>
            </p:nvSpPr>
            <p:spPr>
              <a:xfrm>
                <a:off x="3814560" y="4599000"/>
                <a:ext cx="423720" cy="632160"/>
              </a:xfrm>
              <a:custGeom>
                <a:avLst/>
                <a:gdLst>
                  <a:gd name="textAreaLeft" fmla="*/ 0 w 423720"/>
                  <a:gd name="textAreaRight" fmla="*/ 424080 w 4237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534" h="797">
                    <a:moveTo>
                      <a:pt x="277" y="0"/>
                    </a:moveTo>
                    <a:lnTo>
                      <a:pt x="288" y="53"/>
                    </a:lnTo>
                    <a:lnTo>
                      <a:pt x="319" y="99"/>
                    </a:lnTo>
                    <a:lnTo>
                      <a:pt x="359" y="120"/>
                    </a:lnTo>
                    <a:lnTo>
                      <a:pt x="399" y="114"/>
                    </a:lnTo>
                    <a:lnTo>
                      <a:pt x="448" y="124"/>
                    </a:lnTo>
                    <a:lnTo>
                      <a:pt x="501" y="133"/>
                    </a:lnTo>
                    <a:lnTo>
                      <a:pt x="534" y="133"/>
                    </a:lnTo>
                    <a:lnTo>
                      <a:pt x="511" y="158"/>
                    </a:lnTo>
                    <a:lnTo>
                      <a:pt x="490" y="179"/>
                    </a:lnTo>
                    <a:lnTo>
                      <a:pt x="452" y="198"/>
                    </a:lnTo>
                    <a:lnTo>
                      <a:pt x="420" y="213"/>
                    </a:lnTo>
                    <a:lnTo>
                      <a:pt x="395" y="272"/>
                    </a:lnTo>
                    <a:lnTo>
                      <a:pt x="372" y="344"/>
                    </a:lnTo>
                    <a:lnTo>
                      <a:pt x="357" y="417"/>
                    </a:lnTo>
                    <a:lnTo>
                      <a:pt x="353" y="462"/>
                    </a:lnTo>
                    <a:lnTo>
                      <a:pt x="330" y="519"/>
                    </a:lnTo>
                    <a:lnTo>
                      <a:pt x="304" y="569"/>
                    </a:lnTo>
                    <a:lnTo>
                      <a:pt x="275" y="628"/>
                    </a:lnTo>
                    <a:lnTo>
                      <a:pt x="269" y="687"/>
                    </a:lnTo>
                    <a:lnTo>
                      <a:pt x="237" y="662"/>
                    </a:lnTo>
                    <a:lnTo>
                      <a:pt x="182" y="650"/>
                    </a:lnTo>
                    <a:lnTo>
                      <a:pt x="135" y="666"/>
                    </a:lnTo>
                    <a:lnTo>
                      <a:pt x="96" y="698"/>
                    </a:lnTo>
                    <a:lnTo>
                      <a:pt x="58" y="746"/>
                    </a:lnTo>
                    <a:lnTo>
                      <a:pt x="7" y="797"/>
                    </a:lnTo>
                    <a:lnTo>
                      <a:pt x="0" y="612"/>
                    </a:lnTo>
                    <a:lnTo>
                      <a:pt x="58" y="320"/>
                    </a:lnTo>
                    <a:lnTo>
                      <a:pt x="152" y="120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8"/>
              <p:cNvSpPr/>
              <p:nvPr/>
            </p:nvSpPr>
            <p:spPr>
              <a:xfrm>
                <a:off x="3868560" y="5419800"/>
                <a:ext cx="438120" cy="46368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553" h="584">
                    <a:moveTo>
                      <a:pt x="23" y="61"/>
                    </a:moveTo>
                    <a:lnTo>
                      <a:pt x="95" y="59"/>
                    </a:lnTo>
                    <a:lnTo>
                      <a:pt x="171" y="46"/>
                    </a:lnTo>
                    <a:lnTo>
                      <a:pt x="249" y="35"/>
                    </a:lnTo>
                    <a:lnTo>
                      <a:pt x="295" y="6"/>
                    </a:lnTo>
                    <a:lnTo>
                      <a:pt x="319" y="0"/>
                    </a:lnTo>
                    <a:lnTo>
                      <a:pt x="363" y="19"/>
                    </a:lnTo>
                    <a:lnTo>
                      <a:pt x="376" y="63"/>
                    </a:lnTo>
                    <a:lnTo>
                      <a:pt x="382" y="141"/>
                    </a:lnTo>
                    <a:lnTo>
                      <a:pt x="371" y="204"/>
                    </a:lnTo>
                    <a:lnTo>
                      <a:pt x="367" y="253"/>
                    </a:lnTo>
                    <a:lnTo>
                      <a:pt x="378" y="324"/>
                    </a:lnTo>
                    <a:lnTo>
                      <a:pt x="405" y="381"/>
                    </a:lnTo>
                    <a:lnTo>
                      <a:pt x="447" y="453"/>
                    </a:lnTo>
                    <a:lnTo>
                      <a:pt x="494" y="510"/>
                    </a:lnTo>
                    <a:lnTo>
                      <a:pt x="553" y="584"/>
                    </a:lnTo>
                    <a:lnTo>
                      <a:pt x="373" y="508"/>
                    </a:lnTo>
                    <a:lnTo>
                      <a:pt x="186" y="350"/>
                    </a:lnTo>
                    <a:lnTo>
                      <a:pt x="0" y="96"/>
                    </a:lnTo>
                    <a:lnTo>
                      <a:pt x="23" y="6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9"/>
              <p:cNvSpPr/>
              <p:nvPr/>
            </p:nvSpPr>
            <p:spPr>
              <a:xfrm>
                <a:off x="4668480" y="4702320"/>
                <a:ext cx="569880" cy="687240"/>
              </a:xfrm>
              <a:custGeom>
                <a:avLst/>
                <a:gdLst>
                  <a:gd name="textAreaLeft" fmla="*/ 0 w 569880"/>
                  <a:gd name="textAreaRight" fmla="*/ 570240 w 56988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719" h="866">
                    <a:moveTo>
                      <a:pt x="63" y="273"/>
                    </a:moveTo>
                    <a:lnTo>
                      <a:pt x="46" y="309"/>
                    </a:lnTo>
                    <a:lnTo>
                      <a:pt x="46" y="357"/>
                    </a:lnTo>
                    <a:lnTo>
                      <a:pt x="19" y="395"/>
                    </a:lnTo>
                    <a:lnTo>
                      <a:pt x="0" y="446"/>
                    </a:lnTo>
                    <a:lnTo>
                      <a:pt x="17" y="482"/>
                    </a:lnTo>
                    <a:lnTo>
                      <a:pt x="33" y="530"/>
                    </a:lnTo>
                    <a:lnTo>
                      <a:pt x="103" y="560"/>
                    </a:lnTo>
                    <a:lnTo>
                      <a:pt x="148" y="557"/>
                    </a:lnTo>
                    <a:lnTo>
                      <a:pt x="186" y="528"/>
                    </a:lnTo>
                    <a:lnTo>
                      <a:pt x="280" y="536"/>
                    </a:lnTo>
                    <a:lnTo>
                      <a:pt x="365" y="570"/>
                    </a:lnTo>
                    <a:lnTo>
                      <a:pt x="454" y="633"/>
                    </a:lnTo>
                    <a:lnTo>
                      <a:pt x="502" y="682"/>
                    </a:lnTo>
                    <a:lnTo>
                      <a:pt x="510" y="731"/>
                    </a:lnTo>
                    <a:lnTo>
                      <a:pt x="557" y="779"/>
                    </a:lnTo>
                    <a:lnTo>
                      <a:pt x="624" y="836"/>
                    </a:lnTo>
                    <a:lnTo>
                      <a:pt x="662" y="866"/>
                    </a:lnTo>
                    <a:lnTo>
                      <a:pt x="671" y="851"/>
                    </a:lnTo>
                    <a:lnTo>
                      <a:pt x="671" y="787"/>
                    </a:lnTo>
                    <a:lnTo>
                      <a:pt x="665" y="688"/>
                    </a:lnTo>
                    <a:lnTo>
                      <a:pt x="671" y="572"/>
                    </a:lnTo>
                    <a:lnTo>
                      <a:pt x="673" y="456"/>
                    </a:lnTo>
                    <a:lnTo>
                      <a:pt x="681" y="382"/>
                    </a:lnTo>
                    <a:lnTo>
                      <a:pt x="700" y="317"/>
                    </a:lnTo>
                    <a:lnTo>
                      <a:pt x="719" y="258"/>
                    </a:lnTo>
                    <a:lnTo>
                      <a:pt x="677" y="199"/>
                    </a:lnTo>
                    <a:lnTo>
                      <a:pt x="631" y="173"/>
                    </a:lnTo>
                    <a:lnTo>
                      <a:pt x="586" y="138"/>
                    </a:lnTo>
                    <a:lnTo>
                      <a:pt x="548" y="87"/>
                    </a:lnTo>
                    <a:lnTo>
                      <a:pt x="523" y="34"/>
                    </a:lnTo>
                    <a:lnTo>
                      <a:pt x="515" y="0"/>
                    </a:lnTo>
                    <a:lnTo>
                      <a:pt x="506" y="47"/>
                    </a:lnTo>
                    <a:lnTo>
                      <a:pt x="489" y="85"/>
                    </a:lnTo>
                    <a:lnTo>
                      <a:pt x="454" y="127"/>
                    </a:lnTo>
                    <a:lnTo>
                      <a:pt x="405" y="154"/>
                    </a:lnTo>
                    <a:lnTo>
                      <a:pt x="331" y="190"/>
                    </a:lnTo>
                    <a:lnTo>
                      <a:pt x="282" y="188"/>
                    </a:lnTo>
                    <a:lnTo>
                      <a:pt x="259" y="218"/>
                    </a:lnTo>
                    <a:lnTo>
                      <a:pt x="217" y="250"/>
                    </a:lnTo>
                    <a:lnTo>
                      <a:pt x="164" y="270"/>
                    </a:lnTo>
                    <a:lnTo>
                      <a:pt x="107" y="270"/>
                    </a:lnTo>
                    <a:lnTo>
                      <a:pt x="63" y="273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50"/>
              <p:cNvSpPr/>
              <p:nvPr/>
            </p:nvSpPr>
            <p:spPr>
              <a:xfrm>
                <a:off x="3804840" y="4635720"/>
                <a:ext cx="366840" cy="53172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462" h="671">
                    <a:moveTo>
                      <a:pt x="257" y="0"/>
                    </a:moveTo>
                    <a:lnTo>
                      <a:pt x="278" y="51"/>
                    </a:lnTo>
                    <a:lnTo>
                      <a:pt x="320" y="93"/>
                    </a:lnTo>
                    <a:lnTo>
                      <a:pt x="361" y="112"/>
                    </a:lnTo>
                    <a:lnTo>
                      <a:pt x="418" y="106"/>
                    </a:lnTo>
                    <a:lnTo>
                      <a:pt x="462" y="114"/>
                    </a:lnTo>
                    <a:lnTo>
                      <a:pt x="426" y="131"/>
                    </a:lnTo>
                    <a:lnTo>
                      <a:pt x="394" y="152"/>
                    </a:lnTo>
                    <a:lnTo>
                      <a:pt x="359" y="247"/>
                    </a:lnTo>
                    <a:lnTo>
                      <a:pt x="335" y="338"/>
                    </a:lnTo>
                    <a:lnTo>
                      <a:pt x="329" y="405"/>
                    </a:lnTo>
                    <a:lnTo>
                      <a:pt x="301" y="458"/>
                    </a:lnTo>
                    <a:lnTo>
                      <a:pt x="270" y="523"/>
                    </a:lnTo>
                    <a:lnTo>
                      <a:pt x="255" y="570"/>
                    </a:lnTo>
                    <a:lnTo>
                      <a:pt x="206" y="566"/>
                    </a:lnTo>
                    <a:lnTo>
                      <a:pt x="147" y="576"/>
                    </a:lnTo>
                    <a:lnTo>
                      <a:pt x="93" y="608"/>
                    </a:lnTo>
                    <a:lnTo>
                      <a:pt x="48" y="652"/>
                    </a:lnTo>
                    <a:lnTo>
                      <a:pt x="0" y="671"/>
                    </a:lnTo>
                    <a:lnTo>
                      <a:pt x="21" y="464"/>
                    </a:lnTo>
                    <a:lnTo>
                      <a:pt x="78" y="276"/>
                    </a:lnTo>
                    <a:lnTo>
                      <a:pt x="173" y="42"/>
                    </a:lnTo>
                    <a:lnTo>
                      <a:pt x="257" y="0"/>
                    </a:lnTo>
                    <a:close/>
                  </a:path>
                </a:pathLst>
              </a:custGeom>
              <a:solidFill>
                <a:srgbClr val="ff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51"/>
              <p:cNvSpPr/>
              <p:nvPr/>
            </p:nvSpPr>
            <p:spPr>
              <a:xfrm>
                <a:off x="4684320" y="4356360"/>
                <a:ext cx="433440" cy="31572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548" h="398">
                    <a:moveTo>
                      <a:pt x="27" y="0"/>
                    </a:moveTo>
                    <a:lnTo>
                      <a:pt x="8" y="44"/>
                    </a:lnTo>
                    <a:lnTo>
                      <a:pt x="42" y="65"/>
                    </a:lnTo>
                    <a:lnTo>
                      <a:pt x="72" y="97"/>
                    </a:lnTo>
                    <a:lnTo>
                      <a:pt x="86" y="137"/>
                    </a:lnTo>
                    <a:lnTo>
                      <a:pt x="72" y="204"/>
                    </a:lnTo>
                    <a:lnTo>
                      <a:pt x="55" y="274"/>
                    </a:lnTo>
                    <a:lnTo>
                      <a:pt x="23" y="339"/>
                    </a:lnTo>
                    <a:lnTo>
                      <a:pt x="0" y="371"/>
                    </a:lnTo>
                    <a:lnTo>
                      <a:pt x="0" y="398"/>
                    </a:lnTo>
                    <a:lnTo>
                      <a:pt x="27" y="365"/>
                    </a:lnTo>
                    <a:lnTo>
                      <a:pt x="33" y="386"/>
                    </a:lnTo>
                    <a:lnTo>
                      <a:pt x="50" y="342"/>
                    </a:lnTo>
                    <a:lnTo>
                      <a:pt x="72" y="289"/>
                    </a:lnTo>
                    <a:lnTo>
                      <a:pt x="101" y="259"/>
                    </a:lnTo>
                    <a:lnTo>
                      <a:pt x="145" y="247"/>
                    </a:lnTo>
                    <a:lnTo>
                      <a:pt x="167" y="251"/>
                    </a:lnTo>
                    <a:lnTo>
                      <a:pt x="185" y="223"/>
                    </a:lnTo>
                    <a:lnTo>
                      <a:pt x="230" y="177"/>
                    </a:lnTo>
                    <a:lnTo>
                      <a:pt x="272" y="160"/>
                    </a:lnTo>
                    <a:lnTo>
                      <a:pt x="320" y="175"/>
                    </a:lnTo>
                    <a:lnTo>
                      <a:pt x="378" y="206"/>
                    </a:lnTo>
                    <a:lnTo>
                      <a:pt x="420" y="221"/>
                    </a:lnTo>
                    <a:lnTo>
                      <a:pt x="466" y="251"/>
                    </a:lnTo>
                    <a:lnTo>
                      <a:pt x="496" y="306"/>
                    </a:lnTo>
                    <a:lnTo>
                      <a:pt x="515" y="282"/>
                    </a:lnTo>
                    <a:lnTo>
                      <a:pt x="548" y="244"/>
                    </a:lnTo>
                    <a:lnTo>
                      <a:pt x="329" y="67"/>
                    </a:lnTo>
                    <a:lnTo>
                      <a:pt x="116" y="8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2"/>
              <p:cNvSpPr/>
              <p:nvPr/>
            </p:nvSpPr>
            <p:spPr>
              <a:xfrm>
                <a:off x="4703400" y="4799160"/>
                <a:ext cx="500040" cy="52380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29" h="662">
                    <a:moveTo>
                      <a:pt x="469" y="0"/>
                    </a:moveTo>
                    <a:lnTo>
                      <a:pt x="435" y="36"/>
                    </a:lnTo>
                    <a:lnTo>
                      <a:pt x="386" y="63"/>
                    </a:lnTo>
                    <a:lnTo>
                      <a:pt x="319" y="91"/>
                    </a:lnTo>
                    <a:lnTo>
                      <a:pt x="264" y="101"/>
                    </a:lnTo>
                    <a:lnTo>
                      <a:pt x="219" y="147"/>
                    </a:lnTo>
                    <a:lnTo>
                      <a:pt x="169" y="173"/>
                    </a:lnTo>
                    <a:lnTo>
                      <a:pt x="112" y="188"/>
                    </a:lnTo>
                    <a:lnTo>
                      <a:pt x="46" y="188"/>
                    </a:lnTo>
                    <a:lnTo>
                      <a:pt x="40" y="226"/>
                    </a:lnTo>
                    <a:lnTo>
                      <a:pt x="42" y="255"/>
                    </a:lnTo>
                    <a:lnTo>
                      <a:pt x="15" y="285"/>
                    </a:lnTo>
                    <a:lnTo>
                      <a:pt x="0" y="322"/>
                    </a:lnTo>
                    <a:lnTo>
                      <a:pt x="11" y="358"/>
                    </a:lnTo>
                    <a:lnTo>
                      <a:pt x="46" y="390"/>
                    </a:lnTo>
                    <a:lnTo>
                      <a:pt x="84" y="392"/>
                    </a:lnTo>
                    <a:lnTo>
                      <a:pt x="123" y="356"/>
                    </a:lnTo>
                    <a:lnTo>
                      <a:pt x="203" y="363"/>
                    </a:lnTo>
                    <a:lnTo>
                      <a:pt x="289" y="382"/>
                    </a:lnTo>
                    <a:lnTo>
                      <a:pt x="390" y="430"/>
                    </a:lnTo>
                    <a:lnTo>
                      <a:pt x="466" y="495"/>
                    </a:lnTo>
                    <a:lnTo>
                      <a:pt x="507" y="548"/>
                    </a:lnTo>
                    <a:lnTo>
                      <a:pt x="509" y="586"/>
                    </a:lnTo>
                    <a:lnTo>
                      <a:pt x="564" y="645"/>
                    </a:lnTo>
                    <a:lnTo>
                      <a:pt x="591" y="662"/>
                    </a:lnTo>
                    <a:lnTo>
                      <a:pt x="583" y="584"/>
                    </a:lnTo>
                    <a:lnTo>
                      <a:pt x="578" y="496"/>
                    </a:lnTo>
                    <a:lnTo>
                      <a:pt x="581" y="369"/>
                    </a:lnTo>
                    <a:lnTo>
                      <a:pt x="587" y="266"/>
                    </a:lnTo>
                    <a:lnTo>
                      <a:pt x="599" y="200"/>
                    </a:lnTo>
                    <a:lnTo>
                      <a:pt x="629" y="137"/>
                    </a:lnTo>
                    <a:lnTo>
                      <a:pt x="600" y="103"/>
                    </a:lnTo>
                    <a:lnTo>
                      <a:pt x="547" y="76"/>
                    </a:lnTo>
                    <a:lnTo>
                      <a:pt x="496" y="38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ff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3"/>
              <p:cNvSpPr/>
              <p:nvPr/>
            </p:nvSpPr>
            <p:spPr>
              <a:xfrm>
                <a:off x="3906720" y="5450040"/>
                <a:ext cx="334800" cy="401760"/>
              </a:xfrm>
              <a:custGeom>
                <a:avLst/>
                <a:gdLst>
                  <a:gd name="textAreaLeft" fmla="*/ 0 w 334800"/>
                  <a:gd name="textAreaRight" fmla="*/ 335160 w 334800"/>
                  <a:gd name="textAreaTop" fmla="*/ 0 h 401760"/>
                  <a:gd name="textAreaBottom" fmla="*/ 402120 h 401760"/>
                </a:gdLst>
                <a:ahLst/>
                <a:rect l="textAreaLeft" t="textAreaTop" r="textAreaRight" b="textAreaBottom"/>
                <a:pathLst>
                  <a:path w="421" h="505">
                    <a:moveTo>
                      <a:pt x="0" y="66"/>
                    </a:moveTo>
                    <a:lnTo>
                      <a:pt x="45" y="64"/>
                    </a:lnTo>
                    <a:lnTo>
                      <a:pt x="119" y="55"/>
                    </a:lnTo>
                    <a:lnTo>
                      <a:pt x="199" y="36"/>
                    </a:lnTo>
                    <a:lnTo>
                      <a:pt x="235" y="13"/>
                    </a:lnTo>
                    <a:lnTo>
                      <a:pt x="264" y="0"/>
                    </a:lnTo>
                    <a:lnTo>
                      <a:pt x="290" y="17"/>
                    </a:lnTo>
                    <a:lnTo>
                      <a:pt x="294" y="64"/>
                    </a:lnTo>
                    <a:lnTo>
                      <a:pt x="286" y="129"/>
                    </a:lnTo>
                    <a:lnTo>
                      <a:pt x="275" y="193"/>
                    </a:lnTo>
                    <a:lnTo>
                      <a:pt x="279" y="271"/>
                    </a:lnTo>
                    <a:lnTo>
                      <a:pt x="304" y="351"/>
                    </a:lnTo>
                    <a:lnTo>
                      <a:pt x="342" y="416"/>
                    </a:lnTo>
                    <a:lnTo>
                      <a:pt x="421" y="505"/>
                    </a:lnTo>
                    <a:lnTo>
                      <a:pt x="201" y="406"/>
                    </a:lnTo>
                    <a:lnTo>
                      <a:pt x="28" y="18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4"/>
              <p:cNvSpPr/>
              <p:nvPr/>
            </p:nvSpPr>
            <p:spPr>
              <a:xfrm>
                <a:off x="4722480" y="4373640"/>
                <a:ext cx="378000" cy="179640"/>
              </a:xfrm>
              <a:custGeom>
                <a:avLst/>
                <a:gdLst>
                  <a:gd name="textAreaLeft" fmla="*/ 0 w 378000"/>
                  <a:gd name="textAreaRight" fmla="*/ 378360 w 37800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475" h="226">
                    <a:moveTo>
                      <a:pt x="0" y="0"/>
                    </a:moveTo>
                    <a:lnTo>
                      <a:pt x="34" y="27"/>
                    </a:lnTo>
                    <a:lnTo>
                      <a:pt x="62" y="72"/>
                    </a:lnTo>
                    <a:lnTo>
                      <a:pt x="68" y="116"/>
                    </a:lnTo>
                    <a:lnTo>
                      <a:pt x="60" y="179"/>
                    </a:lnTo>
                    <a:lnTo>
                      <a:pt x="47" y="207"/>
                    </a:lnTo>
                    <a:lnTo>
                      <a:pt x="74" y="196"/>
                    </a:lnTo>
                    <a:lnTo>
                      <a:pt x="108" y="194"/>
                    </a:lnTo>
                    <a:lnTo>
                      <a:pt x="133" y="156"/>
                    </a:lnTo>
                    <a:lnTo>
                      <a:pt x="169" y="126"/>
                    </a:lnTo>
                    <a:lnTo>
                      <a:pt x="213" y="108"/>
                    </a:lnTo>
                    <a:lnTo>
                      <a:pt x="254" y="116"/>
                    </a:lnTo>
                    <a:lnTo>
                      <a:pt x="319" y="139"/>
                    </a:lnTo>
                    <a:lnTo>
                      <a:pt x="378" y="171"/>
                    </a:lnTo>
                    <a:lnTo>
                      <a:pt x="416" y="198"/>
                    </a:lnTo>
                    <a:lnTo>
                      <a:pt x="444" y="226"/>
                    </a:lnTo>
                    <a:lnTo>
                      <a:pt x="475" y="204"/>
                    </a:lnTo>
                    <a:lnTo>
                      <a:pt x="391" y="124"/>
                    </a:lnTo>
                    <a:lnTo>
                      <a:pt x="184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5"/>
              <p:cNvSpPr/>
              <p:nvPr/>
            </p:nvSpPr>
            <p:spPr>
              <a:xfrm>
                <a:off x="4736880" y="4848480"/>
                <a:ext cx="428760" cy="39528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539" h="498">
                    <a:moveTo>
                      <a:pt x="422" y="0"/>
                    </a:moveTo>
                    <a:lnTo>
                      <a:pt x="376" y="28"/>
                    </a:lnTo>
                    <a:lnTo>
                      <a:pt x="321" y="53"/>
                    </a:lnTo>
                    <a:lnTo>
                      <a:pt x="253" y="66"/>
                    </a:lnTo>
                    <a:lnTo>
                      <a:pt x="211" y="101"/>
                    </a:lnTo>
                    <a:lnTo>
                      <a:pt x="159" y="133"/>
                    </a:lnTo>
                    <a:lnTo>
                      <a:pt x="87" y="152"/>
                    </a:lnTo>
                    <a:lnTo>
                      <a:pt x="36" y="160"/>
                    </a:lnTo>
                    <a:lnTo>
                      <a:pt x="30" y="201"/>
                    </a:lnTo>
                    <a:lnTo>
                      <a:pt x="2" y="236"/>
                    </a:lnTo>
                    <a:lnTo>
                      <a:pt x="0" y="274"/>
                    </a:lnTo>
                    <a:lnTo>
                      <a:pt x="17" y="291"/>
                    </a:lnTo>
                    <a:lnTo>
                      <a:pt x="45" y="274"/>
                    </a:lnTo>
                    <a:lnTo>
                      <a:pt x="81" y="255"/>
                    </a:lnTo>
                    <a:lnTo>
                      <a:pt x="154" y="260"/>
                    </a:lnTo>
                    <a:lnTo>
                      <a:pt x="258" y="278"/>
                    </a:lnTo>
                    <a:lnTo>
                      <a:pt x="357" y="321"/>
                    </a:lnTo>
                    <a:lnTo>
                      <a:pt x="424" y="371"/>
                    </a:lnTo>
                    <a:lnTo>
                      <a:pt x="469" y="420"/>
                    </a:lnTo>
                    <a:lnTo>
                      <a:pt x="496" y="462"/>
                    </a:lnTo>
                    <a:lnTo>
                      <a:pt x="501" y="498"/>
                    </a:lnTo>
                    <a:lnTo>
                      <a:pt x="500" y="424"/>
                    </a:lnTo>
                    <a:lnTo>
                      <a:pt x="500" y="327"/>
                    </a:lnTo>
                    <a:lnTo>
                      <a:pt x="501" y="222"/>
                    </a:lnTo>
                    <a:lnTo>
                      <a:pt x="511" y="158"/>
                    </a:lnTo>
                    <a:lnTo>
                      <a:pt x="539" y="74"/>
                    </a:lnTo>
                    <a:lnTo>
                      <a:pt x="496" y="46"/>
                    </a:lnTo>
                    <a:lnTo>
                      <a:pt x="443" y="15"/>
                    </a:lnTo>
                    <a:lnTo>
                      <a:pt x="422" y="0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6"/>
              <p:cNvSpPr/>
              <p:nvPr/>
            </p:nvSpPr>
            <p:spPr>
              <a:xfrm>
                <a:off x="3808080" y="4664160"/>
                <a:ext cx="266760" cy="4525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336" h="570">
                    <a:moveTo>
                      <a:pt x="228" y="0"/>
                    </a:moveTo>
                    <a:lnTo>
                      <a:pt x="240" y="38"/>
                    </a:lnTo>
                    <a:lnTo>
                      <a:pt x="274" y="78"/>
                    </a:lnTo>
                    <a:lnTo>
                      <a:pt x="312" y="110"/>
                    </a:lnTo>
                    <a:lnTo>
                      <a:pt x="336" y="118"/>
                    </a:lnTo>
                    <a:lnTo>
                      <a:pt x="323" y="169"/>
                    </a:lnTo>
                    <a:lnTo>
                      <a:pt x="291" y="249"/>
                    </a:lnTo>
                    <a:lnTo>
                      <a:pt x="279" y="316"/>
                    </a:lnTo>
                    <a:lnTo>
                      <a:pt x="270" y="369"/>
                    </a:lnTo>
                    <a:lnTo>
                      <a:pt x="234" y="432"/>
                    </a:lnTo>
                    <a:lnTo>
                      <a:pt x="219" y="492"/>
                    </a:lnTo>
                    <a:lnTo>
                      <a:pt x="160" y="498"/>
                    </a:lnTo>
                    <a:lnTo>
                      <a:pt x="97" y="517"/>
                    </a:lnTo>
                    <a:lnTo>
                      <a:pt x="51" y="544"/>
                    </a:lnTo>
                    <a:lnTo>
                      <a:pt x="0" y="570"/>
                    </a:lnTo>
                    <a:lnTo>
                      <a:pt x="15" y="346"/>
                    </a:lnTo>
                    <a:lnTo>
                      <a:pt x="126" y="122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7"/>
              <p:cNvSpPr/>
              <p:nvPr/>
            </p:nvSpPr>
            <p:spPr>
              <a:xfrm>
                <a:off x="3925800" y="5488200"/>
                <a:ext cx="225360" cy="3189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318960"/>
                  <a:gd name="textAreaBottom" fmla="*/ 318960 h 318960"/>
                </a:gdLst>
                <a:ahLst/>
                <a:rect l="textAreaLeft" t="textAreaTop" r="textAreaRight" b="textAreaBottom"/>
                <a:pathLst>
                  <a:path w="285" h="401">
                    <a:moveTo>
                      <a:pt x="0" y="68"/>
                    </a:moveTo>
                    <a:lnTo>
                      <a:pt x="54" y="67"/>
                    </a:lnTo>
                    <a:lnTo>
                      <a:pt x="126" y="53"/>
                    </a:lnTo>
                    <a:lnTo>
                      <a:pt x="181" y="30"/>
                    </a:lnTo>
                    <a:lnTo>
                      <a:pt x="225" y="0"/>
                    </a:lnTo>
                    <a:lnTo>
                      <a:pt x="228" y="27"/>
                    </a:lnTo>
                    <a:lnTo>
                      <a:pt x="225" y="99"/>
                    </a:lnTo>
                    <a:lnTo>
                      <a:pt x="221" y="177"/>
                    </a:lnTo>
                    <a:lnTo>
                      <a:pt x="225" y="253"/>
                    </a:lnTo>
                    <a:lnTo>
                      <a:pt x="244" y="319"/>
                    </a:lnTo>
                    <a:lnTo>
                      <a:pt x="285" y="401"/>
                    </a:lnTo>
                    <a:lnTo>
                      <a:pt x="166" y="327"/>
                    </a:lnTo>
                    <a:lnTo>
                      <a:pt x="35" y="16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8"/>
              <p:cNvSpPr/>
              <p:nvPr/>
            </p:nvSpPr>
            <p:spPr>
              <a:xfrm>
                <a:off x="3771720" y="4438800"/>
                <a:ext cx="1243080" cy="1552680"/>
              </a:xfrm>
              <a:custGeom>
                <a:avLst/>
                <a:gdLst>
                  <a:gd name="textAreaLeft" fmla="*/ 0 w 1243080"/>
                  <a:gd name="textAreaRight" fmla="*/ 1243080 w 1243080"/>
                  <a:gd name="textAreaTop" fmla="*/ 0 h 1552680"/>
                  <a:gd name="textAreaBottom" fmla="*/ 1553040 h 1552680"/>
                </a:gdLst>
                <a:ahLst/>
                <a:rect l="textAreaLeft" t="textAreaTop" r="textAreaRight" b="textAreaBottom"/>
                <a:pathLst>
                  <a:path w="1566" h="1954">
                    <a:moveTo>
                      <a:pt x="1053" y="1878"/>
                    </a:moveTo>
                    <a:lnTo>
                      <a:pt x="1061" y="1878"/>
                    </a:lnTo>
                    <a:lnTo>
                      <a:pt x="1069" y="1878"/>
                    </a:lnTo>
                    <a:lnTo>
                      <a:pt x="1078" y="1878"/>
                    </a:lnTo>
                    <a:lnTo>
                      <a:pt x="1086" y="1878"/>
                    </a:lnTo>
                    <a:lnTo>
                      <a:pt x="1093" y="1876"/>
                    </a:lnTo>
                    <a:lnTo>
                      <a:pt x="1101" y="1876"/>
                    </a:lnTo>
                    <a:lnTo>
                      <a:pt x="1110" y="1876"/>
                    </a:lnTo>
                    <a:lnTo>
                      <a:pt x="1118" y="1876"/>
                    </a:lnTo>
                    <a:lnTo>
                      <a:pt x="1126" y="1874"/>
                    </a:lnTo>
                    <a:lnTo>
                      <a:pt x="1133" y="1874"/>
                    </a:lnTo>
                    <a:lnTo>
                      <a:pt x="1141" y="1872"/>
                    </a:lnTo>
                    <a:lnTo>
                      <a:pt x="1150" y="1872"/>
                    </a:lnTo>
                    <a:lnTo>
                      <a:pt x="1158" y="1870"/>
                    </a:lnTo>
                    <a:lnTo>
                      <a:pt x="1165" y="1870"/>
                    </a:lnTo>
                    <a:lnTo>
                      <a:pt x="1173" y="1869"/>
                    </a:lnTo>
                    <a:lnTo>
                      <a:pt x="1181" y="1869"/>
                    </a:lnTo>
                    <a:lnTo>
                      <a:pt x="1188" y="1867"/>
                    </a:lnTo>
                    <a:lnTo>
                      <a:pt x="1196" y="1867"/>
                    </a:lnTo>
                    <a:lnTo>
                      <a:pt x="1203" y="1865"/>
                    </a:lnTo>
                    <a:lnTo>
                      <a:pt x="1213" y="1863"/>
                    </a:lnTo>
                    <a:lnTo>
                      <a:pt x="1221" y="1861"/>
                    </a:lnTo>
                    <a:lnTo>
                      <a:pt x="1228" y="1861"/>
                    </a:lnTo>
                    <a:lnTo>
                      <a:pt x="1236" y="1859"/>
                    </a:lnTo>
                    <a:lnTo>
                      <a:pt x="1243" y="1859"/>
                    </a:lnTo>
                    <a:lnTo>
                      <a:pt x="1251" y="1855"/>
                    </a:lnTo>
                    <a:lnTo>
                      <a:pt x="1259" y="1855"/>
                    </a:lnTo>
                    <a:lnTo>
                      <a:pt x="1266" y="1853"/>
                    </a:lnTo>
                    <a:lnTo>
                      <a:pt x="1274" y="1851"/>
                    </a:lnTo>
                    <a:lnTo>
                      <a:pt x="1281" y="1850"/>
                    </a:lnTo>
                    <a:lnTo>
                      <a:pt x="1289" y="1848"/>
                    </a:lnTo>
                    <a:lnTo>
                      <a:pt x="1297" y="1846"/>
                    </a:lnTo>
                    <a:lnTo>
                      <a:pt x="1304" y="1846"/>
                    </a:lnTo>
                    <a:lnTo>
                      <a:pt x="1312" y="1842"/>
                    </a:lnTo>
                    <a:lnTo>
                      <a:pt x="1319" y="1840"/>
                    </a:lnTo>
                    <a:lnTo>
                      <a:pt x="1327" y="1838"/>
                    </a:lnTo>
                    <a:lnTo>
                      <a:pt x="1335" y="1836"/>
                    </a:lnTo>
                    <a:lnTo>
                      <a:pt x="1340" y="1832"/>
                    </a:lnTo>
                    <a:lnTo>
                      <a:pt x="1350" y="1831"/>
                    </a:lnTo>
                    <a:lnTo>
                      <a:pt x="1355" y="1829"/>
                    </a:lnTo>
                    <a:lnTo>
                      <a:pt x="1363" y="1827"/>
                    </a:lnTo>
                    <a:lnTo>
                      <a:pt x="1371" y="1823"/>
                    </a:lnTo>
                    <a:lnTo>
                      <a:pt x="1378" y="1821"/>
                    </a:lnTo>
                    <a:lnTo>
                      <a:pt x="1386" y="1817"/>
                    </a:lnTo>
                    <a:lnTo>
                      <a:pt x="1394" y="1815"/>
                    </a:lnTo>
                    <a:lnTo>
                      <a:pt x="1399" y="1813"/>
                    </a:lnTo>
                    <a:lnTo>
                      <a:pt x="1407" y="1810"/>
                    </a:lnTo>
                    <a:lnTo>
                      <a:pt x="1414" y="1808"/>
                    </a:lnTo>
                    <a:lnTo>
                      <a:pt x="1422" y="1806"/>
                    </a:lnTo>
                    <a:lnTo>
                      <a:pt x="1428" y="1802"/>
                    </a:lnTo>
                    <a:lnTo>
                      <a:pt x="1435" y="1798"/>
                    </a:lnTo>
                    <a:lnTo>
                      <a:pt x="1443" y="1794"/>
                    </a:lnTo>
                    <a:lnTo>
                      <a:pt x="1451" y="1793"/>
                    </a:lnTo>
                    <a:lnTo>
                      <a:pt x="1456" y="1789"/>
                    </a:lnTo>
                    <a:lnTo>
                      <a:pt x="1464" y="1787"/>
                    </a:lnTo>
                    <a:lnTo>
                      <a:pt x="1471" y="1783"/>
                    </a:lnTo>
                    <a:lnTo>
                      <a:pt x="1479" y="1781"/>
                    </a:lnTo>
                    <a:lnTo>
                      <a:pt x="1485" y="1777"/>
                    </a:lnTo>
                    <a:lnTo>
                      <a:pt x="1490" y="1773"/>
                    </a:lnTo>
                    <a:lnTo>
                      <a:pt x="1498" y="1770"/>
                    </a:lnTo>
                    <a:lnTo>
                      <a:pt x="1506" y="1766"/>
                    </a:lnTo>
                    <a:lnTo>
                      <a:pt x="1511" y="1762"/>
                    </a:lnTo>
                    <a:lnTo>
                      <a:pt x="1519" y="1758"/>
                    </a:lnTo>
                    <a:lnTo>
                      <a:pt x="1527" y="1754"/>
                    </a:lnTo>
                    <a:lnTo>
                      <a:pt x="1534" y="1753"/>
                    </a:lnTo>
                    <a:lnTo>
                      <a:pt x="1538" y="1760"/>
                    </a:lnTo>
                    <a:lnTo>
                      <a:pt x="1542" y="1768"/>
                    </a:lnTo>
                    <a:lnTo>
                      <a:pt x="1546" y="1777"/>
                    </a:lnTo>
                    <a:lnTo>
                      <a:pt x="1549" y="1785"/>
                    </a:lnTo>
                    <a:lnTo>
                      <a:pt x="1553" y="1793"/>
                    </a:lnTo>
                    <a:lnTo>
                      <a:pt x="1557" y="1800"/>
                    </a:lnTo>
                    <a:lnTo>
                      <a:pt x="1561" y="1810"/>
                    </a:lnTo>
                    <a:lnTo>
                      <a:pt x="1566" y="1817"/>
                    </a:lnTo>
                    <a:lnTo>
                      <a:pt x="1557" y="1821"/>
                    </a:lnTo>
                    <a:lnTo>
                      <a:pt x="1551" y="1825"/>
                    </a:lnTo>
                    <a:lnTo>
                      <a:pt x="1542" y="1829"/>
                    </a:lnTo>
                    <a:lnTo>
                      <a:pt x="1536" y="1832"/>
                    </a:lnTo>
                    <a:lnTo>
                      <a:pt x="1528" y="1836"/>
                    </a:lnTo>
                    <a:lnTo>
                      <a:pt x="1521" y="1840"/>
                    </a:lnTo>
                    <a:lnTo>
                      <a:pt x="1513" y="1844"/>
                    </a:lnTo>
                    <a:lnTo>
                      <a:pt x="1508" y="1848"/>
                    </a:lnTo>
                    <a:lnTo>
                      <a:pt x="1498" y="1850"/>
                    </a:lnTo>
                    <a:lnTo>
                      <a:pt x="1492" y="1853"/>
                    </a:lnTo>
                    <a:lnTo>
                      <a:pt x="1483" y="1855"/>
                    </a:lnTo>
                    <a:lnTo>
                      <a:pt x="1477" y="1861"/>
                    </a:lnTo>
                    <a:lnTo>
                      <a:pt x="1470" y="1863"/>
                    </a:lnTo>
                    <a:lnTo>
                      <a:pt x="1462" y="1867"/>
                    </a:lnTo>
                    <a:lnTo>
                      <a:pt x="1454" y="1870"/>
                    </a:lnTo>
                    <a:lnTo>
                      <a:pt x="1449" y="1874"/>
                    </a:lnTo>
                    <a:lnTo>
                      <a:pt x="1439" y="1876"/>
                    </a:lnTo>
                    <a:lnTo>
                      <a:pt x="1432" y="1880"/>
                    </a:lnTo>
                    <a:lnTo>
                      <a:pt x="1424" y="1882"/>
                    </a:lnTo>
                    <a:lnTo>
                      <a:pt x="1416" y="1886"/>
                    </a:lnTo>
                    <a:lnTo>
                      <a:pt x="1409" y="1888"/>
                    </a:lnTo>
                    <a:lnTo>
                      <a:pt x="1401" y="1891"/>
                    </a:lnTo>
                    <a:lnTo>
                      <a:pt x="1394" y="1893"/>
                    </a:lnTo>
                    <a:lnTo>
                      <a:pt x="1386" y="1897"/>
                    </a:lnTo>
                    <a:lnTo>
                      <a:pt x="1376" y="1899"/>
                    </a:lnTo>
                    <a:lnTo>
                      <a:pt x="1369" y="1901"/>
                    </a:lnTo>
                    <a:lnTo>
                      <a:pt x="1361" y="1905"/>
                    </a:lnTo>
                    <a:lnTo>
                      <a:pt x="1354" y="1907"/>
                    </a:lnTo>
                    <a:lnTo>
                      <a:pt x="1346" y="1908"/>
                    </a:lnTo>
                    <a:lnTo>
                      <a:pt x="1338" y="1912"/>
                    </a:lnTo>
                    <a:lnTo>
                      <a:pt x="1331" y="1914"/>
                    </a:lnTo>
                    <a:lnTo>
                      <a:pt x="1323" y="1918"/>
                    </a:lnTo>
                    <a:lnTo>
                      <a:pt x="1314" y="1918"/>
                    </a:lnTo>
                    <a:lnTo>
                      <a:pt x="1306" y="1922"/>
                    </a:lnTo>
                    <a:lnTo>
                      <a:pt x="1297" y="1922"/>
                    </a:lnTo>
                    <a:lnTo>
                      <a:pt x="1289" y="1924"/>
                    </a:lnTo>
                    <a:lnTo>
                      <a:pt x="1281" y="1926"/>
                    </a:lnTo>
                    <a:lnTo>
                      <a:pt x="1272" y="1929"/>
                    </a:lnTo>
                    <a:lnTo>
                      <a:pt x="1264" y="1929"/>
                    </a:lnTo>
                    <a:lnTo>
                      <a:pt x="1257" y="1931"/>
                    </a:lnTo>
                    <a:lnTo>
                      <a:pt x="1247" y="1933"/>
                    </a:lnTo>
                    <a:lnTo>
                      <a:pt x="1240" y="1935"/>
                    </a:lnTo>
                    <a:lnTo>
                      <a:pt x="1232" y="1935"/>
                    </a:lnTo>
                    <a:lnTo>
                      <a:pt x="1222" y="1937"/>
                    </a:lnTo>
                    <a:lnTo>
                      <a:pt x="1215" y="1939"/>
                    </a:lnTo>
                    <a:lnTo>
                      <a:pt x="1205" y="1941"/>
                    </a:lnTo>
                    <a:lnTo>
                      <a:pt x="1198" y="1941"/>
                    </a:lnTo>
                    <a:lnTo>
                      <a:pt x="1190" y="1943"/>
                    </a:lnTo>
                    <a:lnTo>
                      <a:pt x="1181" y="1943"/>
                    </a:lnTo>
                    <a:lnTo>
                      <a:pt x="1173" y="1945"/>
                    </a:lnTo>
                    <a:lnTo>
                      <a:pt x="1164" y="1945"/>
                    </a:lnTo>
                    <a:lnTo>
                      <a:pt x="1156" y="1947"/>
                    </a:lnTo>
                    <a:lnTo>
                      <a:pt x="1146" y="1947"/>
                    </a:lnTo>
                    <a:lnTo>
                      <a:pt x="1139" y="1948"/>
                    </a:lnTo>
                    <a:lnTo>
                      <a:pt x="1129" y="1948"/>
                    </a:lnTo>
                    <a:lnTo>
                      <a:pt x="1122" y="1950"/>
                    </a:lnTo>
                    <a:lnTo>
                      <a:pt x="1112" y="1950"/>
                    </a:lnTo>
                    <a:lnTo>
                      <a:pt x="1105" y="1952"/>
                    </a:lnTo>
                    <a:lnTo>
                      <a:pt x="1095" y="1952"/>
                    </a:lnTo>
                    <a:lnTo>
                      <a:pt x="1088" y="1952"/>
                    </a:lnTo>
                    <a:lnTo>
                      <a:pt x="1078" y="1952"/>
                    </a:lnTo>
                    <a:lnTo>
                      <a:pt x="1069" y="1952"/>
                    </a:lnTo>
                    <a:lnTo>
                      <a:pt x="1061" y="1952"/>
                    </a:lnTo>
                    <a:lnTo>
                      <a:pt x="1051" y="1954"/>
                    </a:lnTo>
                    <a:lnTo>
                      <a:pt x="1032" y="1952"/>
                    </a:lnTo>
                    <a:lnTo>
                      <a:pt x="1013" y="1952"/>
                    </a:lnTo>
                    <a:lnTo>
                      <a:pt x="994" y="1952"/>
                    </a:lnTo>
                    <a:lnTo>
                      <a:pt x="977" y="1950"/>
                    </a:lnTo>
                    <a:lnTo>
                      <a:pt x="956" y="1948"/>
                    </a:lnTo>
                    <a:lnTo>
                      <a:pt x="939" y="1947"/>
                    </a:lnTo>
                    <a:lnTo>
                      <a:pt x="920" y="1945"/>
                    </a:lnTo>
                    <a:lnTo>
                      <a:pt x="903" y="1943"/>
                    </a:lnTo>
                    <a:lnTo>
                      <a:pt x="884" y="1939"/>
                    </a:lnTo>
                    <a:lnTo>
                      <a:pt x="865" y="1935"/>
                    </a:lnTo>
                    <a:lnTo>
                      <a:pt x="848" y="1931"/>
                    </a:lnTo>
                    <a:lnTo>
                      <a:pt x="829" y="1929"/>
                    </a:lnTo>
                    <a:lnTo>
                      <a:pt x="812" y="1924"/>
                    </a:lnTo>
                    <a:lnTo>
                      <a:pt x="795" y="1920"/>
                    </a:lnTo>
                    <a:lnTo>
                      <a:pt x="778" y="1916"/>
                    </a:lnTo>
                    <a:lnTo>
                      <a:pt x="761" y="1912"/>
                    </a:lnTo>
                    <a:lnTo>
                      <a:pt x="744" y="1905"/>
                    </a:lnTo>
                    <a:lnTo>
                      <a:pt x="725" y="1899"/>
                    </a:lnTo>
                    <a:lnTo>
                      <a:pt x="707" y="1893"/>
                    </a:lnTo>
                    <a:lnTo>
                      <a:pt x="690" y="1888"/>
                    </a:lnTo>
                    <a:lnTo>
                      <a:pt x="675" y="1882"/>
                    </a:lnTo>
                    <a:lnTo>
                      <a:pt x="658" y="1874"/>
                    </a:lnTo>
                    <a:lnTo>
                      <a:pt x="641" y="1869"/>
                    </a:lnTo>
                    <a:lnTo>
                      <a:pt x="626" y="1861"/>
                    </a:lnTo>
                    <a:lnTo>
                      <a:pt x="609" y="1853"/>
                    </a:lnTo>
                    <a:lnTo>
                      <a:pt x="592" y="1846"/>
                    </a:lnTo>
                    <a:lnTo>
                      <a:pt x="576" y="1838"/>
                    </a:lnTo>
                    <a:lnTo>
                      <a:pt x="561" y="1831"/>
                    </a:lnTo>
                    <a:lnTo>
                      <a:pt x="546" y="1821"/>
                    </a:lnTo>
                    <a:lnTo>
                      <a:pt x="531" y="1812"/>
                    </a:lnTo>
                    <a:lnTo>
                      <a:pt x="514" y="1804"/>
                    </a:lnTo>
                    <a:lnTo>
                      <a:pt x="500" y="1794"/>
                    </a:lnTo>
                    <a:lnTo>
                      <a:pt x="485" y="1785"/>
                    </a:lnTo>
                    <a:lnTo>
                      <a:pt x="470" y="1775"/>
                    </a:lnTo>
                    <a:lnTo>
                      <a:pt x="455" y="1764"/>
                    </a:lnTo>
                    <a:lnTo>
                      <a:pt x="439" y="1754"/>
                    </a:lnTo>
                    <a:lnTo>
                      <a:pt x="426" y="1743"/>
                    </a:lnTo>
                    <a:lnTo>
                      <a:pt x="411" y="1734"/>
                    </a:lnTo>
                    <a:lnTo>
                      <a:pt x="398" y="1722"/>
                    </a:lnTo>
                    <a:lnTo>
                      <a:pt x="384" y="1713"/>
                    </a:lnTo>
                    <a:lnTo>
                      <a:pt x="371" y="1699"/>
                    </a:lnTo>
                    <a:lnTo>
                      <a:pt x="356" y="1688"/>
                    </a:lnTo>
                    <a:lnTo>
                      <a:pt x="343" y="1675"/>
                    </a:lnTo>
                    <a:lnTo>
                      <a:pt x="331" y="1663"/>
                    </a:lnTo>
                    <a:lnTo>
                      <a:pt x="318" y="1652"/>
                    </a:lnTo>
                    <a:lnTo>
                      <a:pt x="306" y="1639"/>
                    </a:lnTo>
                    <a:lnTo>
                      <a:pt x="293" y="1627"/>
                    </a:lnTo>
                    <a:lnTo>
                      <a:pt x="282" y="1614"/>
                    </a:lnTo>
                    <a:lnTo>
                      <a:pt x="268" y="1600"/>
                    </a:lnTo>
                    <a:lnTo>
                      <a:pt x="257" y="1587"/>
                    </a:lnTo>
                    <a:lnTo>
                      <a:pt x="246" y="1574"/>
                    </a:lnTo>
                    <a:lnTo>
                      <a:pt x="234" y="1561"/>
                    </a:lnTo>
                    <a:lnTo>
                      <a:pt x="223" y="1547"/>
                    </a:lnTo>
                    <a:lnTo>
                      <a:pt x="211" y="1532"/>
                    </a:lnTo>
                    <a:lnTo>
                      <a:pt x="202" y="1519"/>
                    </a:lnTo>
                    <a:lnTo>
                      <a:pt x="192" y="1505"/>
                    </a:lnTo>
                    <a:lnTo>
                      <a:pt x="181" y="1490"/>
                    </a:lnTo>
                    <a:lnTo>
                      <a:pt x="172" y="1475"/>
                    </a:lnTo>
                    <a:lnTo>
                      <a:pt x="162" y="1460"/>
                    </a:lnTo>
                    <a:lnTo>
                      <a:pt x="152" y="1447"/>
                    </a:lnTo>
                    <a:lnTo>
                      <a:pt x="143" y="1429"/>
                    </a:lnTo>
                    <a:lnTo>
                      <a:pt x="135" y="1414"/>
                    </a:lnTo>
                    <a:lnTo>
                      <a:pt x="128" y="1399"/>
                    </a:lnTo>
                    <a:lnTo>
                      <a:pt x="120" y="1384"/>
                    </a:lnTo>
                    <a:lnTo>
                      <a:pt x="116" y="1376"/>
                    </a:lnTo>
                    <a:lnTo>
                      <a:pt x="113" y="1370"/>
                    </a:lnTo>
                    <a:lnTo>
                      <a:pt x="109" y="1363"/>
                    </a:lnTo>
                    <a:lnTo>
                      <a:pt x="105" y="1355"/>
                    </a:lnTo>
                    <a:lnTo>
                      <a:pt x="101" y="1348"/>
                    </a:lnTo>
                    <a:lnTo>
                      <a:pt x="97" y="1342"/>
                    </a:lnTo>
                    <a:lnTo>
                      <a:pt x="95" y="1334"/>
                    </a:lnTo>
                    <a:lnTo>
                      <a:pt x="92" y="1327"/>
                    </a:lnTo>
                    <a:lnTo>
                      <a:pt x="88" y="1319"/>
                    </a:lnTo>
                    <a:lnTo>
                      <a:pt x="86" y="1313"/>
                    </a:lnTo>
                    <a:lnTo>
                      <a:pt x="82" y="1306"/>
                    </a:lnTo>
                    <a:lnTo>
                      <a:pt x="80" y="1300"/>
                    </a:lnTo>
                    <a:lnTo>
                      <a:pt x="76" y="1293"/>
                    </a:lnTo>
                    <a:lnTo>
                      <a:pt x="75" y="1285"/>
                    </a:lnTo>
                    <a:lnTo>
                      <a:pt x="71" y="1277"/>
                    </a:lnTo>
                    <a:lnTo>
                      <a:pt x="69" y="1272"/>
                    </a:lnTo>
                    <a:lnTo>
                      <a:pt x="65" y="1262"/>
                    </a:lnTo>
                    <a:lnTo>
                      <a:pt x="63" y="1256"/>
                    </a:lnTo>
                    <a:lnTo>
                      <a:pt x="61" y="1249"/>
                    </a:lnTo>
                    <a:lnTo>
                      <a:pt x="57" y="1241"/>
                    </a:lnTo>
                    <a:lnTo>
                      <a:pt x="56" y="1234"/>
                    </a:lnTo>
                    <a:lnTo>
                      <a:pt x="52" y="1226"/>
                    </a:lnTo>
                    <a:lnTo>
                      <a:pt x="50" y="1218"/>
                    </a:lnTo>
                    <a:lnTo>
                      <a:pt x="48" y="1213"/>
                    </a:lnTo>
                    <a:lnTo>
                      <a:pt x="46" y="1203"/>
                    </a:lnTo>
                    <a:lnTo>
                      <a:pt x="42" y="1196"/>
                    </a:lnTo>
                    <a:lnTo>
                      <a:pt x="40" y="1188"/>
                    </a:lnTo>
                    <a:lnTo>
                      <a:pt x="38" y="1182"/>
                    </a:lnTo>
                    <a:lnTo>
                      <a:pt x="37" y="1175"/>
                    </a:lnTo>
                    <a:lnTo>
                      <a:pt x="35" y="1167"/>
                    </a:lnTo>
                    <a:lnTo>
                      <a:pt x="33" y="1159"/>
                    </a:lnTo>
                    <a:lnTo>
                      <a:pt x="31" y="1152"/>
                    </a:lnTo>
                    <a:lnTo>
                      <a:pt x="29" y="1144"/>
                    </a:lnTo>
                    <a:lnTo>
                      <a:pt x="27" y="1137"/>
                    </a:lnTo>
                    <a:lnTo>
                      <a:pt x="25" y="1129"/>
                    </a:lnTo>
                    <a:lnTo>
                      <a:pt x="23" y="1121"/>
                    </a:lnTo>
                    <a:lnTo>
                      <a:pt x="21" y="1114"/>
                    </a:lnTo>
                    <a:lnTo>
                      <a:pt x="19" y="1106"/>
                    </a:lnTo>
                    <a:lnTo>
                      <a:pt x="18" y="1099"/>
                    </a:lnTo>
                    <a:lnTo>
                      <a:pt x="18" y="1091"/>
                    </a:lnTo>
                    <a:lnTo>
                      <a:pt x="16" y="1081"/>
                    </a:lnTo>
                    <a:lnTo>
                      <a:pt x="14" y="1074"/>
                    </a:lnTo>
                    <a:lnTo>
                      <a:pt x="12" y="1066"/>
                    </a:lnTo>
                    <a:lnTo>
                      <a:pt x="12" y="1059"/>
                    </a:lnTo>
                    <a:lnTo>
                      <a:pt x="10" y="1049"/>
                    </a:lnTo>
                    <a:lnTo>
                      <a:pt x="8" y="1043"/>
                    </a:lnTo>
                    <a:lnTo>
                      <a:pt x="8" y="1036"/>
                    </a:lnTo>
                    <a:lnTo>
                      <a:pt x="8" y="1028"/>
                    </a:lnTo>
                    <a:lnTo>
                      <a:pt x="6" y="1019"/>
                    </a:lnTo>
                    <a:lnTo>
                      <a:pt x="4" y="1011"/>
                    </a:lnTo>
                    <a:lnTo>
                      <a:pt x="4" y="1004"/>
                    </a:lnTo>
                    <a:lnTo>
                      <a:pt x="4" y="996"/>
                    </a:lnTo>
                    <a:lnTo>
                      <a:pt x="4" y="986"/>
                    </a:lnTo>
                    <a:lnTo>
                      <a:pt x="2" y="979"/>
                    </a:lnTo>
                    <a:lnTo>
                      <a:pt x="0" y="971"/>
                    </a:lnTo>
                    <a:lnTo>
                      <a:pt x="0" y="964"/>
                    </a:lnTo>
                    <a:lnTo>
                      <a:pt x="0" y="956"/>
                    </a:lnTo>
                    <a:lnTo>
                      <a:pt x="0" y="947"/>
                    </a:lnTo>
                    <a:lnTo>
                      <a:pt x="0" y="939"/>
                    </a:lnTo>
                    <a:lnTo>
                      <a:pt x="0" y="931"/>
                    </a:lnTo>
                    <a:lnTo>
                      <a:pt x="0" y="924"/>
                    </a:lnTo>
                    <a:lnTo>
                      <a:pt x="0" y="916"/>
                    </a:lnTo>
                    <a:lnTo>
                      <a:pt x="0" y="908"/>
                    </a:lnTo>
                    <a:lnTo>
                      <a:pt x="0" y="901"/>
                    </a:lnTo>
                    <a:lnTo>
                      <a:pt x="0" y="889"/>
                    </a:lnTo>
                    <a:lnTo>
                      <a:pt x="0" y="880"/>
                    </a:lnTo>
                    <a:lnTo>
                      <a:pt x="0" y="870"/>
                    </a:lnTo>
                    <a:lnTo>
                      <a:pt x="0" y="861"/>
                    </a:lnTo>
                    <a:lnTo>
                      <a:pt x="0" y="851"/>
                    </a:lnTo>
                    <a:lnTo>
                      <a:pt x="0" y="842"/>
                    </a:lnTo>
                    <a:lnTo>
                      <a:pt x="0" y="831"/>
                    </a:lnTo>
                    <a:lnTo>
                      <a:pt x="2" y="821"/>
                    </a:lnTo>
                    <a:lnTo>
                      <a:pt x="2" y="812"/>
                    </a:lnTo>
                    <a:lnTo>
                      <a:pt x="4" y="802"/>
                    </a:lnTo>
                    <a:lnTo>
                      <a:pt x="4" y="793"/>
                    </a:lnTo>
                    <a:lnTo>
                      <a:pt x="4" y="783"/>
                    </a:lnTo>
                    <a:lnTo>
                      <a:pt x="6" y="774"/>
                    </a:lnTo>
                    <a:lnTo>
                      <a:pt x="8" y="764"/>
                    </a:lnTo>
                    <a:lnTo>
                      <a:pt x="8" y="754"/>
                    </a:lnTo>
                    <a:lnTo>
                      <a:pt x="10" y="747"/>
                    </a:lnTo>
                    <a:lnTo>
                      <a:pt x="12" y="735"/>
                    </a:lnTo>
                    <a:lnTo>
                      <a:pt x="14" y="726"/>
                    </a:lnTo>
                    <a:lnTo>
                      <a:pt x="14" y="716"/>
                    </a:lnTo>
                    <a:lnTo>
                      <a:pt x="16" y="709"/>
                    </a:lnTo>
                    <a:lnTo>
                      <a:pt x="18" y="699"/>
                    </a:lnTo>
                    <a:lnTo>
                      <a:pt x="19" y="690"/>
                    </a:lnTo>
                    <a:lnTo>
                      <a:pt x="21" y="680"/>
                    </a:lnTo>
                    <a:lnTo>
                      <a:pt x="23" y="671"/>
                    </a:lnTo>
                    <a:lnTo>
                      <a:pt x="25" y="661"/>
                    </a:lnTo>
                    <a:lnTo>
                      <a:pt x="27" y="652"/>
                    </a:lnTo>
                    <a:lnTo>
                      <a:pt x="29" y="644"/>
                    </a:lnTo>
                    <a:lnTo>
                      <a:pt x="33" y="635"/>
                    </a:lnTo>
                    <a:lnTo>
                      <a:pt x="35" y="625"/>
                    </a:lnTo>
                    <a:lnTo>
                      <a:pt x="38" y="618"/>
                    </a:lnTo>
                    <a:lnTo>
                      <a:pt x="40" y="608"/>
                    </a:lnTo>
                    <a:lnTo>
                      <a:pt x="44" y="601"/>
                    </a:lnTo>
                    <a:lnTo>
                      <a:pt x="46" y="591"/>
                    </a:lnTo>
                    <a:lnTo>
                      <a:pt x="48" y="581"/>
                    </a:lnTo>
                    <a:lnTo>
                      <a:pt x="52" y="572"/>
                    </a:lnTo>
                    <a:lnTo>
                      <a:pt x="54" y="564"/>
                    </a:lnTo>
                    <a:lnTo>
                      <a:pt x="57" y="555"/>
                    </a:lnTo>
                    <a:lnTo>
                      <a:pt x="61" y="545"/>
                    </a:lnTo>
                    <a:lnTo>
                      <a:pt x="63" y="538"/>
                    </a:lnTo>
                    <a:lnTo>
                      <a:pt x="67" y="528"/>
                    </a:lnTo>
                    <a:lnTo>
                      <a:pt x="69" y="519"/>
                    </a:lnTo>
                    <a:lnTo>
                      <a:pt x="73" y="511"/>
                    </a:lnTo>
                    <a:lnTo>
                      <a:pt x="76" y="504"/>
                    </a:lnTo>
                    <a:lnTo>
                      <a:pt x="80" y="494"/>
                    </a:lnTo>
                    <a:lnTo>
                      <a:pt x="84" y="486"/>
                    </a:lnTo>
                    <a:lnTo>
                      <a:pt x="88" y="477"/>
                    </a:lnTo>
                    <a:lnTo>
                      <a:pt x="92" y="469"/>
                    </a:lnTo>
                    <a:lnTo>
                      <a:pt x="95" y="462"/>
                    </a:lnTo>
                    <a:lnTo>
                      <a:pt x="99" y="452"/>
                    </a:lnTo>
                    <a:lnTo>
                      <a:pt x="103" y="445"/>
                    </a:lnTo>
                    <a:lnTo>
                      <a:pt x="107" y="437"/>
                    </a:lnTo>
                    <a:lnTo>
                      <a:pt x="111" y="427"/>
                    </a:lnTo>
                    <a:lnTo>
                      <a:pt x="114" y="420"/>
                    </a:lnTo>
                    <a:lnTo>
                      <a:pt x="120" y="412"/>
                    </a:lnTo>
                    <a:lnTo>
                      <a:pt x="122" y="405"/>
                    </a:lnTo>
                    <a:lnTo>
                      <a:pt x="128" y="397"/>
                    </a:lnTo>
                    <a:lnTo>
                      <a:pt x="132" y="388"/>
                    </a:lnTo>
                    <a:lnTo>
                      <a:pt x="135" y="380"/>
                    </a:lnTo>
                    <a:lnTo>
                      <a:pt x="139" y="372"/>
                    </a:lnTo>
                    <a:lnTo>
                      <a:pt x="145" y="365"/>
                    </a:lnTo>
                    <a:lnTo>
                      <a:pt x="151" y="357"/>
                    </a:lnTo>
                    <a:lnTo>
                      <a:pt x="154" y="350"/>
                    </a:lnTo>
                    <a:lnTo>
                      <a:pt x="160" y="342"/>
                    </a:lnTo>
                    <a:lnTo>
                      <a:pt x="166" y="334"/>
                    </a:lnTo>
                    <a:lnTo>
                      <a:pt x="168" y="329"/>
                    </a:lnTo>
                    <a:lnTo>
                      <a:pt x="173" y="321"/>
                    </a:lnTo>
                    <a:lnTo>
                      <a:pt x="177" y="315"/>
                    </a:lnTo>
                    <a:lnTo>
                      <a:pt x="181" y="310"/>
                    </a:lnTo>
                    <a:lnTo>
                      <a:pt x="185" y="304"/>
                    </a:lnTo>
                    <a:lnTo>
                      <a:pt x="191" y="296"/>
                    </a:lnTo>
                    <a:lnTo>
                      <a:pt x="192" y="291"/>
                    </a:lnTo>
                    <a:lnTo>
                      <a:pt x="198" y="285"/>
                    </a:lnTo>
                    <a:lnTo>
                      <a:pt x="202" y="277"/>
                    </a:lnTo>
                    <a:lnTo>
                      <a:pt x="206" y="272"/>
                    </a:lnTo>
                    <a:lnTo>
                      <a:pt x="211" y="266"/>
                    </a:lnTo>
                    <a:lnTo>
                      <a:pt x="215" y="260"/>
                    </a:lnTo>
                    <a:lnTo>
                      <a:pt x="219" y="253"/>
                    </a:lnTo>
                    <a:lnTo>
                      <a:pt x="225" y="247"/>
                    </a:lnTo>
                    <a:lnTo>
                      <a:pt x="229" y="241"/>
                    </a:lnTo>
                    <a:lnTo>
                      <a:pt x="234" y="237"/>
                    </a:lnTo>
                    <a:lnTo>
                      <a:pt x="238" y="230"/>
                    </a:lnTo>
                    <a:lnTo>
                      <a:pt x="244" y="224"/>
                    </a:lnTo>
                    <a:lnTo>
                      <a:pt x="248" y="218"/>
                    </a:lnTo>
                    <a:lnTo>
                      <a:pt x="253" y="213"/>
                    </a:lnTo>
                    <a:lnTo>
                      <a:pt x="257" y="207"/>
                    </a:lnTo>
                    <a:lnTo>
                      <a:pt x="263" y="201"/>
                    </a:lnTo>
                    <a:lnTo>
                      <a:pt x="268" y="196"/>
                    </a:lnTo>
                    <a:lnTo>
                      <a:pt x="274" y="190"/>
                    </a:lnTo>
                    <a:lnTo>
                      <a:pt x="278" y="184"/>
                    </a:lnTo>
                    <a:lnTo>
                      <a:pt x="284" y="178"/>
                    </a:lnTo>
                    <a:lnTo>
                      <a:pt x="287" y="173"/>
                    </a:lnTo>
                    <a:lnTo>
                      <a:pt x="293" y="169"/>
                    </a:lnTo>
                    <a:lnTo>
                      <a:pt x="299" y="163"/>
                    </a:lnTo>
                    <a:lnTo>
                      <a:pt x="305" y="158"/>
                    </a:lnTo>
                    <a:lnTo>
                      <a:pt x="310" y="152"/>
                    </a:lnTo>
                    <a:lnTo>
                      <a:pt x="316" y="148"/>
                    </a:lnTo>
                    <a:lnTo>
                      <a:pt x="320" y="142"/>
                    </a:lnTo>
                    <a:lnTo>
                      <a:pt x="325" y="137"/>
                    </a:lnTo>
                    <a:lnTo>
                      <a:pt x="331" y="131"/>
                    </a:lnTo>
                    <a:lnTo>
                      <a:pt x="337" y="125"/>
                    </a:lnTo>
                    <a:lnTo>
                      <a:pt x="343" y="120"/>
                    </a:lnTo>
                    <a:lnTo>
                      <a:pt x="348" y="116"/>
                    </a:lnTo>
                    <a:lnTo>
                      <a:pt x="354" y="110"/>
                    </a:lnTo>
                    <a:lnTo>
                      <a:pt x="360" y="106"/>
                    </a:lnTo>
                    <a:lnTo>
                      <a:pt x="365" y="101"/>
                    </a:lnTo>
                    <a:lnTo>
                      <a:pt x="371" y="95"/>
                    </a:lnTo>
                    <a:lnTo>
                      <a:pt x="375" y="91"/>
                    </a:lnTo>
                    <a:lnTo>
                      <a:pt x="381" y="85"/>
                    </a:lnTo>
                    <a:lnTo>
                      <a:pt x="386" y="81"/>
                    </a:lnTo>
                    <a:lnTo>
                      <a:pt x="394" y="76"/>
                    </a:lnTo>
                    <a:lnTo>
                      <a:pt x="400" y="72"/>
                    </a:lnTo>
                    <a:lnTo>
                      <a:pt x="405" y="68"/>
                    </a:lnTo>
                    <a:lnTo>
                      <a:pt x="411" y="62"/>
                    </a:lnTo>
                    <a:lnTo>
                      <a:pt x="417" y="59"/>
                    </a:lnTo>
                    <a:lnTo>
                      <a:pt x="422" y="53"/>
                    </a:lnTo>
                    <a:lnTo>
                      <a:pt x="430" y="49"/>
                    </a:lnTo>
                    <a:lnTo>
                      <a:pt x="436" y="45"/>
                    </a:lnTo>
                    <a:lnTo>
                      <a:pt x="441" y="40"/>
                    </a:lnTo>
                    <a:lnTo>
                      <a:pt x="447" y="36"/>
                    </a:lnTo>
                    <a:lnTo>
                      <a:pt x="455" y="32"/>
                    </a:lnTo>
                    <a:lnTo>
                      <a:pt x="460" y="28"/>
                    </a:lnTo>
                    <a:lnTo>
                      <a:pt x="466" y="24"/>
                    </a:lnTo>
                    <a:lnTo>
                      <a:pt x="474" y="19"/>
                    </a:lnTo>
                    <a:lnTo>
                      <a:pt x="479" y="15"/>
                    </a:lnTo>
                    <a:lnTo>
                      <a:pt x="485" y="11"/>
                    </a:lnTo>
                    <a:lnTo>
                      <a:pt x="493" y="7"/>
                    </a:lnTo>
                    <a:lnTo>
                      <a:pt x="498" y="4"/>
                    </a:lnTo>
                    <a:lnTo>
                      <a:pt x="506" y="0"/>
                    </a:lnTo>
                    <a:lnTo>
                      <a:pt x="510" y="5"/>
                    </a:lnTo>
                    <a:lnTo>
                      <a:pt x="514" y="11"/>
                    </a:lnTo>
                    <a:lnTo>
                      <a:pt x="519" y="17"/>
                    </a:lnTo>
                    <a:lnTo>
                      <a:pt x="525" y="24"/>
                    </a:lnTo>
                    <a:lnTo>
                      <a:pt x="529" y="30"/>
                    </a:lnTo>
                    <a:lnTo>
                      <a:pt x="534" y="38"/>
                    </a:lnTo>
                    <a:lnTo>
                      <a:pt x="540" y="43"/>
                    </a:lnTo>
                    <a:lnTo>
                      <a:pt x="546" y="51"/>
                    </a:lnTo>
                    <a:lnTo>
                      <a:pt x="531" y="59"/>
                    </a:lnTo>
                    <a:lnTo>
                      <a:pt x="517" y="66"/>
                    </a:lnTo>
                    <a:lnTo>
                      <a:pt x="504" y="76"/>
                    </a:lnTo>
                    <a:lnTo>
                      <a:pt x="493" y="85"/>
                    </a:lnTo>
                    <a:lnTo>
                      <a:pt x="479" y="93"/>
                    </a:lnTo>
                    <a:lnTo>
                      <a:pt x="466" y="102"/>
                    </a:lnTo>
                    <a:lnTo>
                      <a:pt x="453" y="110"/>
                    </a:lnTo>
                    <a:lnTo>
                      <a:pt x="441" y="121"/>
                    </a:lnTo>
                    <a:lnTo>
                      <a:pt x="430" y="131"/>
                    </a:lnTo>
                    <a:lnTo>
                      <a:pt x="419" y="140"/>
                    </a:lnTo>
                    <a:lnTo>
                      <a:pt x="405" y="150"/>
                    </a:lnTo>
                    <a:lnTo>
                      <a:pt x="394" y="161"/>
                    </a:lnTo>
                    <a:lnTo>
                      <a:pt x="382" y="171"/>
                    </a:lnTo>
                    <a:lnTo>
                      <a:pt x="371" y="182"/>
                    </a:lnTo>
                    <a:lnTo>
                      <a:pt x="362" y="194"/>
                    </a:lnTo>
                    <a:lnTo>
                      <a:pt x="350" y="205"/>
                    </a:lnTo>
                    <a:lnTo>
                      <a:pt x="339" y="215"/>
                    </a:lnTo>
                    <a:lnTo>
                      <a:pt x="327" y="226"/>
                    </a:lnTo>
                    <a:lnTo>
                      <a:pt x="318" y="237"/>
                    </a:lnTo>
                    <a:lnTo>
                      <a:pt x="308" y="249"/>
                    </a:lnTo>
                    <a:lnTo>
                      <a:pt x="297" y="260"/>
                    </a:lnTo>
                    <a:lnTo>
                      <a:pt x="287" y="274"/>
                    </a:lnTo>
                    <a:lnTo>
                      <a:pt x="278" y="285"/>
                    </a:lnTo>
                    <a:lnTo>
                      <a:pt x="268" y="298"/>
                    </a:lnTo>
                    <a:lnTo>
                      <a:pt x="259" y="310"/>
                    </a:lnTo>
                    <a:lnTo>
                      <a:pt x="249" y="323"/>
                    </a:lnTo>
                    <a:lnTo>
                      <a:pt x="242" y="334"/>
                    </a:lnTo>
                    <a:lnTo>
                      <a:pt x="232" y="350"/>
                    </a:lnTo>
                    <a:lnTo>
                      <a:pt x="225" y="361"/>
                    </a:lnTo>
                    <a:lnTo>
                      <a:pt x="215" y="374"/>
                    </a:lnTo>
                    <a:lnTo>
                      <a:pt x="208" y="388"/>
                    </a:lnTo>
                    <a:lnTo>
                      <a:pt x="200" y="403"/>
                    </a:lnTo>
                    <a:lnTo>
                      <a:pt x="192" y="416"/>
                    </a:lnTo>
                    <a:lnTo>
                      <a:pt x="185" y="429"/>
                    </a:lnTo>
                    <a:lnTo>
                      <a:pt x="177" y="443"/>
                    </a:lnTo>
                    <a:lnTo>
                      <a:pt x="170" y="456"/>
                    </a:lnTo>
                    <a:lnTo>
                      <a:pt x="162" y="471"/>
                    </a:lnTo>
                    <a:lnTo>
                      <a:pt x="156" y="485"/>
                    </a:lnTo>
                    <a:lnTo>
                      <a:pt x="151" y="500"/>
                    </a:lnTo>
                    <a:lnTo>
                      <a:pt x="145" y="513"/>
                    </a:lnTo>
                    <a:lnTo>
                      <a:pt x="137" y="528"/>
                    </a:lnTo>
                    <a:lnTo>
                      <a:pt x="132" y="543"/>
                    </a:lnTo>
                    <a:lnTo>
                      <a:pt x="128" y="559"/>
                    </a:lnTo>
                    <a:lnTo>
                      <a:pt x="122" y="574"/>
                    </a:lnTo>
                    <a:lnTo>
                      <a:pt x="116" y="587"/>
                    </a:lnTo>
                    <a:lnTo>
                      <a:pt x="113" y="604"/>
                    </a:lnTo>
                    <a:lnTo>
                      <a:pt x="107" y="620"/>
                    </a:lnTo>
                    <a:lnTo>
                      <a:pt x="105" y="635"/>
                    </a:lnTo>
                    <a:lnTo>
                      <a:pt x="99" y="650"/>
                    </a:lnTo>
                    <a:lnTo>
                      <a:pt x="95" y="665"/>
                    </a:lnTo>
                    <a:lnTo>
                      <a:pt x="92" y="680"/>
                    </a:lnTo>
                    <a:lnTo>
                      <a:pt x="90" y="697"/>
                    </a:lnTo>
                    <a:lnTo>
                      <a:pt x="86" y="713"/>
                    </a:lnTo>
                    <a:lnTo>
                      <a:pt x="82" y="728"/>
                    </a:lnTo>
                    <a:lnTo>
                      <a:pt x="80" y="745"/>
                    </a:lnTo>
                    <a:lnTo>
                      <a:pt x="78" y="762"/>
                    </a:lnTo>
                    <a:lnTo>
                      <a:pt x="76" y="777"/>
                    </a:lnTo>
                    <a:lnTo>
                      <a:pt x="75" y="793"/>
                    </a:lnTo>
                    <a:lnTo>
                      <a:pt x="73" y="810"/>
                    </a:lnTo>
                    <a:lnTo>
                      <a:pt x="73" y="827"/>
                    </a:lnTo>
                    <a:lnTo>
                      <a:pt x="71" y="844"/>
                    </a:lnTo>
                    <a:lnTo>
                      <a:pt x="71" y="859"/>
                    </a:lnTo>
                    <a:lnTo>
                      <a:pt x="71" y="876"/>
                    </a:lnTo>
                    <a:lnTo>
                      <a:pt x="71" y="893"/>
                    </a:lnTo>
                    <a:lnTo>
                      <a:pt x="71" y="918"/>
                    </a:lnTo>
                    <a:lnTo>
                      <a:pt x="71" y="943"/>
                    </a:lnTo>
                    <a:lnTo>
                      <a:pt x="73" y="967"/>
                    </a:lnTo>
                    <a:lnTo>
                      <a:pt x="75" y="992"/>
                    </a:lnTo>
                    <a:lnTo>
                      <a:pt x="76" y="1017"/>
                    </a:lnTo>
                    <a:lnTo>
                      <a:pt x="80" y="1042"/>
                    </a:lnTo>
                    <a:lnTo>
                      <a:pt x="84" y="1066"/>
                    </a:lnTo>
                    <a:lnTo>
                      <a:pt x="90" y="1091"/>
                    </a:lnTo>
                    <a:lnTo>
                      <a:pt x="95" y="1114"/>
                    </a:lnTo>
                    <a:lnTo>
                      <a:pt x="101" y="1137"/>
                    </a:lnTo>
                    <a:lnTo>
                      <a:pt x="107" y="1161"/>
                    </a:lnTo>
                    <a:lnTo>
                      <a:pt x="114" y="1186"/>
                    </a:lnTo>
                    <a:lnTo>
                      <a:pt x="120" y="1207"/>
                    </a:lnTo>
                    <a:lnTo>
                      <a:pt x="128" y="1230"/>
                    </a:lnTo>
                    <a:lnTo>
                      <a:pt x="137" y="1253"/>
                    </a:lnTo>
                    <a:lnTo>
                      <a:pt x="147" y="1275"/>
                    </a:lnTo>
                    <a:lnTo>
                      <a:pt x="156" y="1296"/>
                    </a:lnTo>
                    <a:lnTo>
                      <a:pt x="166" y="1319"/>
                    </a:lnTo>
                    <a:lnTo>
                      <a:pt x="177" y="1340"/>
                    </a:lnTo>
                    <a:lnTo>
                      <a:pt x="189" y="1361"/>
                    </a:lnTo>
                    <a:lnTo>
                      <a:pt x="200" y="1382"/>
                    </a:lnTo>
                    <a:lnTo>
                      <a:pt x="211" y="1403"/>
                    </a:lnTo>
                    <a:lnTo>
                      <a:pt x="225" y="1422"/>
                    </a:lnTo>
                    <a:lnTo>
                      <a:pt x="238" y="1443"/>
                    </a:lnTo>
                    <a:lnTo>
                      <a:pt x="251" y="1462"/>
                    </a:lnTo>
                    <a:lnTo>
                      <a:pt x="265" y="1481"/>
                    </a:lnTo>
                    <a:lnTo>
                      <a:pt x="280" y="1500"/>
                    </a:lnTo>
                    <a:lnTo>
                      <a:pt x="295" y="1519"/>
                    </a:lnTo>
                    <a:lnTo>
                      <a:pt x="308" y="1536"/>
                    </a:lnTo>
                    <a:lnTo>
                      <a:pt x="325" y="1555"/>
                    </a:lnTo>
                    <a:lnTo>
                      <a:pt x="343" y="1572"/>
                    </a:lnTo>
                    <a:lnTo>
                      <a:pt x="360" y="1589"/>
                    </a:lnTo>
                    <a:lnTo>
                      <a:pt x="375" y="1604"/>
                    </a:lnTo>
                    <a:lnTo>
                      <a:pt x="392" y="1621"/>
                    </a:lnTo>
                    <a:lnTo>
                      <a:pt x="409" y="1637"/>
                    </a:lnTo>
                    <a:lnTo>
                      <a:pt x="428" y="1652"/>
                    </a:lnTo>
                    <a:lnTo>
                      <a:pt x="445" y="1665"/>
                    </a:lnTo>
                    <a:lnTo>
                      <a:pt x="464" y="1680"/>
                    </a:lnTo>
                    <a:lnTo>
                      <a:pt x="485" y="1696"/>
                    </a:lnTo>
                    <a:lnTo>
                      <a:pt x="504" y="1709"/>
                    </a:lnTo>
                    <a:lnTo>
                      <a:pt x="523" y="1722"/>
                    </a:lnTo>
                    <a:lnTo>
                      <a:pt x="544" y="1734"/>
                    </a:lnTo>
                    <a:lnTo>
                      <a:pt x="563" y="1747"/>
                    </a:lnTo>
                    <a:lnTo>
                      <a:pt x="584" y="1758"/>
                    </a:lnTo>
                    <a:lnTo>
                      <a:pt x="605" y="1770"/>
                    </a:lnTo>
                    <a:lnTo>
                      <a:pt x="626" y="1781"/>
                    </a:lnTo>
                    <a:lnTo>
                      <a:pt x="649" y="1791"/>
                    </a:lnTo>
                    <a:lnTo>
                      <a:pt x="671" y="1800"/>
                    </a:lnTo>
                    <a:lnTo>
                      <a:pt x="692" y="1810"/>
                    </a:lnTo>
                    <a:lnTo>
                      <a:pt x="715" y="1817"/>
                    </a:lnTo>
                    <a:lnTo>
                      <a:pt x="738" y="1825"/>
                    </a:lnTo>
                    <a:lnTo>
                      <a:pt x="761" y="1834"/>
                    </a:lnTo>
                    <a:lnTo>
                      <a:pt x="783" y="1840"/>
                    </a:lnTo>
                    <a:lnTo>
                      <a:pt x="808" y="1848"/>
                    </a:lnTo>
                    <a:lnTo>
                      <a:pt x="831" y="1853"/>
                    </a:lnTo>
                    <a:lnTo>
                      <a:pt x="856" y="1859"/>
                    </a:lnTo>
                    <a:lnTo>
                      <a:pt x="878" y="1861"/>
                    </a:lnTo>
                    <a:lnTo>
                      <a:pt x="903" y="1867"/>
                    </a:lnTo>
                    <a:lnTo>
                      <a:pt x="928" y="1869"/>
                    </a:lnTo>
                    <a:lnTo>
                      <a:pt x="953" y="1872"/>
                    </a:lnTo>
                    <a:lnTo>
                      <a:pt x="977" y="1874"/>
                    </a:lnTo>
                    <a:lnTo>
                      <a:pt x="1002" y="1876"/>
                    </a:lnTo>
                    <a:lnTo>
                      <a:pt x="1029" y="1878"/>
                    </a:lnTo>
                    <a:lnTo>
                      <a:pt x="1053" y="18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59"/>
              <p:cNvSpPr/>
              <p:nvPr/>
            </p:nvSpPr>
            <p:spPr>
              <a:xfrm>
                <a:off x="4187520" y="4314960"/>
                <a:ext cx="1255680" cy="1558800"/>
              </a:xfrm>
              <a:custGeom>
                <a:avLst/>
                <a:gdLst>
                  <a:gd name="textAreaLeft" fmla="*/ 0 w 1255680"/>
                  <a:gd name="textAreaRight" fmla="*/ 1256040 w 1255680"/>
                  <a:gd name="textAreaTop" fmla="*/ 0 h 1558800"/>
                  <a:gd name="textAreaBottom" fmla="*/ 1559160 h 1558800"/>
                </a:gdLst>
                <a:ahLst/>
                <a:rect l="textAreaLeft" t="textAreaTop" r="textAreaRight" b="textAreaBottom"/>
                <a:pathLst>
                  <a:path w="1581" h="1964">
                    <a:moveTo>
                      <a:pt x="32" y="201"/>
                    </a:moveTo>
                    <a:lnTo>
                      <a:pt x="27" y="192"/>
                    </a:lnTo>
                    <a:lnTo>
                      <a:pt x="23" y="186"/>
                    </a:lnTo>
                    <a:lnTo>
                      <a:pt x="19" y="177"/>
                    </a:lnTo>
                    <a:lnTo>
                      <a:pt x="15" y="171"/>
                    </a:lnTo>
                    <a:lnTo>
                      <a:pt x="9" y="163"/>
                    </a:lnTo>
                    <a:lnTo>
                      <a:pt x="6" y="156"/>
                    </a:lnTo>
                    <a:lnTo>
                      <a:pt x="4" y="148"/>
                    </a:lnTo>
                    <a:lnTo>
                      <a:pt x="0" y="142"/>
                    </a:lnTo>
                    <a:lnTo>
                      <a:pt x="8" y="139"/>
                    </a:lnTo>
                    <a:lnTo>
                      <a:pt x="15" y="135"/>
                    </a:lnTo>
                    <a:lnTo>
                      <a:pt x="21" y="131"/>
                    </a:lnTo>
                    <a:lnTo>
                      <a:pt x="28" y="127"/>
                    </a:lnTo>
                    <a:lnTo>
                      <a:pt x="36" y="122"/>
                    </a:lnTo>
                    <a:lnTo>
                      <a:pt x="44" y="118"/>
                    </a:lnTo>
                    <a:lnTo>
                      <a:pt x="51" y="114"/>
                    </a:lnTo>
                    <a:lnTo>
                      <a:pt x="59" y="110"/>
                    </a:lnTo>
                    <a:lnTo>
                      <a:pt x="67" y="106"/>
                    </a:lnTo>
                    <a:lnTo>
                      <a:pt x="74" y="103"/>
                    </a:lnTo>
                    <a:lnTo>
                      <a:pt x="82" y="99"/>
                    </a:lnTo>
                    <a:lnTo>
                      <a:pt x="89" y="95"/>
                    </a:lnTo>
                    <a:lnTo>
                      <a:pt x="97" y="91"/>
                    </a:lnTo>
                    <a:lnTo>
                      <a:pt x="105" y="87"/>
                    </a:lnTo>
                    <a:lnTo>
                      <a:pt x="112" y="85"/>
                    </a:lnTo>
                    <a:lnTo>
                      <a:pt x="122" y="82"/>
                    </a:lnTo>
                    <a:lnTo>
                      <a:pt x="129" y="78"/>
                    </a:lnTo>
                    <a:lnTo>
                      <a:pt x="137" y="76"/>
                    </a:lnTo>
                    <a:lnTo>
                      <a:pt x="144" y="72"/>
                    </a:lnTo>
                    <a:lnTo>
                      <a:pt x="152" y="68"/>
                    </a:lnTo>
                    <a:lnTo>
                      <a:pt x="160" y="66"/>
                    </a:lnTo>
                    <a:lnTo>
                      <a:pt x="167" y="63"/>
                    </a:lnTo>
                    <a:lnTo>
                      <a:pt x="177" y="61"/>
                    </a:lnTo>
                    <a:lnTo>
                      <a:pt x="184" y="59"/>
                    </a:lnTo>
                    <a:lnTo>
                      <a:pt x="192" y="55"/>
                    </a:lnTo>
                    <a:lnTo>
                      <a:pt x="201" y="53"/>
                    </a:lnTo>
                    <a:lnTo>
                      <a:pt x="209" y="49"/>
                    </a:lnTo>
                    <a:lnTo>
                      <a:pt x="217" y="47"/>
                    </a:lnTo>
                    <a:lnTo>
                      <a:pt x="224" y="44"/>
                    </a:lnTo>
                    <a:lnTo>
                      <a:pt x="234" y="42"/>
                    </a:lnTo>
                    <a:lnTo>
                      <a:pt x="241" y="40"/>
                    </a:lnTo>
                    <a:lnTo>
                      <a:pt x="251" y="38"/>
                    </a:lnTo>
                    <a:lnTo>
                      <a:pt x="258" y="36"/>
                    </a:lnTo>
                    <a:lnTo>
                      <a:pt x="266" y="32"/>
                    </a:lnTo>
                    <a:lnTo>
                      <a:pt x="276" y="30"/>
                    </a:lnTo>
                    <a:lnTo>
                      <a:pt x="283" y="28"/>
                    </a:lnTo>
                    <a:lnTo>
                      <a:pt x="291" y="26"/>
                    </a:lnTo>
                    <a:lnTo>
                      <a:pt x="300" y="25"/>
                    </a:lnTo>
                    <a:lnTo>
                      <a:pt x="308" y="23"/>
                    </a:lnTo>
                    <a:lnTo>
                      <a:pt x="317" y="21"/>
                    </a:lnTo>
                    <a:lnTo>
                      <a:pt x="325" y="19"/>
                    </a:lnTo>
                    <a:lnTo>
                      <a:pt x="334" y="17"/>
                    </a:lnTo>
                    <a:lnTo>
                      <a:pt x="342" y="15"/>
                    </a:lnTo>
                    <a:lnTo>
                      <a:pt x="352" y="15"/>
                    </a:lnTo>
                    <a:lnTo>
                      <a:pt x="359" y="13"/>
                    </a:lnTo>
                    <a:lnTo>
                      <a:pt x="369" y="11"/>
                    </a:lnTo>
                    <a:lnTo>
                      <a:pt x="376" y="9"/>
                    </a:lnTo>
                    <a:lnTo>
                      <a:pt x="386" y="9"/>
                    </a:lnTo>
                    <a:lnTo>
                      <a:pt x="395" y="7"/>
                    </a:lnTo>
                    <a:lnTo>
                      <a:pt x="403" y="7"/>
                    </a:lnTo>
                    <a:lnTo>
                      <a:pt x="410" y="6"/>
                    </a:lnTo>
                    <a:lnTo>
                      <a:pt x="420" y="6"/>
                    </a:lnTo>
                    <a:lnTo>
                      <a:pt x="428" y="4"/>
                    </a:lnTo>
                    <a:lnTo>
                      <a:pt x="437" y="4"/>
                    </a:lnTo>
                    <a:lnTo>
                      <a:pt x="447" y="2"/>
                    </a:lnTo>
                    <a:lnTo>
                      <a:pt x="456" y="2"/>
                    </a:lnTo>
                    <a:lnTo>
                      <a:pt x="464" y="2"/>
                    </a:lnTo>
                    <a:lnTo>
                      <a:pt x="473" y="0"/>
                    </a:lnTo>
                    <a:lnTo>
                      <a:pt x="481" y="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9" y="0"/>
                    </a:lnTo>
                    <a:lnTo>
                      <a:pt x="526" y="0"/>
                    </a:lnTo>
                    <a:lnTo>
                      <a:pt x="553" y="0"/>
                    </a:lnTo>
                    <a:lnTo>
                      <a:pt x="582" y="2"/>
                    </a:lnTo>
                    <a:lnTo>
                      <a:pt x="606" y="2"/>
                    </a:lnTo>
                    <a:lnTo>
                      <a:pt x="635" y="6"/>
                    </a:lnTo>
                    <a:lnTo>
                      <a:pt x="659" y="7"/>
                    </a:lnTo>
                    <a:lnTo>
                      <a:pt x="686" y="11"/>
                    </a:lnTo>
                    <a:lnTo>
                      <a:pt x="713" y="15"/>
                    </a:lnTo>
                    <a:lnTo>
                      <a:pt x="739" y="21"/>
                    </a:lnTo>
                    <a:lnTo>
                      <a:pt x="764" y="26"/>
                    </a:lnTo>
                    <a:lnTo>
                      <a:pt x="789" y="32"/>
                    </a:lnTo>
                    <a:lnTo>
                      <a:pt x="813" y="38"/>
                    </a:lnTo>
                    <a:lnTo>
                      <a:pt x="838" y="47"/>
                    </a:lnTo>
                    <a:lnTo>
                      <a:pt x="863" y="55"/>
                    </a:lnTo>
                    <a:lnTo>
                      <a:pt x="888" y="63"/>
                    </a:lnTo>
                    <a:lnTo>
                      <a:pt x="912" y="72"/>
                    </a:lnTo>
                    <a:lnTo>
                      <a:pt x="937" y="84"/>
                    </a:lnTo>
                    <a:lnTo>
                      <a:pt x="958" y="93"/>
                    </a:lnTo>
                    <a:lnTo>
                      <a:pt x="983" y="104"/>
                    </a:lnTo>
                    <a:lnTo>
                      <a:pt x="1005" y="114"/>
                    </a:lnTo>
                    <a:lnTo>
                      <a:pt x="1028" y="127"/>
                    </a:lnTo>
                    <a:lnTo>
                      <a:pt x="1049" y="139"/>
                    </a:lnTo>
                    <a:lnTo>
                      <a:pt x="1072" y="152"/>
                    </a:lnTo>
                    <a:lnTo>
                      <a:pt x="1093" y="165"/>
                    </a:lnTo>
                    <a:lnTo>
                      <a:pt x="1116" y="180"/>
                    </a:lnTo>
                    <a:lnTo>
                      <a:pt x="1136" y="196"/>
                    </a:lnTo>
                    <a:lnTo>
                      <a:pt x="1155" y="209"/>
                    </a:lnTo>
                    <a:lnTo>
                      <a:pt x="1176" y="224"/>
                    </a:lnTo>
                    <a:lnTo>
                      <a:pt x="1195" y="241"/>
                    </a:lnTo>
                    <a:lnTo>
                      <a:pt x="1214" y="258"/>
                    </a:lnTo>
                    <a:lnTo>
                      <a:pt x="1233" y="274"/>
                    </a:lnTo>
                    <a:lnTo>
                      <a:pt x="1252" y="291"/>
                    </a:lnTo>
                    <a:lnTo>
                      <a:pt x="1271" y="310"/>
                    </a:lnTo>
                    <a:lnTo>
                      <a:pt x="1289" y="327"/>
                    </a:lnTo>
                    <a:lnTo>
                      <a:pt x="1306" y="346"/>
                    </a:lnTo>
                    <a:lnTo>
                      <a:pt x="1323" y="365"/>
                    </a:lnTo>
                    <a:lnTo>
                      <a:pt x="1338" y="384"/>
                    </a:lnTo>
                    <a:lnTo>
                      <a:pt x="1353" y="403"/>
                    </a:lnTo>
                    <a:lnTo>
                      <a:pt x="1370" y="424"/>
                    </a:lnTo>
                    <a:lnTo>
                      <a:pt x="1385" y="445"/>
                    </a:lnTo>
                    <a:lnTo>
                      <a:pt x="1399" y="466"/>
                    </a:lnTo>
                    <a:lnTo>
                      <a:pt x="1412" y="487"/>
                    </a:lnTo>
                    <a:lnTo>
                      <a:pt x="1427" y="507"/>
                    </a:lnTo>
                    <a:lnTo>
                      <a:pt x="1441" y="530"/>
                    </a:lnTo>
                    <a:lnTo>
                      <a:pt x="1452" y="551"/>
                    </a:lnTo>
                    <a:lnTo>
                      <a:pt x="1463" y="574"/>
                    </a:lnTo>
                    <a:lnTo>
                      <a:pt x="1475" y="597"/>
                    </a:lnTo>
                    <a:lnTo>
                      <a:pt x="1486" y="620"/>
                    </a:lnTo>
                    <a:lnTo>
                      <a:pt x="1498" y="644"/>
                    </a:lnTo>
                    <a:lnTo>
                      <a:pt x="1507" y="667"/>
                    </a:lnTo>
                    <a:lnTo>
                      <a:pt x="1517" y="692"/>
                    </a:lnTo>
                    <a:lnTo>
                      <a:pt x="1524" y="717"/>
                    </a:lnTo>
                    <a:lnTo>
                      <a:pt x="1532" y="741"/>
                    </a:lnTo>
                    <a:lnTo>
                      <a:pt x="1539" y="766"/>
                    </a:lnTo>
                    <a:lnTo>
                      <a:pt x="1547" y="791"/>
                    </a:lnTo>
                    <a:lnTo>
                      <a:pt x="1553" y="815"/>
                    </a:lnTo>
                    <a:lnTo>
                      <a:pt x="1558" y="842"/>
                    </a:lnTo>
                    <a:lnTo>
                      <a:pt x="1564" y="869"/>
                    </a:lnTo>
                    <a:lnTo>
                      <a:pt x="1568" y="893"/>
                    </a:lnTo>
                    <a:lnTo>
                      <a:pt x="1572" y="920"/>
                    </a:lnTo>
                    <a:lnTo>
                      <a:pt x="1575" y="947"/>
                    </a:lnTo>
                    <a:lnTo>
                      <a:pt x="1577" y="973"/>
                    </a:lnTo>
                    <a:lnTo>
                      <a:pt x="1579" y="1002"/>
                    </a:lnTo>
                    <a:lnTo>
                      <a:pt x="1579" y="1028"/>
                    </a:lnTo>
                    <a:lnTo>
                      <a:pt x="1581" y="1057"/>
                    </a:lnTo>
                    <a:lnTo>
                      <a:pt x="1579" y="1072"/>
                    </a:lnTo>
                    <a:lnTo>
                      <a:pt x="1579" y="1091"/>
                    </a:lnTo>
                    <a:lnTo>
                      <a:pt x="1579" y="1108"/>
                    </a:lnTo>
                    <a:lnTo>
                      <a:pt x="1579" y="1127"/>
                    </a:lnTo>
                    <a:lnTo>
                      <a:pt x="1575" y="1144"/>
                    </a:lnTo>
                    <a:lnTo>
                      <a:pt x="1575" y="1163"/>
                    </a:lnTo>
                    <a:lnTo>
                      <a:pt x="1574" y="1180"/>
                    </a:lnTo>
                    <a:lnTo>
                      <a:pt x="1572" y="1199"/>
                    </a:lnTo>
                    <a:lnTo>
                      <a:pt x="1568" y="1215"/>
                    </a:lnTo>
                    <a:lnTo>
                      <a:pt x="1564" y="1232"/>
                    </a:lnTo>
                    <a:lnTo>
                      <a:pt x="1562" y="1249"/>
                    </a:lnTo>
                    <a:lnTo>
                      <a:pt x="1558" y="1268"/>
                    </a:lnTo>
                    <a:lnTo>
                      <a:pt x="1555" y="1283"/>
                    </a:lnTo>
                    <a:lnTo>
                      <a:pt x="1551" y="1300"/>
                    </a:lnTo>
                    <a:lnTo>
                      <a:pt x="1547" y="1317"/>
                    </a:lnTo>
                    <a:lnTo>
                      <a:pt x="1543" y="1336"/>
                    </a:lnTo>
                    <a:lnTo>
                      <a:pt x="1537" y="1352"/>
                    </a:lnTo>
                    <a:lnTo>
                      <a:pt x="1532" y="1367"/>
                    </a:lnTo>
                    <a:lnTo>
                      <a:pt x="1526" y="1384"/>
                    </a:lnTo>
                    <a:lnTo>
                      <a:pt x="1520" y="1401"/>
                    </a:lnTo>
                    <a:lnTo>
                      <a:pt x="1515" y="1416"/>
                    </a:lnTo>
                    <a:lnTo>
                      <a:pt x="1509" y="1431"/>
                    </a:lnTo>
                    <a:lnTo>
                      <a:pt x="1503" y="1449"/>
                    </a:lnTo>
                    <a:lnTo>
                      <a:pt x="1498" y="1466"/>
                    </a:lnTo>
                    <a:lnTo>
                      <a:pt x="1490" y="1481"/>
                    </a:lnTo>
                    <a:lnTo>
                      <a:pt x="1482" y="1496"/>
                    </a:lnTo>
                    <a:lnTo>
                      <a:pt x="1475" y="1511"/>
                    </a:lnTo>
                    <a:lnTo>
                      <a:pt x="1467" y="1526"/>
                    </a:lnTo>
                    <a:lnTo>
                      <a:pt x="1460" y="1542"/>
                    </a:lnTo>
                    <a:lnTo>
                      <a:pt x="1452" y="1557"/>
                    </a:lnTo>
                    <a:lnTo>
                      <a:pt x="1444" y="1572"/>
                    </a:lnTo>
                    <a:lnTo>
                      <a:pt x="1437" y="1587"/>
                    </a:lnTo>
                    <a:lnTo>
                      <a:pt x="1427" y="1603"/>
                    </a:lnTo>
                    <a:lnTo>
                      <a:pt x="1418" y="1616"/>
                    </a:lnTo>
                    <a:lnTo>
                      <a:pt x="1408" y="1629"/>
                    </a:lnTo>
                    <a:lnTo>
                      <a:pt x="1399" y="1644"/>
                    </a:lnTo>
                    <a:lnTo>
                      <a:pt x="1389" y="1658"/>
                    </a:lnTo>
                    <a:lnTo>
                      <a:pt x="1380" y="1671"/>
                    </a:lnTo>
                    <a:lnTo>
                      <a:pt x="1368" y="1684"/>
                    </a:lnTo>
                    <a:lnTo>
                      <a:pt x="1359" y="1699"/>
                    </a:lnTo>
                    <a:lnTo>
                      <a:pt x="1347" y="1711"/>
                    </a:lnTo>
                    <a:lnTo>
                      <a:pt x="1338" y="1724"/>
                    </a:lnTo>
                    <a:lnTo>
                      <a:pt x="1327" y="1737"/>
                    </a:lnTo>
                    <a:lnTo>
                      <a:pt x="1317" y="1749"/>
                    </a:lnTo>
                    <a:lnTo>
                      <a:pt x="1304" y="1762"/>
                    </a:lnTo>
                    <a:lnTo>
                      <a:pt x="1292" y="1774"/>
                    </a:lnTo>
                    <a:lnTo>
                      <a:pt x="1281" y="1787"/>
                    </a:lnTo>
                    <a:lnTo>
                      <a:pt x="1271" y="1800"/>
                    </a:lnTo>
                    <a:lnTo>
                      <a:pt x="1258" y="1810"/>
                    </a:lnTo>
                    <a:lnTo>
                      <a:pt x="1245" y="1821"/>
                    </a:lnTo>
                    <a:lnTo>
                      <a:pt x="1233" y="1833"/>
                    </a:lnTo>
                    <a:lnTo>
                      <a:pt x="1220" y="1846"/>
                    </a:lnTo>
                    <a:lnTo>
                      <a:pt x="1207" y="1855"/>
                    </a:lnTo>
                    <a:lnTo>
                      <a:pt x="1195" y="1867"/>
                    </a:lnTo>
                    <a:lnTo>
                      <a:pt x="1182" y="1878"/>
                    </a:lnTo>
                    <a:lnTo>
                      <a:pt x="1169" y="1888"/>
                    </a:lnTo>
                    <a:lnTo>
                      <a:pt x="1155" y="1897"/>
                    </a:lnTo>
                    <a:lnTo>
                      <a:pt x="1142" y="1909"/>
                    </a:lnTo>
                    <a:lnTo>
                      <a:pt x="1129" y="1918"/>
                    </a:lnTo>
                    <a:lnTo>
                      <a:pt x="1116" y="1928"/>
                    </a:lnTo>
                    <a:lnTo>
                      <a:pt x="1100" y="1937"/>
                    </a:lnTo>
                    <a:lnTo>
                      <a:pt x="1087" y="1947"/>
                    </a:lnTo>
                    <a:lnTo>
                      <a:pt x="1074" y="1954"/>
                    </a:lnTo>
                    <a:lnTo>
                      <a:pt x="1059" y="1964"/>
                    </a:lnTo>
                    <a:lnTo>
                      <a:pt x="1053" y="1956"/>
                    </a:lnTo>
                    <a:lnTo>
                      <a:pt x="1047" y="1949"/>
                    </a:lnTo>
                    <a:lnTo>
                      <a:pt x="1041" y="1941"/>
                    </a:lnTo>
                    <a:lnTo>
                      <a:pt x="1036" y="1933"/>
                    </a:lnTo>
                    <a:lnTo>
                      <a:pt x="1030" y="1926"/>
                    </a:lnTo>
                    <a:lnTo>
                      <a:pt x="1024" y="1918"/>
                    </a:lnTo>
                    <a:lnTo>
                      <a:pt x="1021" y="1910"/>
                    </a:lnTo>
                    <a:lnTo>
                      <a:pt x="1015" y="1905"/>
                    </a:lnTo>
                    <a:lnTo>
                      <a:pt x="1028" y="1895"/>
                    </a:lnTo>
                    <a:lnTo>
                      <a:pt x="1041" y="1888"/>
                    </a:lnTo>
                    <a:lnTo>
                      <a:pt x="1055" y="1878"/>
                    </a:lnTo>
                    <a:lnTo>
                      <a:pt x="1068" y="1871"/>
                    </a:lnTo>
                    <a:lnTo>
                      <a:pt x="1081" y="1861"/>
                    </a:lnTo>
                    <a:lnTo>
                      <a:pt x="1095" y="1852"/>
                    </a:lnTo>
                    <a:lnTo>
                      <a:pt x="1108" y="1842"/>
                    </a:lnTo>
                    <a:lnTo>
                      <a:pt x="1121" y="1834"/>
                    </a:lnTo>
                    <a:lnTo>
                      <a:pt x="1133" y="1823"/>
                    </a:lnTo>
                    <a:lnTo>
                      <a:pt x="1144" y="1814"/>
                    </a:lnTo>
                    <a:lnTo>
                      <a:pt x="1157" y="1804"/>
                    </a:lnTo>
                    <a:lnTo>
                      <a:pt x="1171" y="1795"/>
                    </a:lnTo>
                    <a:lnTo>
                      <a:pt x="1182" y="1783"/>
                    </a:lnTo>
                    <a:lnTo>
                      <a:pt x="1193" y="1772"/>
                    </a:lnTo>
                    <a:lnTo>
                      <a:pt x="1205" y="1760"/>
                    </a:lnTo>
                    <a:lnTo>
                      <a:pt x="1216" y="1751"/>
                    </a:lnTo>
                    <a:lnTo>
                      <a:pt x="1228" y="1739"/>
                    </a:lnTo>
                    <a:lnTo>
                      <a:pt x="1239" y="1728"/>
                    </a:lnTo>
                    <a:lnTo>
                      <a:pt x="1249" y="1715"/>
                    </a:lnTo>
                    <a:lnTo>
                      <a:pt x="1260" y="1703"/>
                    </a:lnTo>
                    <a:lnTo>
                      <a:pt x="1271" y="1692"/>
                    </a:lnTo>
                    <a:lnTo>
                      <a:pt x="1281" y="1679"/>
                    </a:lnTo>
                    <a:lnTo>
                      <a:pt x="1290" y="1667"/>
                    </a:lnTo>
                    <a:lnTo>
                      <a:pt x="1302" y="1656"/>
                    </a:lnTo>
                    <a:lnTo>
                      <a:pt x="1311" y="1642"/>
                    </a:lnTo>
                    <a:lnTo>
                      <a:pt x="1321" y="1629"/>
                    </a:lnTo>
                    <a:lnTo>
                      <a:pt x="1330" y="1616"/>
                    </a:lnTo>
                    <a:lnTo>
                      <a:pt x="1338" y="1604"/>
                    </a:lnTo>
                    <a:lnTo>
                      <a:pt x="1347" y="1589"/>
                    </a:lnTo>
                    <a:lnTo>
                      <a:pt x="1357" y="1576"/>
                    </a:lnTo>
                    <a:lnTo>
                      <a:pt x="1365" y="1563"/>
                    </a:lnTo>
                    <a:lnTo>
                      <a:pt x="1374" y="1549"/>
                    </a:lnTo>
                    <a:lnTo>
                      <a:pt x="1382" y="1536"/>
                    </a:lnTo>
                    <a:lnTo>
                      <a:pt x="1389" y="1521"/>
                    </a:lnTo>
                    <a:lnTo>
                      <a:pt x="1397" y="1507"/>
                    </a:lnTo>
                    <a:lnTo>
                      <a:pt x="1404" y="1492"/>
                    </a:lnTo>
                    <a:lnTo>
                      <a:pt x="1410" y="1477"/>
                    </a:lnTo>
                    <a:lnTo>
                      <a:pt x="1418" y="1464"/>
                    </a:lnTo>
                    <a:lnTo>
                      <a:pt x="1423" y="1449"/>
                    </a:lnTo>
                    <a:lnTo>
                      <a:pt x="1431" y="1435"/>
                    </a:lnTo>
                    <a:lnTo>
                      <a:pt x="1437" y="1418"/>
                    </a:lnTo>
                    <a:lnTo>
                      <a:pt x="1442" y="1405"/>
                    </a:lnTo>
                    <a:lnTo>
                      <a:pt x="1448" y="1390"/>
                    </a:lnTo>
                    <a:lnTo>
                      <a:pt x="1454" y="1374"/>
                    </a:lnTo>
                    <a:lnTo>
                      <a:pt x="1460" y="1357"/>
                    </a:lnTo>
                    <a:lnTo>
                      <a:pt x="1465" y="1342"/>
                    </a:lnTo>
                    <a:lnTo>
                      <a:pt x="1469" y="1329"/>
                    </a:lnTo>
                    <a:lnTo>
                      <a:pt x="1475" y="1314"/>
                    </a:lnTo>
                    <a:lnTo>
                      <a:pt x="1479" y="1296"/>
                    </a:lnTo>
                    <a:lnTo>
                      <a:pt x="1482" y="1279"/>
                    </a:lnTo>
                    <a:lnTo>
                      <a:pt x="1486" y="1264"/>
                    </a:lnTo>
                    <a:lnTo>
                      <a:pt x="1490" y="1249"/>
                    </a:lnTo>
                    <a:lnTo>
                      <a:pt x="1492" y="1232"/>
                    </a:lnTo>
                    <a:lnTo>
                      <a:pt x="1496" y="1215"/>
                    </a:lnTo>
                    <a:lnTo>
                      <a:pt x="1498" y="1199"/>
                    </a:lnTo>
                    <a:lnTo>
                      <a:pt x="1501" y="1184"/>
                    </a:lnTo>
                    <a:lnTo>
                      <a:pt x="1503" y="1167"/>
                    </a:lnTo>
                    <a:lnTo>
                      <a:pt x="1505" y="1150"/>
                    </a:lnTo>
                    <a:lnTo>
                      <a:pt x="1507" y="1133"/>
                    </a:lnTo>
                    <a:lnTo>
                      <a:pt x="1509" y="1116"/>
                    </a:lnTo>
                    <a:lnTo>
                      <a:pt x="1509" y="1099"/>
                    </a:lnTo>
                    <a:lnTo>
                      <a:pt x="1511" y="1082"/>
                    </a:lnTo>
                    <a:lnTo>
                      <a:pt x="1511" y="1066"/>
                    </a:lnTo>
                    <a:lnTo>
                      <a:pt x="1511" y="1049"/>
                    </a:lnTo>
                    <a:lnTo>
                      <a:pt x="1511" y="1023"/>
                    </a:lnTo>
                    <a:lnTo>
                      <a:pt x="1509" y="998"/>
                    </a:lnTo>
                    <a:lnTo>
                      <a:pt x="1507" y="973"/>
                    </a:lnTo>
                    <a:lnTo>
                      <a:pt x="1505" y="949"/>
                    </a:lnTo>
                    <a:lnTo>
                      <a:pt x="1501" y="924"/>
                    </a:lnTo>
                    <a:lnTo>
                      <a:pt x="1499" y="899"/>
                    </a:lnTo>
                    <a:lnTo>
                      <a:pt x="1494" y="874"/>
                    </a:lnTo>
                    <a:lnTo>
                      <a:pt x="1490" y="852"/>
                    </a:lnTo>
                    <a:lnTo>
                      <a:pt x="1484" y="825"/>
                    </a:lnTo>
                    <a:lnTo>
                      <a:pt x="1479" y="802"/>
                    </a:lnTo>
                    <a:lnTo>
                      <a:pt x="1473" y="777"/>
                    </a:lnTo>
                    <a:lnTo>
                      <a:pt x="1465" y="755"/>
                    </a:lnTo>
                    <a:lnTo>
                      <a:pt x="1458" y="732"/>
                    </a:lnTo>
                    <a:lnTo>
                      <a:pt x="1450" y="711"/>
                    </a:lnTo>
                    <a:lnTo>
                      <a:pt x="1442" y="688"/>
                    </a:lnTo>
                    <a:lnTo>
                      <a:pt x="1433" y="667"/>
                    </a:lnTo>
                    <a:lnTo>
                      <a:pt x="1423" y="644"/>
                    </a:lnTo>
                    <a:lnTo>
                      <a:pt x="1412" y="622"/>
                    </a:lnTo>
                    <a:lnTo>
                      <a:pt x="1401" y="599"/>
                    </a:lnTo>
                    <a:lnTo>
                      <a:pt x="1391" y="580"/>
                    </a:lnTo>
                    <a:lnTo>
                      <a:pt x="1380" y="559"/>
                    </a:lnTo>
                    <a:lnTo>
                      <a:pt x="1368" y="538"/>
                    </a:lnTo>
                    <a:lnTo>
                      <a:pt x="1355" y="519"/>
                    </a:lnTo>
                    <a:lnTo>
                      <a:pt x="1342" y="498"/>
                    </a:lnTo>
                    <a:lnTo>
                      <a:pt x="1328" y="479"/>
                    </a:lnTo>
                    <a:lnTo>
                      <a:pt x="1315" y="460"/>
                    </a:lnTo>
                    <a:lnTo>
                      <a:pt x="1300" y="441"/>
                    </a:lnTo>
                    <a:lnTo>
                      <a:pt x="1285" y="422"/>
                    </a:lnTo>
                    <a:lnTo>
                      <a:pt x="1270" y="403"/>
                    </a:lnTo>
                    <a:lnTo>
                      <a:pt x="1254" y="386"/>
                    </a:lnTo>
                    <a:lnTo>
                      <a:pt x="1239" y="369"/>
                    </a:lnTo>
                    <a:lnTo>
                      <a:pt x="1224" y="353"/>
                    </a:lnTo>
                    <a:lnTo>
                      <a:pt x="1207" y="336"/>
                    </a:lnTo>
                    <a:lnTo>
                      <a:pt x="1190" y="319"/>
                    </a:lnTo>
                    <a:lnTo>
                      <a:pt x="1171" y="304"/>
                    </a:lnTo>
                    <a:lnTo>
                      <a:pt x="1154" y="289"/>
                    </a:lnTo>
                    <a:lnTo>
                      <a:pt x="1135" y="274"/>
                    </a:lnTo>
                    <a:lnTo>
                      <a:pt x="1116" y="260"/>
                    </a:lnTo>
                    <a:lnTo>
                      <a:pt x="1097" y="245"/>
                    </a:lnTo>
                    <a:lnTo>
                      <a:pt x="1078" y="232"/>
                    </a:lnTo>
                    <a:lnTo>
                      <a:pt x="1057" y="218"/>
                    </a:lnTo>
                    <a:lnTo>
                      <a:pt x="1038" y="205"/>
                    </a:lnTo>
                    <a:lnTo>
                      <a:pt x="1017" y="194"/>
                    </a:lnTo>
                    <a:lnTo>
                      <a:pt x="996" y="182"/>
                    </a:lnTo>
                    <a:lnTo>
                      <a:pt x="975" y="171"/>
                    </a:lnTo>
                    <a:lnTo>
                      <a:pt x="954" y="160"/>
                    </a:lnTo>
                    <a:lnTo>
                      <a:pt x="933" y="150"/>
                    </a:lnTo>
                    <a:lnTo>
                      <a:pt x="910" y="141"/>
                    </a:lnTo>
                    <a:lnTo>
                      <a:pt x="888" y="131"/>
                    </a:lnTo>
                    <a:lnTo>
                      <a:pt x="865" y="123"/>
                    </a:lnTo>
                    <a:lnTo>
                      <a:pt x="842" y="114"/>
                    </a:lnTo>
                    <a:lnTo>
                      <a:pt x="821" y="108"/>
                    </a:lnTo>
                    <a:lnTo>
                      <a:pt x="796" y="101"/>
                    </a:lnTo>
                    <a:lnTo>
                      <a:pt x="773" y="95"/>
                    </a:lnTo>
                    <a:lnTo>
                      <a:pt x="751" y="89"/>
                    </a:lnTo>
                    <a:lnTo>
                      <a:pt x="726" y="84"/>
                    </a:lnTo>
                    <a:lnTo>
                      <a:pt x="703" y="78"/>
                    </a:lnTo>
                    <a:lnTo>
                      <a:pt x="678" y="74"/>
                    </a:lnTo>
                    <a:lnTo>
                      <a:pt x="654" y="70"/>
                    </a:lnTo>
                    <a:lnTo>
                      <a:pt x="629" y="68"/>
                    </a:lnTo>
                    <a:lnTo>
                      <a:pt x="604" y="66"/>
                    </a:lnTo>
                    <a:lnTo>
                      <a:pt x="580" y="64"/>
                    </a:lnTo>
                    <a:lnTo>
                      <a:pt x="553" y="64"/>
                    </a:lnTo>
                    <a:lnTo>
                      <a:pt x="528" y="64"/>
                    </a:lnTo>
                    <a:lnTo>
                      <a:pt x="521" y="64"/>
                    </a:lnTo>
                    <a:lnTo>
                      <a:pt x="511" y="64"/>
                    </a:lnTo>
                    <a:lnTo>
                      <a:pt x="504" y="64"/>
                    </a:lnTo>
                    <a:lnTo>
                      <a:pt x="494" y="64"/>
                    </a:lnTo>
                    <a:lnTo>
                      <a:pt x="487" y="64"/>
                    </a:lnTo>
                    <a:lnTo>
                      <a:pt x="477" y="64"/>
                    </a:lnTo>
                    <a:lnTo>
                      <a:pt x="469" y="64"/>
                    </a:lnTo>
                    <a:lnTo>
                      <a:pt x="462" y="66"/>
                    </a:lnTo>
                    <a:lnTo>
                      <a:pt x="452" y="66"/>
                    </a:lnTo>
                    <a:lnTo>
                      <a:pt x="445" y="66"/>
                    </a:lnTo>
                    <a:lnTo>
                      <a:pt x="435" y="68"/>
                    </a:lnTo>
                    <a:lnTo>
                      <a:pt x="428" y="68"/>
                    </a:lnTo>
                    <a:lnTo>
                      <a:pt x="418" y="68"/>
                    </a:lnTo>
                    <a:lnTo>
                      <a:pt x="410" y="70"/>
                    </a:lnTo>
                    <a:lnTo>
                      <a:pt x="403" y="70"/>
                    </a:lnTo>
                    <a:lnTo>
                      <a:pt x="395" y="72"/>
                    </a:lnTo>
                    <a:lnTo>
                      <a:pt x="386" y="72"/>
                    </a:lnTo>
                    <a:lnTo>
                      <a:pt x="378" y="74"/>
                    </a:lnTo>
                    <a:lnTo>
                      <a:pt x="369" y="76"/>
                    </a:lnTo>
                    <a:lnTo>
                      <a:pt x="361" y="78"/>
                    </a:lnTo>
                    <a:lnTo>
                      <a:pt x="353" y="78"/>
                    </a:lnTo>
                    <a:lnTo>
                      <a:pt x="346" y="80"/>
                    </a:lnTo>
                    <a:lnTo>
                      <a:pt x="338" y="82"/>
                    </a:lnTo>
                    <a:lnTo>
                      <a:pt x="331" y="84"/>
                    </a:lnTo>
                    <a:lnTo>
                      <a:pt x="321" y="85"/>
                    </a:lnTo>
                    <a:lnTo>
                      <a:pt x="314" y="87"/>
                    </a:lnTo>
                    <a:lnTo>
                      <a:pt x="304" y="89"/>
                    </a:lnTo>
                    <a:lnTo>
                      <a:pt x="296" y="91"/>
                    </a:lnTo>
                    <a:lnTo>
                      <a:pt x="289" y="93"/>
                    </a:lnTo>
                    <a:lnTo>
                      <a:pt x="281" y="95"/>
                    </a:lnTo>
                    <a:lnTo>
                      <a:pt x="274" y="97"/>
                    </a:lnTo>
                    <a:lnTo>
                      <a:pt x="266" y="101"/>
                    </a:lnTo>
                    <a:lnTo>
                      <a:pt x="258" y="103"/>
                    </a:lnTo>
                    <a:lnTo>
                      <a:pt x="249" y="104"/>
                    </a:lnTo>
                    <a:lnTo>
                      <a:pt x="241" y="106"/>
                    </a:lnTo>
                    <a:lnTo>
                      <a:pt x="234" y="108"/>
                    </a:lnTo>
                    <a:lnTo>
                      <a:pt x="226" y="110"/>
                    </a:lnTo>
                    <a:lnTo>
                      <a:pt x="219" y="114"/>
                    </a:lnTo>
                    <a:lnTo>
                      <a:pt x="211" y="116"/>
                    </a:lnTo>
                    <a:lnTo>
                      <a:pt x="203" y="120"/>
                    </a:lnTo>
                    <a:lnTo>
                      <a:pt x="196" y="122"/>
                    </a:lnTo>
                    <a:lnTo>
                      <a:pt x="188" y="123"/>
                    </a:lnTo>
                    <a:lnTo>
                      <a:pt x="181" y="127"/>
                    </a:lnTo>
                    <a:lnTo>
                      <a:pt x="173" y="129"/>
                    </a:lnTo>
                    <a:lnTo>
                      <a:pt x="165" y="133"/>
                    </a:lnTo>
                    <a:lnTo>
                      <a:pt x="158" y="135"/>
                    </a:lnTo>
                    <a:lnTo>
                      <a:pt x="152" y="139"/>
                    </a:lnTo>
                    <a:lnTo>
                      <a:pt x="144" y="142"/>
                    </a:lnTo>
                    <a:lnTo>
                      <a:pt x="137" y="144"/>
                    </a:lnTo>
                    <a:lnTo>
                      <a:pt x="129" y="148"/>
                    </a:lnTo>
                    <a:lnTo>
                      <a:pt x="122" y="150"/>
                    </a:lnTo>
                    <a:lnTo>
                      <a:pt x="114" y="154"/>
                    </a:lnTo>
                    <a:lnTo>
                      <a:pt x="106" y="158"/>
                    </a:lnTo>
                    <a:lnTo>
                      <a:pt x="101" y="161"/>
                    </a:lnTo>
                    <a:lnTo>
                      <a:pt x="93" y="165"/>
                    </a:lnTo>
                    <a:lnTo>
                      <a:pt x="87" y="169"/>
                    </a:lnTo>
                    <a:lnTo>
                      <a:pt x="80" y="173"/>
                    </a:lnTo>
                    <a:lnTo>
                      <a:pt x="72" y="177"/>
                    </a:lnTo>
                    <a:lnTo>
                      <a:pt x="65" y="180"/>
                    </a:lnTo>
                    <a:lnTo>
                      <a:pt x="59" y="184"/>
                    </a:lnTo>
                    <a:lnTo>
                      <a:pt x="51" y="188"/>
                    </a:lnTo>
                    <a:lnTo>
                      <a:pt x="44" y="192"/>
                    </a:lnTo>
                    <a:lnTo>
                      <a:pt x="36" y="196"/>
                    </a:lnTo>
                    <a:lnTo>
                      <a:pt x="32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60"/>
              <p:cNvSpPr/>
              <p:nvPr/>
            </p:nvSpPr>
            <p:spPr>
              <a:xfrm>
                <a:off x="4614480" y="6372360"/>
                <a:ext cx="538200" cy="152280"/>
              </a:xfrm>
              <a:custGeom>
                <a:avLst/>
                <a:gdLst>
                  <a:gd name="textAreaLeft" fmla="*/ 0 w 538200"/>
                  <a:gd name="textAreaRight" fmla="*/ 538560 w 5382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678" h="192">
                    <a:moveTo>
                      <a:pt x="15" y="116"/>
                    </a:moveTo>
                    <a:lnTo>
                      <a:pt x="0" y="192"/>
                    </a:lnTo>
                    <a:lnTo>
                      <a:pt x="256" y="143"/>
                    </a:lnTo>
                    <a:lnTo>
                      <a:pt x="517" y="84"/>
                    </a:lnTo>
                    <a:lnTo>
                      <a:pt x="678" y="0"/>
                    </a:lnTo>
                    <a:lnTo>
                      <a:pt x="367" y="57"/>
                    </a:lnTo>
                    <a:lnTo>
                      <a:pt x="15" y="116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61"/>
              <p:cNvSpPr/>
              <p:nvPr/>
            </p:nvSpPr>
            <p:spPr>
              <a:xfrm>
                <a:off x="5106600" y="6357960"/>
                <a:ext cx="136800" cy="619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73" h="78">
                    <a:moveTo>
                      <a:pt x="0" y="78"/>
                    </a:moveTo>
                    <a:lnTo>
                      <a:pt x="158" y="0"/>
                    </a:lnTo>
                    <a:lnTo>
                      <a:pt x="173" y="42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62"/>
              <p:cNvSpPr/>
              <p:nvPr/>
            </p:nvSpPr>
            <p:spPr>
              <a:xfrm>
                <a:off x="4647960" y="6407280"/>
                <a:ext cx="388800" cy="936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490" h="118">
                    <a:moveTo>
                      <a:pt x="0" y="89"/>
                    </a:moveTo>
                    <a:lnTo>
                      <a:pt x="0" y="118"/>
                    </a:lnTo>
                    <a:lnTo>
                      <a:pt x="418" y="28"/>
                    </a:lnTo>
                    <a:lnTo>
                      <a:pt x="49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b34d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63"/>
              <p:cNvSpPr/>
              <p:nvPr/>
            </p:nvSpPr>
            <p:spPr>
              <a:xfrm>
                <a:off x="4203360" y="6350040"/>
                <a:ext cx="303120" cy="16992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82" h="214">
                    <a:moveTo>
                      <a:pt x="0" y="0"/>
                    </a:moveTo>
                    <a:lnTo>
                      <a:pt x="382" y="136"/>
                    </a:lnTo>
                    <a:lnTo>
                      <a:pt x="365" y="214"/>
                    </a:lnTo>
                    <a:lnTo>
                      <a:pt x="205" y="155"/>
                    </a:lnTo>
                    <a:lnTo>
                      <a:pt x="36" y="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64"/>
              <p:cNvSpPr/>
              <p:nvPr/>
            </p:nvSpPr>
            <p:spPr>
              <a:xfrm>
                <a:off x="4309920" y="6411960"/>
                <a:ext cx="174600" cy="810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220" h="102">
                    <a:moveTo>
                      <a:pt x="0" y="0"/>
                    </a:moveTo>
                    <a:lnTo>
                      <a:pt x="220" y="70"/>
                    </a:lnTo>
                    <a:lnTo>
                      <a:pt x="205" y="102"/>
                    </a:lnTo>
                    <a:lnTo>
                      <a:pt x="53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65"/>
              <p:cNvSpPr/>
              <p:nvPr/>
            </p:nvSpPr>
            <p:spPr>
              <a:xfrm>
                <a:off x="4146120" y="6345360"/>
                <a:ext cx="88920" cy="730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12" h="91">
                    <a:moveTo>
                      <a:pt x="34" y="0"/>
                    </a:moveTo>
                    <a:lnTo>
                      <a:pt x="79" y="61"/>
                    </a:lnTo>
                    <a:lnTo>
                      <a:pt x="112" y="91"/>
                    </a:lnTo>
                    <a:lnTo>
                      <a:pt x="0" y="4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6"/>
              <p:cNvSpPr/>
              <p:nvPr/>
            </p:nvSpPr>
            <p:spPr>
              <a:xfrm>
                <a:off x="4325760" y="6294600"/>
                <a:ext cx="341280" cy="79560"/>
              </a:xfrm>
              <a:custGeom>
                <a:avLst/>
                <a:gdLst>
                  <a:gd name="textAreaLeft" fmla="*/ 0 w 341280"/>
                  <a:gd name="textAreaRight" fmla="*/ 341280 w 34128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429" h="101">
                    <a:moveTo>
                      <a:pt x="0" y="12"/>
                    </a:moveTo>
                    <a:lnTo>
                      <a:pt x="340" y="101"/>
                    </a:lnTo>
                    <a:lnTo>
                      <a:pt x="429" y="86"/>
                    </a:lnTo>
                    <a:lnTo>
                      <a:pt x="348" y="86"/>
                    </a:lnTo>
                    <a:lnTo>
                      <a:pt x="281" y="65"/>
                    </a:lnTo>
                    <a:lnTo>
                      <a:pt x="239" y="38"/>
                    </a:lnTo>
                    <a:lnTo>
                      <a:pt x="239" y="2"/>
                    </a:lnTo>
                    <a:lnTo>
                      <a:pt x="6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6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67"/>
              <p:cNvSpPr/>
              <p:nvPr/>
            </p:nvSpPr>
            <p:spPr>
              <a:xfrm>
                <a:off x="4705200" y="6323040"/>
                <a:ext cx="183960" cy="3204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2" h="40">
                    <a:moveTo>
                      <a:pt x="0" y="40"/>
                    </a:moveTo>
                    <a:lnTo>
                      <a:pt x="232" y="0"/>
                    </a:lnTo>
                    <a:lnTo>
                      <a:pt x="87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8"/>
              <p:cNvSpPr/>
              <p:nvPr/>
            </p:nvSpPr>
            <p:spPr>
              <a:xfrm>
                <a:off x="4762080" y="6239160"/>
                <a:ext cx="257400" cy="6336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23" h="80">
                    <a:moveTo>
                      <a:pt x="0" y="0"/>
                    </a:moveTo>
                    <a:lnTo>
                      <a:pt x="6" y="70"/>
                    </a:lnTo>
                    <a:lnTo>
                      <a:pt x="133" y="80"/>
                    </a:lnTo>
                    <a:lnTo>
                      <a:pt x="323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9"/>
              <p:cNvSpPr/>
              <p:nvPr/>
            </p:nvSpPr>
            <p:spPr>
              <a:xfrm>
                <a:off x="4438440" y="6267600"/>
                <a:ext cx="90360" cy="158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14" h="21">
                    <a:moveTo>
                      <a:pt x="0" y="21"/>
                    </a:moveTo>
                    <a:lnTo>
                      <a:pt x="114" y="0"/>
                    </a:lnTo>
                    <a:lnTo>
                      <a:pt x="107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cc8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70"/>
              <p:cNvSpPr/>
              <p:nvPr/>
            </p:nvSpPr>
            <p:spPr>
              <a:xfrm>
                <a:off x="4779720" y="6258240"/>
                <a:ext cx="96840" cy="2196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22" h="28">
                    <a:moveTo>
                      <a:pt x="0" y="0"/>
                    </a:moveTo>
                    <a:lnTo>
                      <a:pt x="4" y="28"/>
                    </a:lnTo>
                    <a:lnTo>
                      <a:pt x="122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71"/>
              <p:cNvSpPr/>
              <p:nvPr/>
            </p:nvSpPr>
            <p:spPr>
              <a:xfrm>
                <a:off x="4424040" y="6309000"/>
                <a:ext cx="73080" cy="2520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2" h="33">
                    <a:moveTo>
                      <a:pt x="0" y="4"/>
                    </a:moveTo>
                    <a:lnTo>
                      <a:pt x="92" y="33"/>
                    </a:lnTo>
                    <a:lnTo>
                      <a:pt x="9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2"/>
              <p:cNvSpPr/>
              <p:nvPr/>
            </p:nvSpPr>
            <p:spPr>
              <a:xfrm>
                <a:off x="4638240" y="6094440"/>
                <a:ext cx="81000" cy="2257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103" h="284">
                    <a:moveTo>
                      <a:pt x="0" y="21"/>
                    </a:moveTo>
                    <a:lnTo>
                      <a:pt x="4" y="284"/>
                    </a:lnTo>
                    <a:lnTo>
                      <a:pt x="103" y="278"/>
                    </a:lnTo>
                    <a:lnTo>
                      <a:pt x="95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7a9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3"/>
              <p:cNvSpPr/>
              <p:nvPr/>
            </p:nvSpPr>
            <p:spPr>
              <a:xfrm>
                <a:off x="4549680" y="6081840"/>
                <a:ext cx="191880" cy="26352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41" h="333">
                    <a:moveTo>
                      <a:pt x="2" y="13"/>
                    </a:moveTo>
                    <a:lnTo>
                      <a:pt x="0" y="301"/>
                    </a:lnTo>
                    <a:lnTo>
                      <a:pt x="4" y="304"/>
                    </a:lnTo>
                    <a:lnTo>
                      <a:pt x="8" y="306"/>
                    </a:lnTo>
                    <a:lnTo>
                      <a:pt x="15" y="312"/>
                    </a:lnTo>
                    <a:lnTo>
                      <a:pt x="19" y="314"/>
                    </a:lnTo>
                    <a:lnTo>
                      <a:pt x="23" y="316"/>
                    </a:lnTo>
                    <a:lnTo>
                      <a:pt x="29" y="318"/>
                    </a:lnTo>
                    <a:lnTo>
                      <a:pt x="34" y="320"/>
                    </a:lnTo>
                    <a:lnTo>
                      <a:pt x="40" y="321"/>
                    </a:lnTo>
                    <a:lnTo>
                      <a:pt x="48" y="323"/>
                    </a:lnTo>
                    <a:lnTo>
                      <a:pt x="55" y="327"/>
                    </a:lnTo>
                    <a:lnTo>
                      <a:pt x="65" y="329"/>
                    </a:lnTo>
                    <a:lnTo>
                      <a:pt x="70" y="329"/>
                    </a:lnTo>
                    <a:lnTo>
                      <a:pt x="80" y="331"/>
                    </a:lnTo>
                    <a:lnTo>
                      <a:pt x="88" y="331"/>
                    </a:lnTo>
                    <a:lnTo>
                      <a:pt x="97" y="333"/>
                    </a:lnTo>
                    <a:lnTo>
                      <a:pt x="107" y="333"/>
                    </a:lnTo>
                    <a:lnTo>
                      <a:pt x="118" y="333"/>
                    </a:lnTo>
                    <a:lnTo>
                      <a:pt x="124" y="331"/>
                    </a:lnTo>
                    <a:lnTo>
                      <a:pt x="129" y="331"/>
                    </a:lnTo>
                    <a:lnTo>
                      <a:pt x="135" y="331"/>
                    </a:lnTo>
                    <a:lnTo>
                      <a:pt x="139" y="331"/>
                    </a:lnTo>
                    <a:lnTo>
                      <a:pt x="145" y="329"/>
                    </a:lnTo>
                    <a:lnTo>
                      <a:pt x="150" y="329"/>
                    </a:lnTo>
                    <a:lnTo>
                      <a:pt x="156" y="327"/>
                    </a:lnTo>
                    <a:lnTo>
                      <a:pt x="162" y="327"/>
                    </a:lnTo>
                    <a:lnTo>
                      <a:pt x="167" y="323"/>
                    </a:lnTo>
                    <a:lnTo>
                      <a:pt x="175" y="323"/>
                    </a:lnTo>
                    <a:lnTo>
                      <a:pt x="181" y="321"/>
                    </a:lnTo>
                    <a:lnTo>
                      <a:pt x="188" y="320"/>
                    </a:lnTo>
                    <a:lnTo>
                      <a:pt x="194" y="318"/>
                    </a:lnTo>
                    <a:lnTo>
                      <a:pt x="200" y="314"/>
                    </a:lnTo>
                    <a:lnTo>
                      <a:pt x="205" y="312"/>
                    </a:lnTo>
                    <a:lnTo>
                      <a:pt x="213" y="310"/>
                    </a:lnTo>
                    <a:lnTo>
                      <a:pt x="219" y="306"/>
                    </a:lnTo>
                    <a:lnTo>
                      <a:pt x="226" y="302"/>
                    </a:lnTo>
                    <a:lnTo>
                      <a:pt x="234" y="301"/>
                    </a:lnTo>
                    <a:lnTo>
                      <a:pt x="241" y="297"/>
                    </a:lnTo>
                    <a:lnTo>
                      <a:pt x="241" y="0"/>
                    </a:lnTo>
                    <a:lnTo>
                      <a:pt x="167" y="17"/>
                    </a:lnTo>
                    <a:lnTo>
                      <a:pt x="169" y="253"/>
                    </a:lnTo>
                    <a:lnTo>
                      <a:pt x="167" y="255"/>
                    </a:lnTo>
                    <a:lnTo>
                      <a:pt x="160" y="259"/>
                    </a:lnTo>
                    <a:lnTo>
                      <a:pt x="154" y="259"/>
                    </a:lnTo>
                    <a:lnTo>
                      <a:pt x="148" y="263"/>
                    </a:lnTo>
                    <a:lnTo>
                      <a:pt x="143" y="264"/>
                    </a:lnTo>
                    <a:lnTo>
                      <a:pt x="135" y="268"/>
                    </a:lnTo>
                    <a:lnTo>
                      <a:pt x="127" y="268"/>
                    </a:lnTo>
                    <a:lnTo>
                      <a:pt x="120" y="270"/>
                    </a:lnTo>
                    <a:lnTo>
                      <a:pt x="110" y="270"/>
                    </a:lnTo>
                    <a:lnTo>
                      <a:pt x="103" y="270"/>
                    </a:lnTo>
                    <a:lnTo>
                      <a:pt x="93" y="268"/>
                    </a:lnTo>
                    <a:lnTo>
                      <a:pt x="84" y="266"/>
                    </a:lnTo>
                    <a:lnTo>
                      <a:pt x="74" y="263"/>
                    </a:lnTo>
                    <a:lnTo>
                      <a:pt x="67" y="259"/>
                    </a:lnTo>
                    <a:lnTo>
                      <a:pt x="67" y="12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4"/>
              <p:cNvSpPr/>
              <p:nvPr/>
            </p:nvSpPr>
            <p:spPr>
              <a:xfrm>
                <a:off x="4654440" y="6100920"/>
                <a:ext cx="34920" cy="1587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46" h="200">
                    <a:moveTo>
                      <a:pt x="0" y="15"/>
                    </a:moveTo>
                    <a:lnTo>
                      <a:pt x="10" y="200"/>
                    </a:lnTo>
                    <a:lnTo>
                      <a:pt x="4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38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75"/>
              <p:cNvSpPr/>
              <p:nvPr/>
            </p:nvSpPr>
            <p:spPr>
              <a:xfrm>
                <a:off x="4597200" y="6110640"/>
                <a:ext cx="30240" cy="1602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60200"/>
                  <a:gd name="textAreaBottom" fmla="*/ 160200 h 160200"/>
                </a:gdLst>
                <a:ahLst/>
                <a:rect l="textAreaLeft" t="textAreaTop" r="textAreaRight" b="textAreaBottom"/>
                <a:pathLst>
                  <a:path w="40" h="204">
                    <a:moveTo>
                      <a:pt x="40" y="0"/>
                    </a:moveTo>
                    <a:lnTo>
                      <a:pt x="30" y="204"/>
                    </a:lnTo>
                    <a:lnTo>
                      <a:pt x="0" y="8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bdc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76"/>
              <p:cNvSpPr/>
              <p:nvPr/>
            </p:nvSpPr>
            <p:spPr>
              <a:xfrm>
                <a:off x="4035240" y="4170600"/>
                <a:ext cx="152280" cy="2952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192" h="373">
                    <a:moveTo>
                      <a:pt x="192" y="358"/>
                    </a:moveTo>
                    <a:lnTo>
                      <a:pt x="120" y="244"/>
                    </a:lnTo>
                    <a:lnTo>
                      <a:pt x="0" y="0"/>
                    </a:lnTo>
                    <a:lnTo>
                      <a:pt x="2" y="116"/>
                    </a:lnTo>
                    <a:lnTo>
                      <a:pt x="49" y="240"/>
                    </a:lnTo>
                    <a:lnTo>
                      <a:pt x="144" y="373"/>
                    </a:lnTo>
                    <a:lnTo>
                      <a:pt x="192" y="358"/>
                    </a:lnTo>
                    <a:close/>
                  </a:path>
                </a:pathLst>
              </a:custGeom>
              <a:solidFill>
                <a:srgbClr val="7a9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7"/>
              <p:cNvSpPr/>
              <p:nvPr/>
            </p:nvSpPr>
            <p:spPr>
              <a:xfrm>
                <a:off x="4955760" y="5884920"/>
                <a:ext cx="176400" cy="22248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223" h="279">
                    <a:moveTo>
                      <a:pt x="48" y="0"/>
                    </a:moveTo>
                    <a:lnTo>
                      <a:pt x="223" y="279"/>
                    </a:lnTo>
                    <a:lnTo>
                      <a:pt x="137" y="236"/>
                    </a:lnTo>
                    <a:lnTo>
                      <a:pt x="0" y="2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7a9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78"/>
              <p:cNvSpPr/>
              <p:nvPr/>
            </p:nvSpPr>
            <p:spPr>
              <a:xfrm>
                <a:off x="3608280" y="4348440"/>
                <a:ext cx="1438200" cy="1751040"/>
              </a:xfrm>
              <a:custGeom>
                <a:avLst/>
                <a:gdLst>
                  <a:gd name="textAreaLeft" fmla="*/ 0 w 1438200"/>
                  <a:gd name="textAreaRight" fmla="*/ 1438560 w 1438200"/>
                  <a:gd name="textAreaTop" fmla="*/ 0 h 1751040"/>
                  <a:gd name="textAreaBottom" fmla="*/ 1751400 h 1751040"/>
                </a:gdLst>
                <a:ahLst/>
                <a:rect l="textAreaLeft" t="textAreaTop" r="textAreaRight" b="textAreaBottom"/>
                <a:pathLst>
                  <a:path w="1811" h="2205">
                    <a:moveTo>
                      <a:pt x="1775" y="2059"/>
                    </a:moveTo>
                    <a:lnTo>
                      <a:pt x="1629" y="2099"/>
                    </a:lnTo>
                    <a:lnTo>
                      <a:pt x="1460" y="2127"/>
                    </a:lnTo>
                    <a:lnTo>
                      <a:pt x="1236" y="2150"/>
                    </a:lnTo>
                    <a:lnTo>
                      <a:pt x="1070" y="2150"/>
                    </a:lnTo>
                    <a:lnTo>
                      <a:pt x="901" y="2133"/>
                    </a:lnTo>
                    <a:lnTo>
                      <a:pt x="724" y="2089"/>
                    </a:lnTo>
                    <a:lnTo>
                      <a:pt x="568" y="2022"/>
                    </a:lnTo>
                    <a:lnTo>
                      <a:pt x="437" y="1931"/>
                    </a:lnTo>
                    <a:lnTo>
                      <a:pt x="308" y="1804"/>
                    </a:lnTo>
                    <a:lnTo>
                      <a:pt x="200" y="1642"/>
                    </a:lnTo>
                    <a:lnTo>
                      <a:pt x="141" y="1498"/>
                    </a:lnTo>
                    <a:lnTo>
                      <a:pt x="88" y="1329"/>
                    </a:lnTo>
                    <a:lnTo>
                      <a:pt x="57" y="1106"/>
                    </a:lnTo>
                    <a:lnTo>
                      <a:pt x="61" y="924"/>
                    </a:lnTo>
                    <a:lnTo>
                      <a:pt x="110" y="713"/>
                    </a:lnTo>
                    <a:lnTo>
                      <a:pt x="209" y="498"/>
                    </a:lnTo>
                    <a:lnTo>
                      <a:pt x="331" y="321"/>
                    </a:lnTo>
                    <a:lnTo>
                      <a:pt x="477" y="173"/>
                    </a:lnTo>
                    <a:lnTo>
                      <a:pt x="631" y="49"/>
                    </a:lnTo>
                    <a:lnTo>
                      <a:pt x="605" y="0"/>
                    </a:lnTo>
                    <a:lnTo>
                      <a:pt x="418" y="146"/>
                    </a:lnTo>
                    <a:lnTo>
                      <a:pt x="243" y="321"/>
                    </a:lnTo>
                    <a:lnTo>
                      <a:pt x="97" y="574"/>
                    </a:lnTo>
                    <a:lnTo>
                      <a:pt x="29" y="768"/>
                    </a:lnTo>
                    <a:lnTo>
                      <a:pt x="0" y="1038"/>
                    </a:lnTo>
                    <a:lnTo>
                      <a:pt x="34" y="1325"/>
                    </a:lnTo>
                    <a:lnTo>
                      <a:pt x="131" y="1629"/>
                    </a:lnTo>
                    <a:lnTo>
                      <a:pt x="245" y="1802"/>
                    </a:lnTo>
                    <a:lnTo>
                      <a:pt x="451" y="2013"/>
                    </a:lnTo>
                    <a:lnTo>
                      <a:pt x="755" y="2159"/>
                    </a:lnTo>
                    <a:lnTo>
                      <a:pt x="1089" y="2205"/>
                    </a:lnTo>
                    <a:lnTo>
                      <a:pt x="1433" y="2194"/>
                    </a:lnTo>
                    <a:lnTo>
                      <a:pt x="1732" y="2131"/>
                    </a:lnTo>
                    <a:lnTo>
                      <a:pt x="1811" y="2110"/>
                    </a:lnTo>
                    <a:lnTo>
                      <a:pt x="1775" y="2059"/>
                    </a:lnTo>
                    <a:close/>
                  </a:path>
                </a:pathLst>
              </a:custGeom>
              <a:solidFill>
                <a:srgbClr val="7a9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79"/>
              <p:cNvSpPr/>
              <p:nvPr/>
            </p:nvSpPr>
            <p:spPr>
              <a:xfrm>
                <a:off x="3581280" y="4145040"/>
                <a:ext cx="1587240" cy="1989360"/>
              </a:xfrm>
              <a:custGeom>
                <a:avLst/>
                <a:gdLst>
                  <a:gd name="textAreaLeft" fmla="*/ 0 w 1587240"/>
                  <a:gd name="textAreaRight" fmla="*/ 1587600 w 1587240"/>
                  <a:gd name="textAreaTop" fmla="*/ 0 h 1989360"/>
                  <a:gd name="textAreaBottom" fmla="*/ 1989720 h 1989360"/>
                </a:gdLst>
                <a:ahLst/>
                <a:rect l="textAreaLeft" t="textAreaTop" r="textAreaRight" b="textAreaBottom"/>
                <a:pathLst>
                  <a:path w="1999" h="2506">
                    <a:moveTo>
                      <a:pt x="831" y="369"/>
                    </a:moveTo>
                    <a:lnTo>
                      <a:pt x="690" y="93"/>
                    </a:lnTo>
                    <a:lnTo>
                      <a:pt x="684" y="84"/>
                    </a:lnTo>
                    <a:lnTo>
                      <a:pt x="680" y="76"/>
                    </a:lnTo>
                    <a:lnTo>
                      <a:pt x="675" y="68"/>
                    </a:lnTo>
                    <a:lnTo>
                      <a:pt x="673" y="61"/>
                    </a:lnTo>
                    <a:lnTo>
                      <a:pt x="667" y="55"/>
                    </a:lnTo>
                    <a:lnTo>
                      <a:pt x="663" y="48"/>
                    </a:lnTo>
                    <a:lnTo>
                      <a:pt x="659" y="42"/>
                    </a:lnTo>
                    <a:lnTo>
                      <a:pt x="656" y="38"/>
                    </a:lnTo>
                    <a:lnTo>
                      <a:pt x="650" y="32"/>
                    </a:lnTo>
                    <a:lnTo>
                      <a:pt x="646" y="27"/>
                    </a:lnTo>
                    <a:lnTo>
                      <a:pt x="640" y="23"/>
                    </a:lnTo>
                    <a:lnTo>
                      <a:pt x="637" y="19"/>
                    </a:lnTo>
                    <a:lnTo>
                      <a:pt x="629" y="13"/>
                    </a:lnTo>
                    <a:lnTo>
                      <a:pt x="620" y="8"/>
                    </a:lnTo>
                    <a:lnTo>
                      <a:pt x="612" y="4"/>
                    </a:lnTo>
                    <a:lnTo>
                      <a:pt x="604" y="2"/>
                    </a:lnTo>
                    <a:lnTo>
                      <a:pt x="595" y="0"/>
                    </a:lnTo>
                    <a:lnTo>
                      <a:pt x="587" y="0"/>
                    </a:lnTo>
                    <a:lnTo>
                      <a:pt x="580" y="0"/>
                    </a:lnTo>
                    <a:lnTo>
                      <a:pt x="574" y="2"/>
                    </a:lnTo>
                    <a:lnTo>
                      <a:pt x="566" y="4"/>
                    </a:lnTo>
                    <a:lnTo>
                      <a:pt x="561" y="8"/>
                    </a:lnTo>
                    <a:lnTo>
                      <a:pt x="555" y="11"/>
                    </a:lnTo>
                    <a:lnTo>
                      <a:pt x="549" y="17"/>
                    </a:lnTo>
                    <a:lnTo>
                      <a:pt x="545" y="23"/>
                    </a:lnTo>
                    <a:lnTo>
                      <a:pt x="540" y="30"/>
                    </a:lnTo>
                    <a:lnTo>
                      <a:pt x="536" y="36"/>
                    </a:lnTo>
                    <a:lnTo>
                      <a:pt x="532" y="46"/>
                    </a:lnTo>
                    <a:lnTo>
                      <a:pt x="530" y="53"/>
                    </a:lnTo>
                    <a:lnTo>
                      <a:pt x="528" y="63"/>
                    </a:lnTo>
                    <a:lnTo>
                      <a:pt x="525" y="72"/>
                    </a:lnTo>
                    <a:lnTo>
                      <a:pt x="525" y="82"/>
                    </a:lnTo>
                    <a:lnTo>
                      <a:pt x="525" y="91"/>
                    </a:lnTo>
                    <a:lnTo>
                      <a:pt x="526" y="101"/>
                    </a:lnTo>
                    <a:lnTo>
                      <a:pt x="526" y="106"/>
                    </a:lnTo>
                    <a:lnTo>
                      <a:pt x="526" y="112"/>
                    </a:lnTo>
                    <a:lnTo>
                      <a:pt x="526" y="116"/>
                    </a:lnTo>
                    <a:lnTo>
                      <a:pt x="528" y="122"/>
                    </a:lnTo>
                    <a:lnTo>
                      <a:pt x="530" y="127"/>
                    </a:lnTo>
                    <a:lnTo>
                      <a:pt x="532" y="133"/>
                    </a:lnTo>
                    <a:lnTo>
                      <a:pt x="534" y="139"/>
                    </a:lnTo>
                    <a:lnTo>
                      <a:pt x="538" y="145"/>
                    </a:lnTo>
                    <a:lnTo>
                      <a:pt x="542" y="152"/>
                    </a:lnTo>
                    <a:lnTo>
                      <a:pt x="545" y="162"/>
                    </a:lnTo>
                    <a:lnTo>
                      <a:pt x="547" y="171"/>
                    </a:lnTo>
                    <a:lnTo>
                      <a:pt x="551" y="179"/>
                    </a:lnTo>
                    <a:lnTo>
                      <a:pt x="555" y="186"/>
                    </a:lnTo>
                    <a:lnTo>
                      <a:pt x="557" y="194"/>
                    </a:lnTo>
                    <a:lnTo>
                      <a:pt x="561" y="200"/>
                    </a:lnTo>
                    <a:lnTo>
                      <a:pt x="564" y="207"/>
                    </a:lnTo>
                    <a:lnTo>
                      <a:pt x="566" y="213"/>
                    </a:lnTo>
                    <a:lnTo>
                      <a:pt x="568" y="219"/>
                    </a:lnTo>
                    <a:lnTo>
                      <a:pt x="570" y="222"/>
                    </a:lnTo>
                    <a:lnTo>
                      <a:pt x="574" y="228"/>
                    </a:lnTo>
                    <a:lnTo>
                      <a:pt x="578" y="236"/>
                    </a:lnTo>
                    <a:lnTo>
                      <a:pt x="582" y="243"/>
                    </a:lnTo>
                    <a:lnTo>
                      <a:pt x="585" y="249"/>
                    </a:lnTo>
                    <a:lnTo>
                      <a:pt x="587" y="253"/>
                    </a:lnTo>
                    <a:lnTo>
                      <a:pt x="589" y="257"/>
                    </a:lnTo>
                    <a:lnTo>
                      <a:pt x="591" y="260"/>
                    </a:lnTo>
                    <a:lnTo>
                      <a:pt x="593" y="262"/>
                    </a:lnTo>
                    <a:lnTo>
                      <a:pt x="595" y="264"/>
                    </a:lnTo>
                    <a:lnTo>
                      <a:pt x="593" y="264"/>
                    </a:lnTo>
                    <a:lnTo>
                      <a:pt x="589" y="266"/>
                    </a:lnTo>
                    <a:lnTo>
                      <a:pt x="583" y="268"/>
                    </a:lnTo>
                    <a:lnTo>
                      <a:pt x="578" y="272"/>
                    </a:lnTo>
                    <a:lnTo>
                      <a:pt x="574" y="274"/>
                    </a:lnTo>
                    <a:lnTo>
                      <a:pt x="568" y="278"/>
                    </a:lnTo>
                    <a:lnTo>
                      <a:pt x="564" y="279"/>
                    </a:lnTo>
                    <a:lnTo>
                      <a:pt x="559" y="283"/>
                    </a:lnTo>
                    <a:lnTo>
                      <a:pt x="553" y="287"/>
                    </a:lnTo>
                    <a:lnTo>
                      <a:pt x="547" y="291"/>
                    </a:lnTo>
                    <a:lnTo>
                      <a:pt x="544" y="295"/>
                    </a:lnTo>
                    <a:lnTo>
                      <a:pt x="538" y="300"/>
                    </a:lnTo>
                    <a:lnTo>
                      <a:pt x="530" y="306"/>
                    </a:lnTo>
                    <a:lnTo>
                      <a:pt x="523" y="310"/>
                    </a:lnTo>
                    <a:lnTo>
                      <a:pt x="515" y="316"/>
                    </a:lnTo>
                    <a:lnTo>
                      <a:pt x="507" y="323"/>
                    </a:lnTo>
                    <a:lnTo>
                      <a:pt x="498" y="329"/>
                    </a:lnTo>
                    <a:lnTo>
                      <a:pt x="490" y="335"/>
                    </a:lnTo>
                    <a:lnTo>
                      <a:pt x="483" y="342"/>
                    </a:lnTo>
                    <a:lnTo>
                      <a:pt x="475" y="348"/>
                    </a:lnTo>
                    <a:lnTo>
                      <a:pt x="466" y="356"/>
                    </a:lnTo>
                    <a:lnTo>
                      <a:pt x="456" y="363"/>
                    </a:lnTo>
                    <a:lnTo>
                      <a:pt x="447" y="371"/>
                    </a:lnTo>
                    <a:lnTo>
                      <a:pt x="437" y="378"/>
                    </a:lnTo>
                    <a:lnTo>
                      <a:pt x="428" y="388"/>
                    </a:lnTo>
                    <a:lnTo>
                      <a:pt x="418" y="395"/>
                    </a:lnTo>
                    <a:lnTo>
                      <a:pt x="409" y="405"/>
                    </a:lnTo>
                    <a:lnTo>
                      <a:pt x="399" y="416"/>
                    </a:lnTo>
                    <a:lnTo>
                      <a:pt x="388" y="424"/>
                    </a:lnTo>
                    <a:lnTo>
                      <a:pt x="376" y="433"/>
                    </a:lnTo>
                    <a:lnTo>
                      <a:pt x="367" y="443"/>
                    </a:lnTo>
                    <a:lnTo>
                      <a:pt x="357" y="454"/>
                    </a:lnTo>
                    <a:lnTo>
                      <a:pt x="346" y="466"/>
                    </a:lnTo>
                    <a:lnTo>
                      <a:pt x="334" y="477"/>
                    </a:lnTo>
                    <a:lnTo>
                      <a:pt x="325" y="487"/>
                    </a:lnTo>
                    <a:lnTo>
                      <a:pt x="314" y="500"/>
                    </a:lnTo>
                    <a:lnTo>
                      <a:pt x="302" y="511"/>
                    </a:lnTo>
                    <a:lnTo>
                      <a:pt x="293" y="523"/>
                    </a:lnTo>
                    <a:lnTo>
                      <a:pt x="281" y="536"/>
                    </a:lnTo>
                    <a:lnTo>
                      <a:pt x="272" y="549"/>
                    </a:lnTo>
                    <a:lnTo>
                      <a:pt x="260" y="561"/>
                    </a:lnTo>
                    <a:lnTo>
                      <a:pt x="249" y="576"/>
                    </a:lnTo>
                    <a:lnTo>
                      <a:pt x="239" y="589"/>
                    </a:lnTo>
                    <a:lnTo>
                      <a:pt x="230" y="605"/>
                    </a:lnTo>
                    <a:lnTo>
                      <a:pt x="219" y="618"/>
                    </a:lnTo>
                    <a:lnTo>
                      <a:pt x="207" y="631"/>
                    </a:lnTo>
                    <a:lnTo>
                      <a:pt x="198" y="646"/>
                    </a:lnTo>
                    <a:lnTo>
                      <a:pt x="186" y="662"/>
                    </a:lnTo>
                    <a:lnTo>
                      <a:pt x="175" y="677"/>
                    </a:lnTo>
                    <a:lnTo>
                      <a:pt x="167" y="692"/>
                    </a:lnTo>
                    <a:lnTo>
                      <a:pt x="156" y="709"/>
                    </a:lnTo>
                    <a:lnTo>
                      <a:pt x="148" y="726"/>
                    </a:lnTo>
                    <a:lnTo>
                      <a:pt x="137" y="741"/>
                    </a:lnTo>
                    <a:lnTo>
                      <a:pt x="127" y="759"/>
                    </a:lnTo>
                    <a:lnTo>
                      <a:pt x="120" y="776"/>
                    </a:lnTo>
                    <a:lnTo>
                      <a:pt x="112" y="793"/>
                    </a:lnTo>
                    <a:lnTo>
                      <a:pt x="103" y="810"/>
                    </a:lnTo>
                    <a:lnTo>
                      <a:pt x="93" y="829"/>
                    </a:lnTo>
                    <a:lnTo>
                      <a:pt x="86" y="846"/>
                    </a:lnTo>
                    <a:lnTo>
                      <a:pt x="78" y="867"/>
                    </a:lnTo>
                    <a:lnTo>
                      <a:pt x="76" y="873"/>
                    </a:lnTo>
                    <a:lnTo>
                      <a:pt x="72" y="878"/>
                    </a:lnTo>
                    <a:lnTo>
                      <a:pt x="70" y="884"/>
                    </a:lnTo>
                    <a:lnTo>
                      <a:pt x="67" y="892"/>
                    </a:lnTo>
                    <a:lnTo>
                      <a:pt x="65" y="897"/>
                    </a:lnTo>
                    <a:lnTo>
                      <a:pt x="61" y="903"/>
                    </a:lnTo>
                    <a:lnTo>
                      <a:pt x="59" y="911"/>
                    </a:lnTo>
                    <a:lnTo>
                      <a:pt x="57" y="918"/>
                    </a:lnTo>
                    <a:lnTo>
                      <a:pt x="53" y="924"/>
                    </a:lnTo>
                    <a:lnTo>
                      <a:pt x="51" y="932"/>
                    </a:lnTo>
                    <a:lnTo>
                      <a:pt x="49" y="937"/>
                    </a:lnTo>
                    <a:lnTo>
                      <a:pt x="48" y="945"/>
                    </a:lnTo>
                    <a:lnTo>
                      <a:pt x="46" y="952"/>
                    </a:lnTo>
                    <a:lnTo>
                      <a:pt x="44" y="958"/>
                    </a:lnTo>
                    <a:lnTo>
                      <a:pt x="42" y="966"/>
                    </a:lnTo>
                    <a:lnTo>
                      <a:pt x="40" y="973"/>
                    </a:lnTo>
                    <a:lnTo>
                      <a:pt x="36" y="979"/>
                    </a:lnTo>
                    <a:lnTo>
                      <a:pt x="34" y="987"/>
                    </a:lnTo>
                    <a:lnTo>
                      <a:pt x="32" y="994"/>
                    </a:lnTo>
                    <a:lnTo>
                      <a:pt x="30" y="1002"/>
                    </a:lnTo>
                    <a:lnTo>
                      <a:pt x="29" y="1008"/>
                    </a:lnTo>
                    <a:lnTo>
                      <a:pt x="27" y="1015"/>
                    </a:lnTo>
                    <a:lnTo>
                      <a:pt x="25" y="1021"/>
                    </a:lnTo>
                    <a:lnTo>
                      <a:pt x="23" y="1030"/>
                    </a:lnTo>
                    <a:lnTo>
                      <a:pt x="21" y="1036"/>
                    </a:lnTo>
                    <a:lnTo>
                      <a:pt x="19" y="1044"/>
                    </a:lnTo>
                    <a:lnTo>
                      <a:pt x="17" y="1051"/>
                    </a:lnTo>
                    <a:lnTo>
                      <a:pt x="15" y="1059"/>
                    </a:lnTo>
                    <a:lnTo>
                      <a:pt x="13" y="1067"/>
                    </a:lnTo>
                    <a:lnTo>
                      <a:pt x="13" y="1074"/>
                    </a:lnTo>
                    <a:lnTo>
                      <a:pt x="11" y="1082"/>
                    </a:lnTo>
                    <a:lnTo>
                      <a:pt x="10" y="1089"/>
                    </a:lnTo>
                    <a:lnTo>
                      <a:pt x="8" y="1097"/>
                    </a:lnTo>
                    <a:lnTo>
                      <a:pt x="8" y="1105"/>
                    </a:lnTo>
                    <a:lnTo>
                      <a:pt x="6" y="1112"/>
                    </a:lnTo>
                    <a:lnTo>
                      <a:pt x="4" y="1120"/>
                    </a:lnTo>
                    <a:lnTo>
                      <a:pt x="2" y="1127"/>
                    </a:lnTo>
                    <a:lnTo>
                      <a:pt x="2" y="1135"/>
                    </a:lnTo>
                    <a:lnTo>
                      <a:pt x="0" y="1143"/>
                    </a:lnTo>
                    <a:lnTo>
                      <a:pt x="0" y="1152"/>
                    </a:lnTo>
                    <a:lnTo>
                      <a:pt x="0" y="1158"/>
                    </a:lnTo>
                    <a:lnTo>
                      <a:pt x="0" y="1165"/>
                    </a:lnTo>
                    <a:lnTo>
                      <a:pt x="0" y="1173"/>
                    </a:lnTo>
                    <a:lnTo>
                      <a:pt x="0" y="1183"/>
                    </a:lnTo>
                    <a:lnTo>
                      <a:pt x="0" y="1190"/>
                    </a:lnTo>
                    <a:lnTo>
                      <a:pt x="0" y="1198"/>
                    </a:lnTo>
                    <a:lnTo>
                      <a:pt x="0" y="1207"/>
                    </a:lnTo>
                    <a:lnTo>
                      <a:pt x="0" y="1215"/>
                    </a:lnTo>
                    <a:lnTo>
                      <a:pt x="0" y="1222"/>
                    </a:lnTo>
                    <a:lnTo>
                      <a:pt x="0" y="1230"/>
                    </a:lnTo>
                    <a:lnTo>
                      <a:pt x="0" y="1238"/>
                    </a:lnTo>
                    <a:lnTo>
                      <a:pt x="0" y="1247"/>
                    </a:lnTo>
                    <a:lnTo>
                      <a:pt x="0" y="1255"/>
                    </a:lnTo>
                    <a:lnTo>
                      <a:pt x="0" y="1262"/>
                    </a:lnTo>
                    <a:lnTo>
                      <a:pt x="0" y="1272"/>
                    </a:lnTo>
                    <a:lnTo>
                      <a:pt x="0" y="1279"/>
                    </a:lnTo>
                    <a:lnTo>
                      <a:pt x="0" y="1287"/>
                    </a:lnTo>
                    <a:lnTo>
                      <a:pt x="0" y="1297"/>
                    </a:lnTo>
                    <a:lnTo>
                      <a:pt x="0" y="1304"/>
                    </a:lnTo>
                    <a:lnTo>
                      <a:pt x="0" y="1314"/>
                    </a:lnTo>
                    <a:lnTo>
                      <a:pt x="0" y="1321"/>
                    </a:lnTo>
                    <a:lnTo>
                      <a:pt x="0" y="1331"/>
                    </a:lnTo>
                    <a:lnTo>
                      <a:pt x="0" y="1338"/>
                    </a:lnTo>
                    <a:lnTo>
                      <a:pt x="0" y="1348"/>
                    </a:lnTo>
                    <a:lnTo>
                      <a:pt x="0" y="1354"/>
                    </a:lnTo>
                    <a:lnTo>
                      <a:pt x="0" y="1361"/>
                    </a:lnTo>
                    <a:lnTo>
                      <a:pt x="0" y="1367"/>
                    </a:lnTo>
                    <a:lnTo>
                      <a:pt x="0" y="1375"/>
                    </a:lnTo>
                    <a:lnTo>
                      <a:pt x="0" y="1380"/>
                    </a:lnTo>
                    <a:lnTo>
                      <a:pt x="0" y="1388"/>
                    </a:lnTo>
                    <a:lnTo>
                      <a:pt x="0" y="1394"/>
                    </a:lnTo>
                    <a:lnTo>
                      <a:pt x="0" y="1401"/>
                    </a:lnTo>
                    <a:lnTo>
                      <a:pt x="0" y="1409"/>
                    </a:lnTo>
                    <a:lnTo>
                      <a:pt x="0" y="1414"/>
                    </a:lnTo>
                    <a:lnTo>
                      <a:pt x="0" y="1420"/>
                    </a:lnTo>
                    <a:lnTo>
                      <a:pt x="0" y="1428"/>
                    </a:lnTo>
                    <a:lnTo>
                      <a:pt x="0" y="1435"/>
                    </a:lnTo>
                    <a:lnTo>
                      <a:pt x="0" y="1443"/>
                    </a:lnTo>
                    <a:lnTo>
                      <a:pt x="0" y="1449"/>
                    </a:lnTo>
                    <a:lnTo>
                      <a:pt x="0" y="1456"/>
                    </a:lnTo>
                    <a:lnTo>
                      <a:pt x="0" y="1464"/>
                    </a:lnTo>
                    <a:lnTo>
                      <a:pt x="2" y="1471"/>
                    </a:lnTo>
                    <a:lnTo>
                      <a:pt x="2" y="1477"/>
                    </a:lnTo>
                    <a:lnTo>
                      <a:pt x="4" y="1485"/>
                    </a:lnTo>
                    <a:lnTo>
                      <a:pt x="4" y="1491"/>
                    </a:lnTo>
                    <a:lnTo>
                      <a:pt x="6" y="1498"/>
                    </a:lnTo>
                    <a:lnTo>
                      <a:pt x="8" y="1506"/>
                    </a:lnTo>
                    <a:lnTo>
                      <a:pt x="10" y="1513"/>
                    </a:lnTo>
                    <a:lnTo>
                      <a:pt x="10" y="1519"/>
                    </a:lnTo>
                    <a:lnTo>
                      <a:pt x="11" y="1527"/>
                    </a:lnTo>
                    <a:lnTo>
                      <a:pt x="11" y="1534"/>
                    </a:lnTo>
                    <a:lnTo>
                      <a:pt x="13" y="1542"/>
                    </a:lnTo>
                    <a:lnTo>
                      <a:pt x="15" y="1549"/>
                    </a:lnTo>
                    <a:lnTo>
                      <a:pt x="17" y="1557"/>
                    </a:lnTo>
                    <a:lnTo>
                      <a:pt x="19" y="1563"/>
                    </a:lnTo>
                    <a:lnTo>
                      <a:pt x="21" y="1572"/>
                    </a:lnTo>
                    <a:lnTo>
                      <a:pt x="23" y="1578"/>
                    </a:lnTo>
                    <a:lnTo>
                      <a:pt x="25" y="1586"/>
                    </a:lnTo>
                    <a:lnTo>
                      <a:pt x="25" y="1593"/>
                    </a:lnTo>
                    <a:lnTo>
                      <a:pt x="27" y="1601"/>
                    </a:lnTo>
                    <a:lnTo>
                      <a:pt x="29" y="1608"/>
                    </a:lnTo>
                    <a:lnTo>
                      <a:pt x="30" y="1616"/>
                    </a:lnTo>
                    <a:lnTo>
                      <a:pt x="32" y="1622"/>
                    </a:lnTo>
                    <a:lnTo>
                      <a:pt x="36" y="1631"/>
                    </a:lnTo>
                    <a:lnTo>
                      <a:pt x="38" y="1637"/>
                    </a:lnTo>
                    <a:lnTo>
                      <a:pt x="40" y="1645"/>
                    </a:lnTo>
                    <a:lnTo>
                      <a:pt x="42" y="1652"/>
                    </a:lnTo>
                    <a:lnTo>
                      <a:pt x="44" y="1662"/>
                    </a:lnTo>
                    <a:lnTo>
                      <a:pt x="46" y="1669"/>
                    </a:lnTo>
                    <a:lnTo>
                      <a:pt x="48" y="1677"/>
                    </a:lnTo>
                    <a:lnTo>
                      <a:pt x="51" y="1684"/>
                    </a:lnTo>
                    <a:lnTo>
                      <a:pt x="53" y="1692"/>
                    </a:lnTo>
                    <a:lnTo>
                      <a:pt x="55" y="1698"/>
                    </a:lnTo>
                    <a:lnTo>
                      <a:pt x="57" y="1705"/>
                    </a:lnTo>
                    <a:lnTo>
                      <a:pt x="59" y="1713"/>
                    </a:lnTo>
                    <a:lnTo>
                      <a:pt x="63" y="1722"/>
                    </a:lnTo>
                    <a:lnTo>
                      <a:pt x="65" y="1730"/>
                    </a:lnTo>
                    <a:lnTo>
                      <a:pt x="68" y="1738"/>
                    </a:lnTo>
                    <a:lnTo>
                      <a:pt x="70" y="1745"/>
                    </a:lnTo>
                    <a:lnTo>
                      <a:pt x="74" y="1753"/>
                    </a:lnTo>
                    <a:lnTo>
                      <a:pt x="78" y="1760"/>
                    </a:lnTo>
                    <a:lnTo>
                      <a:pt x="80" y="1768"/>
                    </a:lnTo>
                    <a:lnTo>
                      <a:pt x="84" y="1776"/>
                    </a:lnTo>
                    <a:lnTo>
                      <a:pt x="86" y="1785"/>
                    </a:lnTo>
                    <a:lnTo>
                      <a:pt x="89" y="1793"/>
                    </a:lnTo>
                    <a:lnTo>
                      <a:pt x="93" y="1800"/>
                    </a:lnTo>
                    <a:lnTo>
                      <a:pt x="97" y="1808"/>
                    </a:lnTo>
                    <a:lnTo>
                      <a:pt x="101" y="1818"/>
                    </a:lnTo>
                    <a:lnTo>
                      <a:pt x="105" y="1827"/>
                    </a:lnTo>
                    <a:lnTo>
                      <a:pt x="110" y="1840"/>
                    </a:lnTo>
                    <a:lnTo>
                      <a:pt x="116" y="1852"/>
                    </a:lnTo>
                    <a:lnTo>
                      <a:pt x="122" y="1865"/>
                    </a:lnTo>
                    <a:lnTo>
                      <a:pt x="125" y="1876"/>
                    </a:lnTo>
                    <a:lnTo>
                      <a:pt x="131" y="1888"/>
                    </a:lnTo>
                    <a:lnTo>
                      <a:pt x="137" y="1899"/>
                    </a:lnTo>
                    <a:lnTo>
                      <a:pt x="143" y="1913"/>
                    </a:lnTo>
                    <a:lnTo>
                      <a:pt x="148" y="1922"/>
                    </a:lnTo>
                    <a:lnTo>
                      <a:pt x="154" y="1933"/>
                    </a:lnTo>
                    <a:lnTo>
                      <a:pt x="160" y="1945"/>
                    </a:lnTo>
                    <a:lnTo>
                      <a:pt x="167" y="1956"/>
                    </a:lnTo>
                    <a:lnTo>
                      <a:pt x="173" y="1966"/>
                    </a:lnTo>
                    <a:lnTo>
                      <a:pt x="179" y="1977"/>
                    </a:lnTo>
                    <a:lnTo>
                      <a:pt x="184" y="1989"/>
                    </a:lnTo>
                    <a:lnTo>
                      <a:pt x="192" y="2000"/>
                    </a:lnTo>
                    <a:lnTo>
                      <a:pt x="198" y="2010"/>
                    </a:lnTo>
                    <a:lnTo>
                      <a:pt x="205" y="2019"/>
                    </a:lnTo>
                    <a:lnTo>
                      <a:pt x="211" y="2029"/>
                    </a:lnTo>
                    <a:lnTo>
                      <a:pt x="219" y="2038"/>
                    </a:lnTo>
                    <a:lnTo>
                      <a:pt x="224" y="2048"/>
                    </a:lnTo>
                    <a:lnTo>
                      <a:pt x="232" y="2059"/>
                    </a:lnTo>
                    <a:lnTo>
                      <a:pt x="239" y="2068"/>
                    </a:lnTo>
                    <a:lnTo>
                      <a:pt x="245" y="2078"/>
                    </a:lnTo>
                    <a:lnTo>
                      <a:pt x="253" y="2087"/>
                    </a:lnTo>
                    <a:lnTo>
                      <a:pt x="260" y="2095"/>
                    </a:lnTo>
                    <a:lnTo>
                      <a:pt x="268" y="2105"/>
                    </a:lnTo>
                    <a:lnTo>
                      <a:pt x="276" y="2114"/>
                    </a:lnTo>
                    <a:lnTo>
                      <a:pt x="283" y="2122"/>
                    </a:lnTo>
                    <a:lnTo>
                      <a:pt x="291" y="2131"/>
                    </a:lnTo>
                    <a:lnTo>
                      <a:pt x="296" y="2139"/>
                    </a:lnTo>
                    <a:lnTo>
                      <a:pt x="306" y="2148"/>
                    </a:lnTo>
                    <a:lnTo>
                      <a:pt x="312" y="2156"/>
                    </a:lnTo>
                    <a:lnTo>
                      <a:pt x="319" y="2164"/>
                    </a:lnTo>
                    <a:lnTo>
                      <a:pt x="327" y="2171"/>
                    </a:lnTo>
                    <a:lnTo>
                      <a:pt x="336" y="2179"/>
                    </a:lnTo>
                    <a:lnTo>
                      <a:pt x="344" y="2186"/>
                    </a:lnTo>
                    <a:lnTo>
                      <a:pt x="352" y="2194"/>
                    </a:lnTo>
                    <a:lnTo>
                      <a:pt x="359" y="2202"/>
                    </a:lnTo>
                    <a:lnTo>
                      <a:pt x="367" y="2211"/>
                    </a:lnTo>
                    <a:lnTo>
                      <a:pt x="374" y="2217"/>
                    </a:lnTo>
                    <a:lnTo>
                      <a:pt x="384" y="2224"/>
                    </a:lnTo>
                    <a:lnTo>
                      <a:pt x="391" y="2232"/>
                    </a:lnTo>
                    <a:lnTo>
                      <a:pt x="401" y="2238"/>
                    </a:lnTo>
                    <a:lnTo>
                      <a:pt x="409" y="2245"/>
                    </a:lnTo>
                    <a:lnTo>
                      <a:pt x="418" y="2251"/>
                    </a:lnTo>
                    <a:lnTo>
                      <a:pt x="426" y="2259"/>
                    </a:lnTo>
                    <a:lnTo>
                      <a:pt x="435" y="2266"/>
                    </a:lnTo>
                    <a:lnTo>
                      <a:pt x="443" y="2272"/>
                    </a:lnTo>
                    <a:lnTo>
                      <a:pt x="452" y="2278"/>
                    </a:lnTo>
                    <a:lnTo>
                      <a:pt x="460" y="2283"/>
                    </a:lnTo>
                    <a:lnTo>
                      <a:pt x="469" y="2289"/>
                    </a:lnTo>
                    <a:lnTo>
                      <a:pt x="477" y="2295"/>
                    </a:lnTo>
                    <a:lnTo>
                      <a:pt x="487" y="2300"/>
                    </a:lnTo>
                    <a:lnTo>
                      <a:pt x="494" y="2306"/>
                    </a:lnTo>
                    <a:lnTo>
                      <a:pt x="504" y="2312"/>
                    </a:lnTo>
                    <a:lnTo>
                      <a:pt x="513" y="2318"/>
                    </a:lnTo>
                    <a:lnTo>
                      <a:pt x="521" y="2323"/>
                    </a:lnTo>
                    <a:lnTo>
                      <a:pt x="530" y="2329"/>
                    </a:lnTo>
                    <a:lnTo>
                      <a:pt x="540" y="2335"/>
                    </a:lnTo>
                    <a:lnTo>
                      <a:pt x="547" y="2338"/>
                    </a:lnTo>
                    <a:lnTo>
                      <a:pt x="557" y="2344"/>
                    </a:lnTo>
                    <a:lnTo>
                      <a:pt x="566" y="2350"/>
                    </a:lnTo>
                    <a:lnTo>
                      <a:pt x="576" y="2356"/>
                    </a:lnTo>
                    <a:lnTo>
                      <a:pt x="601" y="2365"/>
                    </a:lnTo>
                    <a:lnTo>
                      <a:pt x="625" y="2378"/>
                    </a:lnTo>
                    <a:lnTo>
                      <a:pt x="652" y="2390"/>
                    </a:lnTo>
                    <a:lnTo>
                      <a:pt x="678" y="2401"/>
                    </a:lnTo>
                    <a:lnTo>
                      <a:pt x="703" y="2411"/>
                    </a:lnTo>
                    <a:lnTo>
                      <a:pt x="730" y="2420"/>
                    </a:lnTo>
                    <a:lnTo>
                      <a:pt x="756" y="2428"/>
                    </a:lnTo>
                    <a:lnTo>
                      <a:pt x="783" y="2435"/>
                    </a:lnTo>
                    <a:lnTo>
                      <a:pt x="810" y="2443"/>
                    </a:lnTo>
                    <a:lnTo>
                      <a:pt x="836" y="2449"/>
                    </a:lnTo>
                    <a:lnTo>
                      <a:pt x="863" y="2454"/>
                    </a:lnTo>
                    <a:lnTo>
                      <a:pt x="889" y="2462"/>
                    </a:lnTo>
                    <a:lnTo>
                      <a:pt x="916" y="2466"/>
                    </a:lnTo>
                    <a:lnTo>
                      <a:pt x="943" y="2471"/>
                    </a:lnTo>
                    <a:lnTo>
                      <a:pt x="969" y="2475"/>
                    </a:lnTo>
                    <a:lnTo>
                      <a:pt x="996" y="2479"/>
                    </a:lnTo>
                    <a:lnTo>
                      <a:pt x="1022" y="2481"/>
                    </a:lnTo>
                    <a:lnTo>
                      <a:pt x="1049" y="2485"/>
                    </a:lnTo>
                    <a:lnTo>
                      <a:pt x="1076" y="2487"/>
                    </a:lnTo>
                    <a:lnTo>
                      <a:pt x="1102" y="2489"/>
                    </a:lnTo>
                    <a:lnTo>
                      <a:pt x="1127" y="2489"/>
                    </a:lnTo>
                    <a:lnTo>
                      <a:pt x="1154" y="2491"/>
                    </a:lnTo>
                    <a:lnTo>
                      <a:pt x="1178" y="2491"/>
                    </a:lnTo>
                    <a:lnTo>
                      <a:pt x="1205" y="2491"/>
                    </a:lnTo>
                    <a:lnTo>
                      <a:pt x="1230" y="2491"/>
                    </a:lnTo>
                    <a:lnTo>
                      <a:pt x="1254" y="2491"/>
                    </a:lnTo>
                    <a:lnTo>
                      <a:pt x="1279" y="2489"/>
                    </a:lnTo>
                    <a:lnTo>
                      <a:pt x="1304" y="2489"/>
                    </a:lnTo>
                    <a:lnTo>
                      <a:pt x="1328" y="2487"/>
                    </a:lnTo>
                    <a:lnTo>
                      <a:pt x="1351" y="2485"/>
                    </a:lnTo>
                    <a:lnTo>
                      <a:pt x="1376" y="2483"/>
                    </a:lnTo>
                    <a:lnTo>
                      <a:pt x="1401" y="2483"/>
                    </a:lnTo>
                    <a:lnTo>
                      <a:pt x="1422" y="2479"/>
                    </a:lnTo>
                    <a:lnTo>
                      <a:pt x="1444" y="2477"/>
                    </a:lnTo>
                    <a:lnTo>
                      <a:pt x="1465" y="2473"/>
                    </a:lnTo>
                    <a:lnTo>
                      <a:pt x="1486" y="2471"/>
                    </a:lnTo>
                    <a:lnTo>
                      <a:pt x="1507" y="2468"/>
                    </a:lnTo>
                    <a:lnTo>
                      <a:pt x="1528" y="2464"/>
                    </a:lnTo>
                    <a:lnTo>
                      <a:pt x="1547" y="2462"/>
                    </a:lnTo>
                    <a:lnTo>
                      <a:pt x="1568" y="2458"/>
                    </a:lnTo>
                    <a:lnTo>
                      <a:pt x="1585" y="2454"/>
                    </a:lnTo>
                    <a:lnTo>
                      <a:pt x="1604" y="2451"/>
                    </a:lnTo>
                    <a:lnTo>
                      <a:pt x="1621" y="2449"/>
                    </a:lnTo>
                    <a:lnTo>
                      <a:pt x="1640" y="2445"/>
                    </a:lnTo>
                    <a:lnTo>
                      <a:pt x="1655" y="2441"/>
                    </a:lnTo>
                    <a:lnTo>
                      <a:pt x="1671" y="2437"/>
                    </a:lnTo>
                    <a:lnTo>
                      <a:pt x="1686" y="2435"/>
                    </a:lnTo>
                    <a:lnTo>
                      <a:pt x="1701" y="2433"/>
                    </a:lnTo>
                    <a:lnTo>
                      <a:pt x="1714" y="2428"/>
                    </a:lnTo>
                    <a:lnTo>
                      <a:pt x="1728" y="2426"/>
                    </a:lnTo>
                    <a:lnTo>
                      <a:pt x="1737" y="2422"/>
                    </a:lnTo>
                    <a:lnTo>
                      <a:pt x="1750" y="2420"/>
                    </a:lnTo>
                    <a:lnTo>
                      <a:pt x="1760" y="2416"/>
                    </a:lnTo>
                    <a:lnTo>
                      <a:pt x="1771" y="2414"/>
                    </a:lnTo>
                    <a:lnTo>
                      <a:pt x="1779" y="2411"/>
                    </a:lnTo>
                    <a:lnTo>
                      <a:pt x="1788" y="2409"/>
                    </a:lnTo>
                    <a:lnTo>
                      <a:pt x="1794" y="2407"/>
                    </a:lnTo>
                    <a:lnTo>
                      <a:pt x="1802" y="2405"/>
                    </a:lnTo>
                    <a:lnTo>
                      <a:pt x="1805" y="2403"/>
                    </a:lnTo>
                    <a:lnTo>
                      <a:pt x="1811" y="2403"/>
                    </a:lnTo>
                    <a:lnTo>
                      <a:pt x="1817" y="2401"/>
                    </a:lnTo>
                    <a:lnTo>
                      <a:pt x="1821" y="2401"/>
                    </a:lnTo>
                    <a:lnTo>
                      <a:pt x="1824" y="2405"/>
                    </a:lnTo>
                    <a:lnTo>
                      <a:pt x="1830" y="2411"/>
                    </a:lnTo>
                    <a:lnTo>
                      <a:pt x="1836" y="2420"/>
                    </a:lnTo>
                    <a:lnTo>
                      <a:pt x="1842" y="2428"/>
                    </a:lnTo>
                    <a:lnTo>
                      <a:pt x="1849" y="2435"/>
                    </a:lnTo>
                    <a:lnTo>
                      <a:pt x="1853" y="2443"/>
                    </a:lnTo>
                    <a:lnTo>
                      <a:pt x="1857" y="2449"/>
                    </a:lnTo>
                    <a:lnTo>
                      <a:pt x="1861" y="2454"/>
                    </a:lnTo>
                    <a:lnTo>
                      <a:pt x="1866" y="2460"/>
                    </a:lnTo>
                    <a:lnTo>
                      <a:pt x="1872" y="2466"/>
                    </a:lnTo>
                    <a:lnTo>
                      <a:pt x="1878" y="2473"/>
                    </a:lnTo>
                    <a:lnTo>
                      <a:pt x="1883" y="2477"/>
                    </a:lnTo>
                    <a:lnTo>
                      <a:pt x="1891" y="2483"/>
                    </a:lnTo>
                    <a:lnTo>
                      <a:pt x="1897" y="2487"/>
                    </a:lnTo>
                    <a:lnTo>
                      <a:pt x="1904" y="2491"/>
                    </a:lnTo>
                    <a:lnTo>
                      <a:pt x="1910" y="2494"/>
                    </a:lnTo>
                    <a:lnTo>
                      <a:pt x="1918" y="2496"/>
                    </a:lnTo>
                    <a:lnTo>
                      <a:pt x="1925" y="2500"/>
                    </a:lnTo>
                    <a:lnTo>
                      <a:pt x="1933" y="2502"/>
                    </a:lnTo>
                    <a:lnTo>
                      <a:pt x="1938" y="2504"/>
                    </a:lnTo>
                    <a:lnTo>
                      <a:pt x="1946" y="2506"/>
                    </a:lnTo>
                    <a:lnTo>
                      <a:pt x="1952" y="2506"/>
                    </a:lnTo>
                    <a:lnTo>
                      <a:pt x="1959" y="2506"/>
                    </a:lnTo>
                    <a:lnTo>
                      <a:pt x="1965" y="2504"/>
                    </a:lnTo>
                    <a:lnTo>
                      <a:pt x="1971" y="2504"/>
                    </a:lnTo>
                    <a:lnTo>
                      <a:pt x="1975" y="2500"/>
                    </a:lnTo>
                    <a:lnTo>
                      <a:pt x="1980" y="2498"/>
                    </a:lnTo>
                    <a:lnTo>
                      <a:pt x="1984" y="2494"/>
                    </a:lnTo>
                    <a:lnTo>
                      <a:pt x="1988" y="2489"/>
                    </a:lnTo>
                    <a:lnTo>
                      <a:pt x="1992" y="2483"/>
                    </a:lnTo>
                    <a:lnTo>
                      <a:pt x="1995" y="2477"/>
                    </a:lnTo>
                    <a:lnTo>
                      <a:pt x="1995" y="2470"/>
                    </a:lnTo>
                    <a:lnTo>
                      <a:pt x="1997" y="2460"/>
                    </a:lnTo>
                    <a:lnTo>
                      <a:pt x="1997" y="2451"/>
                    </a:lnTo>
                    <a:lnTo>
                      <a:pt x="1999" y="2441"/>
                    </a:lnTo>
                    <a:lnTo>
                      <a:pt x="1997" y="2435"/>
                    </a:lnTo>
                    <a:lnTo>
                      <a:pt x="1997" y="2430"/>
                    </a:lnTo>
                    <a:lnTo>
                      <a:pt x="1995" y="2424"/>
                    </a:lnTo>
                    <a:lnTo>
                      <a:pt x="1995" y="2418"/>
                    </a:lnTo>
                    <a:lnTo>
                      <a:pt x="1994" y="2411"/>
                    </a:lnTo>
                    <a:lnTo>
                      <a:pt x="1992" y="2403"/>
                    </a:lnTo>
                    <a:lnTo>
                      <a:pt x="1990" y="2397"/>
                    </a:lnTo>
                    <a:lnTo>
                      <a:pt x="1988" y="2390"/>
                    </a:lnTo>
                    <a:lnTo>
                      <a:pt x="1857" y="2120"/>
                    </a:lnTo>
                    <a:lnTo>
                      <a:pt x="1785" y="2120"/>
                    </a:lnTo>
                    <a:lnTo>
                      <a:pt x="1764" y="2131"/>
                    </a:lnTo>
                    <a:lnTo>
                      <a:pt x="1912" y="2363"/>
                    </a:lnTo>
                    <a:lnTo>
                      <a:pt x="1914" y="2365"/>
                    </a:lnTo>
                    <a:lnTo>
                      <a:pt x="1918" y="2373"/>
                    </a:lnTo>
                    <a:lnTo>
                      <a:pt x="1921" y="2375"/>
                    </a:lnTo>
                    <a:lnTo>
                      <a:pt x="1925" y="2380"/>
                    </a:lnTo>
                    <a:lnTo>
                      <a:pt x="1929" y="2386"/>
                    </a:lnTo>
                    <a:lnTo>
                      <a:pt x="1933" y="2392"/>
                    </a:lnTo>
                    <a:lnTo>
                      <a:pt x="1935" y="2397"/>
                    </a:lnTo>
                    <a:lnTo>
                      <a:pt x="1938" y="2403"/>
                    </a:lnTo>
                    <a:lnTo>
                      <a:pt x="1940" y="2409"/>
                    </a:lnTo>
                    <a:lnTo>
                      <a:pt x="1942" y="2414"/>
                    </a:lnTo>
                    <a:lnTo>
                      <a:pt x="1942" y="2420"/>
                    </a:lnTo>
                    <a:lnTo>
                      <a:pt x="1942" y="2426"/>
                    </a:lnTo>
                    <a:lnTo>
                      <a:pt x="1938" y="2428"/>
                    </a:lnTo>
                    <a:lnTo>
                      <a:pt x="1937" y="2433"/>
                    </a:lnTo>
                    <a:lnTo>
                      <a:pt x="1925" y="2435"/>
                    </a:lnTo>
                    <a:lnTo>
                      <a:pt x="1918" y="2432"/>
                    </a:lnTo>
                    <a:lnTo>
                      <a:pt x="1908" y="2424"/>
                    </a:lnTo>
                    <a:lnTo>
                      <a:pt x="1900" y="2414"/>
                    </a:lnTo>
                    <a:lnTo>
                      <a:pt x="1897" y="2409"/>
                    </a:lnTo>
                    <a:lnTo>
                      <a:pt x="1893" y="2405"/>
                    </a:lnTo>
                    <a:lnTo>
                      <a:pt x="1891" y="2399"/>
                    </a:lnTo>
                    <a:lnTo>
                      <a:pt x="1887" y="2395"/>
                    </a:lnTo>
                    <a:lnTo>
                      <a:pt x="1883" y="2388"/>
                    </a:lnTo>
                    <a:lnTo>
                      <a:pt x="1883" y="2386"/>
                    </a:lnTo>
                    <a:lnTo>
                      <a:pt x="1834" y="2325"/>
                    </a:lnTo>
                    <a:lnTo>
                      <a:pt x="1832" y="2325"/>
                    </a:lnTo>
                    <a:lnTo>
                      <a:pt x="1828" y="2325"/>
                    </a:lnTo>
                    <a:lnTo>
                      <a:pt x="1824" y="2327"/>
                    </a:lnTo>
                    <a:lnTo>
                      <a:pt x="1819" y="2329"/>
                    </a:lnTo>
                    <a:lnTo>
                      <a:pt x="1809" y="2331"/>
                    </a:lnTo>
                    <a:lnTo>
                      <a:pt x="1800" y="2335"/>
                    </a:lnTo>
                    <a:lnTo>
                      <a:pt x="1788" y="2338"/>
                    </a:lnTo>
                    <a:lnTo>
                      <a:pt x="1777" y="2342"/>
                    </a:lnTo>
                    <a:lnTo>
                      <a:pt x="1762" y="2346"/>
                    </a:lnTo>
                    <a:lnTo>
                      <a:pt x="1747" y="2350"/>
                    </a:lnTo>
                    <a:lnTo>
                      <a:pt x="1729" y="2356"/>
                    </a:lnTo>
                    <a:lnTo>
                      <a:pt x="1712" y="2359"/>
                    </a:lnTo>
                    <a:lnTo>
                      <a:pt x="1691" y="2365"/>
                    </a:lnTo>
                    <a:lnTo>
                      <a:pt x="1672" y="2369"/>
                    </a:lnTo>
                    <a:lnTo>
                      <a:pt x="1650" y="2375"/>
                    </a:lnTo>
                    <a:lnTo>
                      <a:pt x="1629" y="2380"/>
                    </a:lnTo>
                    <a:lnTo>
                      <a:pt x="1602" y="2386"/>
                    </a:lnTo>
                    <a:lnTo>
                      <a:pt x="1577" y="2390"/>
                    </a:lnTo>
                    <a:lnTo>
                      <a:pt x="1551" y="2395"/>
                    </a:lnTo>
                    <a:lnTo>
                      <a:pt x="1526" y="2401"/>
                    </a:lnTo>
                    <a:lnTo>
                      <a:pt x="1496" y="2405"/>
                    </a:lnTo>
                    <a:lnTo>
                      <a:pt x="1469" y="2409"/>
                    </a:lnTo>
                    <a:lnTo>
                      <a:pt x="1439" y="2414"/>
                    </a:lnTo>
                    <a:lnTo>
                      <a:pt x="1410" y="2418"/>
                    </a:lnTo>
                    <a:lnTo>
                      <a:pt x="1378" y="2422"/>
                    </a:lnTo>
                    <a:lnTo>
                      <a:pt x="1347" y="2424"/>
                    </a:lnTo>
                    <a:lnTo>
                      <a:pt x="1313" y="2426"/>
                    </a:lnTo>
                    <a:lnTo>
                      <a:pt x="1283" y="2428"/>
                    </a:lnTo>
                    <a:lnTo>
                      <a:pt x="1249" y="2430"/>
                    </a:lnTo>
                    <a:lnTo>
                      <a:pt x="1216" y="2432"/>
                    </a:lnTo>
                    <a:lnTo>
                      <a:pt x="1182" y="2432"/>
                    </a:lnTo>
                    <a:lnTo>
                      <a:pt x="1148" y="2432"/>
                    </a:lnTo>
                    <a:lnTo>
                      <a:pt x="1112" y="2430"/>
                    </a:lnTo>
                    <a:lnTo>
                      <a:pt x="1078" y="2428"/>
                    </a:lnTo>
                    <a:lnTo>
                      <a:pt x="1041" y="2424"/>
                    </a:lnTo>
                    <a:lnTo>
                      <a:pt x="1007" y="2422"/>
                    </a:lnTo>
                    <a:lnTo>
                      <a:pt x="971" y="2416"/>
                    </a:lnTo>
                    <a:lnTo>
                      <a:pt x="937" y="2411"/>
                    </a:lnTo>
                    <a:lnTo>
                      <a:pt x="901" y="2403"/>
                    </a:lnTo>
                    <a:lnTo>
                      <a:pt x="867" y="2397"/>
                    </a:lnTo>
                    <a:lnTo>
                      <a:pt x="831" y="2388"/>
                    </a:lnTo>
                    <a:lnTo>
                      <a:pt x="796" y="2376"/>
                    </a:lnTo>
                    <a:lnTo>
                      <a:pt x="760" y="2365"/>
                    </a:lnTo>
                    <a:lnTo>
                      <a:pt x="726" y="2356"/>
                    </a:lnTo>
                    <a:lnTo>
                      <a:pt x="692" y="2340"/>
                    </a:lnTo>
                    <a:lnTo>
                      <a:pt x="658" y="2325"/>
                    </a:lnTo>
                    <a:lnTo>
                      <a:pt x="623" y="2310"/>
                    </a:lnTo>
                    <a:lnTo>
                      <a:pt x="593" y="2293"/>
                    </a:lnTo>
                    <a:lnTo>
                      <a:pt x="559" y="2274"/>
                    </a:lnTo>
                    <a:lnTo>
                      <a:pt x="526" y="2253"/>
                    </a:lnTo>
                    <a:lnTo>
                      <a:pt x="494" y="2230"/>
                    </a:lnTo>
                    <a:lnTo>
                      <a:pt x="466" y="2207"/>
                    </a:lnTo>
                    <a:lnTo>
                      <a:pt x="433" y="2181"/>
                    </a:lnTo>
                    <a:lnTo>
                      <a:pt x="405" y="2156"/>
                    </a:lnTo>
                    <a:lnTo>
                      <a:pt x="376" y="2125"/>
                    </a:lnTo>
                    <a:lnTo>
                      <a:pt x="350" y="2097"/>
                    </a:lnTo>
                    <a:lnTo>
                      <a:pt x="321" y="2065"/>
                    </a:lnTo>
                    <a:lnTo>
                      <a:pt x="296" y="2030"/>
                    </a:lnTo>
                    <a:lnTo>
                      <a:pt x="270" y="1994"/>
                    </a:lnTo>
                    <a:lnTo>
                      <a:pt x="247" y="1956"/>
                    </a:lnTo>
                    <a:lnTo>
                      <a:pt x="224" y="1916"/>
                    </a:lnTo>
                    <a:lnTo>
                      <a:pt x="201" y="1875"/>
                    </a:lnTo>
                    <a:lnTo>
                      <a:pt x="182" y="1831"/>
                    </a:lnTo>
                    <a:lnTo>
                      <a:pt x="163" y="1785"/>
                    </a:lnTo>
                    <a:lnTo>
                      <a:pt x="158" y="1772"/>
                    </a:lnTo>
                    <a:lnTo>
                      <a:pt x="152" y="1759"/>
                    </a:lnTo>
                    <a:lnTo>
                      <a:pt x="146" y="1743"/>
                    </a:lnTo>
                    <a:lnTo>
                      <a:pt x="141" y="1730"/>
                    </a:lnTo>
                    <a:lnTo>
                      <a:pt x="135" y="1715"/>
                    </a:lnTo>
                    <a:lnTo>
                      <a:pt x="131" y="1702"/>
                    </a:lnTo>
                    <a:lnTo>
                      <a:pt x="125" y="1688"/>
                    </a:lnTo>
                    <a:lnTo>
                      <a:pt x="122" y="1675"/>
                    </a:lnTo>
                    <a:lnTo>
                      <a:pt x="116" y="1662"/>
                    </a:lnTo>
                    <a:lnTo>
                      <a:pt x="114" y="1646"/>
                    </a:lnTo>
                    <a:lnTo>
                      <a:pt x="108" y="1633"/>
                    </a:lnTo>
                    <a:lnTo>
                      <a:pt x="106" y="1622"/>
                    </a:lnTo>
                    <a:lnTo>
                      <a:pt x="103" y="1608"/>
                    </a:lnTo>
                    <a:lnTo>
                      <a:pt x="99" y="1595"/>
                    </a:lnTo>
                    <a:lnTo>
                      <a:pt x="95" y="1582"/>
                    </a:lnTo>
                    <a:lnTo>
                      <a:pt x="93" y="1568"/>
                    </a:lnTo>
                    <a:lnTo>
                      <a:pt x="89" y="1555"/>
                    </a:lnTo>
                    <a:lnTo>
                      <a:pt x="86" y="1544"/>
                    </a:lnTo>
                    <a:lnTo>
                      <a:pt x="84" y="1529"/>
                    </a:lnTo>
                    <a:lnTo>
                      <a:pt x="80" y="1517"/>
                    </a:lnTo>
                    <a:lnTo>
                      <a:pt x="78" y="1504"/>
                    </a:lnTo>
                    <a:lnTo>
                      <a:pt x="74" y="1491"/>
                    </a:lnTo>
                    <a:lnTo>
                      <a:pt x="72" y="1479"/>
                    </a:lnTo>
                    <a:lnTo>
                      <a:pt x="72" y="1468"/>
                    </a:lnTo>
                    <a:lnTo>
                      <a:pt x="68" y="1454"/>
                    </a:lnTo>
                    <a:lnTo>
                      <a:pt x="67" y="1441"/>
                    </a:lnTo>
                    <a:lnTo>
                      <a:pt x="65" y="1430"/>
                    </a:lnTo>
                    <a:lnTo>
                      <a:pt x="65" y="1418"/>
                    </a:lnTo>
                    <a:lnTo>
                      <a:pt x="63" y="1405"/>
                    </a:lnTo>
                    <a:lnTo>
                      <a:pt x="61" y="1394"/>
                    </a:lnTo>
                    <a:lnTo>
                      <a:pt x="61" y="1382"/>
                    </a:lnTo>
                    <a:lnTo>
                      <a:pt x="61" y="1371"/>
                    </a:lnTo>
                    <a:lnTo>
                      <a:pt x="59" y="1357"/>
                    </a:lnTo>
                    <a:lnTo>
                      <a:pt x="57" y="1346"/>
                    </a:lnTo>
                    <a:lnTo>
                      <a:pt x="57" y="1335"/>
                    </a:lnTo>
                    <a:lnTo>
                      <a:pt x="57" y="1323"/>
                    </a:lnTo>
                    <a:lnTo>
                      <a:pt x="57" y="1310"/>
                    </a:lnTo>
                    <a:lnTo>
                      <a:pt x="57" y="1298"/>
                    </a:lnTo>
                    <a:lnTo>
                      <a:pt x="57" y="1287"/>
                    </a:lnTo>
                    <a:lnTo>
                      <a:pt x="57" y="1278"/>
                    </a:lnTo>
                    <a:lnTo>
                      <a:pt x="57" y="1266"/>
                    </a:lnTo>
                    <a:lnTo>
                      <a:pt x="57" y="1255"/>
                    </a:lnTo>
                    <a:lnTo>
                      <a:pt x="57" y="1243"/>
                    </a:lnTo>
                    <a:lnTo>
                      <a:pt x="57" y="1232"/>
                    </a:lnTo>
                    <a:lnTo>
                      <a:pt x="57" y="1221"/>
                    </a:lnTo>
                    <a:lnTo>
                      <a:pt x="57" y="1211"/>
                    </a:lnTo>
                    <a:lnTo>
                      <a:pt x="57" y="1200"/>
                    </a:lnTo>
                    <a:lnTo>
                      <a:pt x="59" y="1190"/>
                    </a:lnTo>
                    <a:lnTo>
                      <a:pt x="59" y="1179"/>
                    </a:lnTo>
                    <a:lnTo>
                      <a:pt x="59" y="1167"/>
                    </a:lnTo>
                    <a:lnTo>
                      <a:pt x="61" y="1156"/>
                    </a:lnTo>
                    <a:lnTo>
                      <a:pt x="63" y="1146"/>
                    </a:lnTo>
                    <a:lnTo>
                      <a:pt x="63" y="1135"/>
                    </a:lnTo>
                    <a:lnTo>
                      <a:pt x="65" y="1125"/>
                    </a:lnTo>
                    <a:lnTo>
                      <a:pt x="67" y="1114"/>
                    </a:lnTo>
                    <a:lnTo>
                      <a:pt x="68" y="1105"/>
                    </a:lnTo>
                    <a:lnTo>
                      <a:pt x="70" y="1093"/>
                    </a:lnTo>
                    <a:lnTo>
                      <a:pt x="72" y="1084"/>
                    </a:lnTo>
                    <a:lnTo>
                      <a:pt x="72" y="1074"/>
                    </a:lnTo>
                    <a:lnTo>
                      <a:pt x="76" y="1065"/>
                    </a:lnTo>
                    <a:lnTo>
                      <a:pt x="78" y="1053"/>
                    </a:lnTo>
                    <a:lnTo>
                      <a:pt x="80" y="1044"/>
                    </a:lnTo>
                    <a:lnTo>
                      <a:pt x="82" y="1034"/>
                    </a:lnTo>
                    <a:lnTo>
                      <a:pt x="86" y="1025"/>
                    </a:lnTo>
                    <a:lnTo>
                      <a:pt x="91" y="1002"/>
                    </a:lnTo>
                    <a:lnTo>
                      <a:pt x="97" y="977"/>
                    </a:lnTo>
                    <a:lnTo>
                      <a:pt x="103" y="954"/>
                    </a:lnTo>
                    <a:lnTo>
                      <a:pt x="112" y="933"/>
                    </a:lnTo>
                    <a:lnTo>
                      <a:pt x="118" y="911"/>
                    </a:lnTo>
                    <a:lnTo>
                      <a:pt x="127" y="888"/>
                    </a:lnTo>
                    <a:lnTo>
                      <a:pt x="135" y="867"/>
                    </a:lnTo>
                    <a:lnTo>
                      <a:pt x="144" y="846"/>
                    </a:lnTo>
                    <a:lnTo>
                      <a:pt x="154" y="825"/>
                    </a:lnTo>
                    <a:lnTo>
                      <a:pt x="163" y="806"/>
                    </a:lnTo>
                    <a:lnTo>
                      <a:pt x="173" y="785"/>
                    </a:lnTo>
                    <a:lnTo>
                      <a:pt x="182" y="766"/>
                    </a:lnTo>
                    <a:lnTo>
                      <a:pt x="194" y="747"/>
                    </a:lnTo>
                    <a:lnTo>
                      <a:pt x="205" y="730"/>
                    </a:lnTo>
                    <a:lnTo>
                      <a:pt x="217" y="711"/>
                    </a:lnTo>
                    <a:lnTo>
                      <a:pt x="228" y="694"/>
                    </a:lnTo>
                    <a:lnTo>
                      <a:pt x="239" y="677"/>
                    </a:lnTo>
                    <a:lnTo>
                      <a:pt x="251" y="660"/>
                    </a:lnTo>
                    <a:lnTo>
                      <a:pt x="262" y="643"/>
                    </a:lnTo>
                    <a:lnTo>
                      <a:pt x="274" y="625"/>
                    </a:lnTo>
                    <a:lnTo>
                      <a:pt x="287" y="610"/>
                    </a:lnTo>
                    <a:lnTo>
                      <a:pt x="298" y="595"/>
                    </a:lnTo>
                    <a:lnTo>
                      <a:pt x="310" y="578"/>
                    </a:lnTo>
                    <a:lnTo>
                      <a:pt x="323" y="565"/>
                    </a:lnTo>
                    <a:lnTo>
                      <a:pt x="336" y="549"/>
                    </a:lnTo>
                    <a:lnTo>
                      <a:pt x="350" y="536"/>
                    </a:lnTo>
                    <a:lnTo>
                      <a:pt x="361" y="523"/>
                    </a:lnTo>
                    <a:lnTo>
                      <a:pt x="374" y="510"/>
                    </a:lnTo>
                    <a:lnTo>
                      <a:pt x="386" y="496"/>
                    </a:lnTo>
                    <a:lnTo>
                      <a:pt x="399" y="485"/>
                    </a:lnTo>
                    <a:lnTo>
                      <a:pt x="412" y="472"/>
                    </a:lnTo>
                    <a:lnTo>
                      <a:pt x="424" y="460"/>
                    </a:lnTo>
                    <a:lnTo>
                      <a:pt x="435" y="449"/>
                    </a:lnTo>
                    <a:lnTo>
                      <a:pt x="449" y="437"/>
                    </a:lnTo>
                    <a:lnTo>
                      <a:pt x="460" y="426"/>
                    </a:lnTo>
                    <a:lnTo>
                      <a:pt x="473" y="416"/>
                    </a:lnTo>
                    <a:lnTo>
                      <a:pt x="483" y="407"/>
                    </a:lnTo>
                    <a:lnTo>
                      <a:pt x="496" y="397"/>
                    </a:lnTo>
                    <a:lnTo>
                      <a:pt x="507" y="388"/>
                    </a:lnTo>
                    <a:lnTo>
                      <a:pt x="519" y="378"/>
                    </a:lnTo>
                    <a:lnTo>
                      <a:pt x="530" y="371"/>
                    </a:lnTo>
                    <a:lnTo>
                      <a:pt x="540" y="361"/>
                    </a:lnTo>
                    <a:lnTo>
                      <a:pt x="551" y="354"/>
                    </a:lnTo>
                    <a:lnTo>
                      <a:pt x="561" y="348"/>
                    </a:lnTo>
                    <a:lnTo>
                      <a:pt x="570" y="340"/>
                    </a:lnTo>
                    <a:lnTo>
                      <a:pt x="580" y="335"/>
                    </a:lnTo>
                    <a:lnTo>
                      <a:pt x="589" y="329"/>
                    </a:lnTo>
                    <a:lnTo>
                      <a:pt x="599" y="323"/>
                    </a:lnTo>
                    <a:lnTo>
                      <a:pt x="606" y="318"/>
                    </a:lnTo>
                    <a:lnTo>
                      <a:pt x="614" y="312"/>
                    </a:lnTo>
                    <a:lnTo>
                      <a:pt x="621" y="306"/>
                    </a:lnTo>
                    <a:lnTo>
                      <a:pt x="629" y="302"/>
                    </a:lnTo>
                    <a:lnTo>
                      <a:pt x="635" y="299"/>
                    </a:lnTo>
                    <a:lnTo>
                      <a:pt x="642" y="295"/>
                    </a:lnTo>
                    <a:lnTo>
                      <a:pt x="648" y="291"/>
                    </a:lnTo>
                    <a:lnTo>
                      <a:pt x="654" y="289"/>
                    </a:lnTo>
                    <a:lnTo>
                      <a:pt x="661" y="283"/>
                    </a:lnTo>
                    <a:lnTo>
                      <a:pt x="669" y="279"/>
                    </a:lnTo>
                    <a:lnTo>
                      <a:pt x="673" y="278"/>
                    </a:lnTo>
                    <a:lnTo>
                      <a:pt x="675" y="278"/>
                    </a:lnTo>
                    <a:lnTo>
                      <a:pt x="601" y="133"/>
                    </a:lnTo>
                    <a:lnTo>
                      <a:pt x="595" y="124"/>
                    </a:lnTo>
                    <a:lnTo>
                      <a:pt x="593" y="116"/>
                    </a:lnTo>
                    <a:lnTo>
                      <a:pt x="589" y="108"/>
                    </a:lnTo>
                    <a:lnTo>
                      <a:pt x="587" y="103"/>
                    </a:lnTo>
                    <a:lnTo>
                      <a:pt x="583" y="97"/>
                    </a:lnTo>
                    <a:lnTo>
                      <a:pt x="583" y="91"/>
                    </a:lnTo>
                    <a:lnTo>
                      <a:pt x="582" y="86"/>
                    </a:lnTo>
                    <a:lnTo>
                      <a:pt x="582" y="82"/>
                    </a:lnTo>
                    <a:lnTo>
                      <a:pt x="582" y="76"/>
                    </a:lnTo>
                    <a:lnTo>
                      <a:pt x="583" y="70"/>
                    </a:lnTo>
                    <a:lnTo>
                      <a:pt x="585" y="67"/>
                    </a:lnTo>
                    <a:lnTo>
                      <a:pt x="589" y="67"/>
                    </a:lnTo>
                    <a:lnTo>
                      <a:pt x="593" y="65"/>
                    </a:lnTo>
                    <a:lnTo>
                      <a:pt x="599" y="68"/>
                    </a:lnTo>
                    <a:lnTo>
                      <a:pt x="604" y="72"/>
                    </a:lnTo>
                    <a:lnTo>
                      <a:pt x="612" y="78"/>
                    </a:lnTo>
                    <a:lnTo>
                      <a:pt x="618" y="84"/>
                    </a:lnTo>
                    <a:lnTo>
                      <a:pt x="625" y="93"/>
                    </a:lnTo>
                    <a:lnTo>
                      <a:pt x="629" y="97"/>
                    </a:lnTo>
                    <a:lnTo>
                      <a:pt x="633" y="103"/>
                    </a:lnTo>
                    <a:lnTo>
                      <a:pt x="637" y="108"/>
                    </a:lnTo>
                    <a:lnTo>
                      <a:pt x="640" y="116"/>
                    </a:lnTo>
                    <a:lnTo>
                      <a:pt x="642" y="122"/>
                    </a:lnTo>
                    <a:lnTo>
                      <a:pt x="646" y="127"/>
                    </a:lnTo>
                    <a:lnTo>
                      <a:pt x="650" y="135"/>
                    </a:lnTo>
                    <a:lnTo>
                      <a:pt x="656" y="145"/>
                    </a:lnTo>
                    <a:lnTo>
                      <a:pt x="659" y="152"/>
                    </a:lnTo>
                    <a:lnTo>
                      <a:pt x="663" y="160"/>
                    </a:lnTo>
                    <a:lnTo>
                      <a:pt x="669" y="169"/>
                    </a:lnTo>
                    <a:lnTo>
                      <a:pt x="675" y="181"/>
                    </a:lnTo>
                    <a:lnTo>
                      <a:pt x="678" y="190"/>
                    </a:lnTo>
                    <a:lnTo>
                      <a:pt x="684" y="200"/>
                    </a:lnTo>
                    <a:lnTo>
                      <a:pt x="686" y="205"/>
                    </a:lnTo>
                    <a:lnTo>
                      <a:pt x="690" y="209"/>
                    </a:lnTo>
                    <a:lnTo>
                      <a:pt x="692" y="215"/>
                    </a:lnTo>
                    <a:lnTo>
                      <a:pt x="696" y="221"/>
                    </a:lnTo>
                    <a:lnTo>
                      <a:pt x="699" y="230"/>
                    </a:lnTo>
                    <a:lnTo>
                      <a:pt x="705" y="240"/>
                    </a:lnTo>
                    <a:lnTo>
                      <a:pt x="709" y="245"/>
                    </a:lnTo>
                    <a:lnTo>
                      <a:pt x="711" y="251"/>
                    </a:lnTo>
                    <a:lnTo>
                      <a:pt x="715" y="255"/>
                    </a:lnTo>
                    <a:lnTo>
                      <a:pt x="716" y="260"/>
                    </a:lnTo>
                    <a:lnTo>
                      <a:pt x="722" y="270"/>
                    </a:lnTo>
                    <a:lnTo>
                      <a:pt x="726" y="279"/>
                    </a:lnTo>
                    <a:lnTo>
                      <a:pt x="732" y="287"/>
                    </a:lnTo>
                    <a:lnTo>
                      <a:pt x="737" y="297"/>
                    </a:lnTo>
                    <a:lnTo>
                      <a:pt x="739" y="306"/>
                    </a:lnTo>
                    <a:lnTo>
                      <a:pt x="745" y="314"/>
                    </a:lnTo>
                    <a:lnTo>
                      <a:pt x="749" y="321"/>
                    </a:lnTo>
                    <a:lnTo>
                      <a:pt x="753" y="329"/>
                    </a:lnTo>
                    <a:lnTo>
                      <a:pt x="756" y="335"/>
                    </a:lnTo>
                    <a:lnTo>
                      <a:pt x="758" y="340"/>
                    </a:lnTo>
                    <a:lnTo>
                      <a:pt x="762" y="346"/>
                    </a:lnTo>
                    <a:lnTo>
                      <a:pt x="764" y="350"/>
                    </a:lnTo>
                    <a:lnTo>
                      <a:pt x="768" y="356"/>
                    </a:lnTo>
                    <a:lnTo>
                      <a:pt x="770" y="357"/>
                    </a:lnTo>
                    <a:lnTo>
                      <a:pt x="732" y="380"/>
                    </a:lnTo>
                    <a:lnTo>
                      <a:pt x="753" y="439"/>
                    </a:lnTo>
                    <a:lnTo>
                      <a:pt x="834" y="392"/>
                    </a:lnTo>
                    <a:lnTo>
                      <a:pt x="831" y="3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80"/>
              <p:cNvSpPr/>
              <p:nvPr/>
            </p:nvSpPr>
            <p:spPr>
              <a:xfrm>
                <a:off x="3678120" y="4397400"/>
                <a:ext cx="1342800" cy="1646280"/>
              </a:xfrm>
              <a:custGeom>
                <a:avLst/>
                <a:gdLst>
                  <a:gd name="textAreaLeft" fmla="*/ 0 w 1342800"/>
                  <a:gd name="textAreaRight" fmla="*/ 1343160 w 1342800"/>
                  <a:gd name="textAreaTop" fmla="*/ 0 h 1646280"/>
                  <a:gd name="textAreaBottom" fmla="*/ 1646640 h 1646280"/>
                </a:gdLst>
                <a:ahLst/>
                <a:rect l="textAreaLeft" t="textAreaTop" r="textAreaRight" b="textAreaBottom"/>
                <a:pathLst>
                  <a:path w="1691" h="2074">
                    <a:moveTo>
                      <a:pt x="621" y="77"/>
                    </a:moveTo>
                    <a:lnTo>
                      <a:pt x="570" y="0"/>
                    </a:lnTo>
                    <a:lnTo>
                      <a:pt x="568" y="0"/>
                    </a:lnTo>
                    <a:lnTo>
                      <a:pt x="566" y="1"/>
                    </a:lnTo>
                    <a:lnTo>
                      <a:pt x="560" y="3"/>
                    </a:lnTo>
                    <a:lnTo>
                      <a:pt x="555" y="9"/>
                    </a:lnTo>
                    <a:lnTo>
                      <a:pt x="551" y="13"/>
                    </a:lnTo>
                    <a:lnTo>
                      <a:pt x="545" y="15"/>
                    </a:lnTo>
                    <a:lnTo>
                      <a:pt x="541" y="19"/>
                    </a:lnTo>
                    <a:lnTo>
                      <a:pt x="536" y="22"/>
                    </a:lnTo>
                    <a:lnTo>
                      <a:pt x="530" y="26"/>
                    </a:lnTo>
                    <a:lnTo>
                      <a:pt x="524" y="30"/>
                    </a:lnTo>
                    <a:lnTo>
                      <a:pt x="518" y="36"/>
                    </a:lnTo>
                    <a:lnTo>
                      <a:pt x="513" y="41"/>
                    </a:lnTo>
                    <a:lnTo>
                      <a:pt x="505" y="47"/>
                    </a:lnTo>
                    <a:lnTo>
                      <a:pt x="498" y="53"/>
                    </a:lnTo>
                    <a:lnTo>
                      <a:pt x="490" y="58"/>
                    </a:lnTo>
                    <a:lnTo>
                      <a:pt x="484" y="66"/>
                    </a:lnTo>
                    <a:lnTo>
                      <a:pt x="475" y="72"/>
                    </a:lnTo>
                    <a:lnTo>
                      <a:pt x="467" y="79"/>
                    </a:lnTo>
                    <a:lnTo>
                      <a:pt x="458" y="87"/>
                    </a:lnTo>
                    <a:lnTo>
                      <a:pt x="450" y="95"/>
                    </a:lnTo>
                    <a:lnTo>
                      <a:pt x="441" y="102"/>
                    </a:lnTo>
                    <a:lnTo>
                      <a:pt x="431" y="110"/>
                    </a:lnTo>
                    <a:lnTo>
                      <a:pt x="423" y="119"/>
                    </a:lnTo>
                    <a:lnTo>
                      <a:pt x="414" y="129"/>
                    </a:lnTo>
                    <a:lnTo>
                      <a:pt x="404" y="138"/>
                    </a:lnTo>
                    <a:lnTo>
                      <a:pt x="395" y="148"/>
                    </a:lnTo>
                    <a:lnTo>
                      <a:pt x="385" y="157"/>
                    </a:lnTo>
                    <a:lnTo>
                      <a:pt x="376" y="169"/>
                    </a:lnTo>
                    <a:lnTo>
                      <a:pt x="365" y="178"/>
                    </a:lnTo>
                    <a:lnTo>
                      <a:pt x="355" y="190"/>
                    </a:lnTo>
                    <a:lnTo>
                      <a:pt x="344" y="201"/>
                    </a:lnTo>
                    <a:lnTo>
                      <a:pt x="334" y="212"/>
                    </a:lnTo>
                    <a:lnTo>
                      <a:pt x="323" y="224"/>
                    </a:lnTo>
                    <a:lnTo>
                      <a:pt x="313" y="235"/>
                    </a:lnTo>
                    <a:lnTo>
                      <a:pt x="302" y="247"/>
                    </a:lnTo>
                    <a:lnTo>
                      <a:pt x="294" y="260"/>
                    </a:lnTo>
                    <a:lnTo>
                      <a:pt x="283" y="273"/>
                    </a:lnTo>
                    <a:lnTo>
                      <a:pt x="271" y="287"/>
                    </a:lnTo>
                    <a:lnTo>
                      <a:pt x="262" y="300"/>
                    </a:lnTo>
                    <a:lnTo>
                      <a:pt x="250" y="313"/>
                    </a:lnTo>
                    <a:lnTo>
                      <a:pt x="239" y="327"/>
                    </a:lnTo>
                    <a:lnTo>
                      <a:pt x="231" y="342"/>
                    </a:lnTo>
                    <a:lnTo>
                      <a:pt x="220" y="357"/>
                    </a:lnTo>
                    <a:lnTo>
                      <a:pt x="211" y="372"/>
                    </a:lnTo>
                    <a:lnTo>
                      <a:pt x="199" y="385"/>
                    </a:lnTo>
                    <a:lnTo>
                      <a:pt x="190" y="403"/>
                    </a:lnTo>
                    <a:lnTo>
                      <a:pt x="180" y="418"/>
                    </a:lnTo>
                    <a:lnTo>
                      <a:pt x="171" y="433"/>
                    </a:lnTo>
                    <a:lnTo>
                      <a:pt x="161" y="448"/>
                    </a:lnTo>
                    <a:lnTo>
                      <a:pt x="152" y="465"/>
                    </a:lnTo>
                    <a:lnTo>
                      <a:pt x="142" y="482"/>
                    </a:lnTo>
                    <a:lnTo>
                      <a:pt x="133" y="501"/>
                    </a:lnTo>
                    <a:lnTo>
                      <a:pt x="123" y="517"/>
                    </a:lnTo>
                    <a:lnTo>
                      <a:pt x="116" y="534"/>
                    </a:lnTo>
                    <a:lnTo>
                      <a:pt x="108" y="553"/>
                    </a:lnTo>
                    <a:lnTo>
                      <a:pt x="100" y="570"/>
                    </a:lnTo>
                    <a:lnTo>
                      <a:pt x="91" y="589"/>
                    </a:lnTo>
                    <a:lnTo>
                      <a:pt x="83" y="608"/>
                    </a:lnTo>
                    <a:lnTo>
                      <a:pt x="76" y="627"/>
                    </a:lnTo>
                    <a:lnTo>
                      <a:pt x="70" y="646"/>
                    </a:lnTo>
                    <a:lnTo>
                      <a:pt x="64" y="657"/>
                    </a:lnTo>
                    <a:lnTo>
                      <a:pt x="60" y="669"/>
                    </a:lnTo>
                    <a:lnTo>
                      <a:pt x="57" y="678"/>
                    </a:lnTo>
                    <a:lnTo>
                      <a:pt x="53" y="690"/>
                    </a:lnTo>
                    <a:lnTo>
                      <a:pt x="51" y="701"/>
                    </a:lnTo>
                    <a:lnTo>
                      <a:pt x="47" y="712"/>
                    </a:lnTo>
                    <a:lnTo>
                      <a:pt x="43" y="724"/>
                    </a:lnTo>
                    <a:lnTo>
                      <a:pt x="40" y="735"/>
                    </a:lnTo>
                    <a:lnTo>
                      <a:pt x="36" y="747"/>
                    </a:lnTo>
                    <a:lnTo>
                      <a:pt x="34" y="758"/>
                    </a:lnTo>
                    <a:lnTo>
                      <a:pt x="30" y="769"/>
                    </a:lnTo>
                    <a:lnTo>
                      <a:pt x="28" y="781"/>
                    </a:lnTo>
                    <a:lnTo>
                      <a:pt x="24" y="792"/>
                    </a:lnTo>
                    <a:lnTo>
                      <a:pt x="22" y="806"/>
                    </a:lnTo>
                    <a:lnTo>
                      <a:pt x="21" y="817"/>
                    </a:lnTo>
                    <a:lnTo>
                      <a:pt x="19" y="830"/>
                    </a:lnTo>
                    <a:lnTo>
                      <a:pt x="15" y="840"/>
                    </a:lnTo>
                    <a:lnTo>
                      <a:pt x="13" y="853"/>
                    </a:lnTo>
                    <a:lnTo>
                      <a:pt x="11" y="865"/>
                    </a:lnTo>
                    <a:lnTo>
                      <a:pt x="9" y="878"/>
                    </a:lnTo>
                    <a:lnTo>
                      <a:pt x="7" y="889"/>
                    </a:lnTo>
                    <a:lnTo>
                      <a:pt x="7" y="903"/>
                    </a:lnTo>
                    <a:lnTo>
                      <a:pt x="5" y="914"/>
                    </a:lnTo>
                    <a:lnTo>
                      <a:pt x="5" y="927"/>
                    </a:lnTo>
                    <a:lnTo>
                      <a:pt x="3" y="941"/>
                    </a:lnTo>
                    <a:lnTo>
                      <a:pt x="2" y="954"/>
                    </a:lnTo>
                    <a:lnTo>
                      <a:pt x="2" y="967"/>
                    </a:lnTo>
                    <a:lnTo>
                      <a:pt x="2" y="979"/>
                    </a:lnTo>
                    <a:lnTo>
                      <a:pt x="0" y="992"/>
                    </a:lnTo>
                    <a:lnTo>
                      <a:pt x="0" y="1005"/>
                    </a:lnTo>
                    <a:lnTo>
                      <a:pt x="0" y="1019"/>
                    </a:lnTo>
                    <a:lnTo>
                      <a:pt x="2" y="1032"/>
                    </a:lnTo>
                    <a:lnTo>
                      <a:pt x="2" y="1045"/>
                    </a:lnTo>
                    <a:lnTo>
                      <a:pt x="2" y="1058"/>
                    </a:lnTo>
                    <a:lnTo>
                      <a:pt x="2" y="1072"/>
                    </a:lnTo>
                    <a:lnTo>
                      <a:pt x="2" y="1085"/>
                    </a:lnTo>
                    <a:lnTo>
                      <a:pt x="2" y="1098"/>
                    </a:lnTo>
                    <a:lnTo>
                      <a:pt x="3" y="1112"/>
                    </a:lnTo>
                    <a:lnTo>
                      <a:pt x="5" y="1127"/>
                    </a:lnTo>
                    <a:lnTo>
                      <a:pt x="7" y="1140"/>
                    </a:lnTo>
                    <a:lnTo>
                      <a:pt x="9" y="1153"/>
                    </a:lnTo>
                    <a:lnTo>
                      <a:pt x="11" y="1169"/>
                    </a:lnTo>
                    <a:lnTo>
                      <a:pt x="11" y="1182"/>
                    </a:lnTo>
                    <a:lnTo>
                      <a:pt x="15" y="1195"/>
                    </a:lnTo>
                    <a:lnTo>
                      <a:pt x="17" y="1211"/>
                    </a:lnTo>
                    <a:lnTo>
                      <a:pt x="19" y="1224"/>
                    </a:lnTo>
                    <a:lnTo>
                      <a:pt x="22" y="1239"/>
                    </a:lnTo>
                    <a:lnTo>
                      <a:pt x="26" y="1252"/>
                    </a:lnTo>
                    <a:lnTo>
                      <a:pt x="28" y="1268"/>
                    </a:lnTo>
                    <a:lnTo>
                      <a:pt x="32" y="1281"/>
                    </a:lnTo>
                    <a:lnTo>
                      <a:pt x="36" y="1296"/>
                    </a:lnTo>
                    <a:lnTo>
                      <a:pt x="40" y="1309"/>
                    </a:lnTo>
                    <a:lnTo>
                      <a:pt x="43" y="1325"/>
                    </a:lnTo>
                    <a:lnTo>
                      <a:pt x="47" y="1340"/>
                    </a:lnTo>
                    <a:lnTo>
                      <a:pt x="51" y="1355"/>
                    </a:lnTo>
                    <a:lnTo>
                      <a:pt x="57" y="1370"/>
                    </a:lnTo>
                    <a:lnTo>
                      <a:pt x="60" y="1384"/>
                    </a:lnTo>
                    <a:lnTo>
                      <a:pt x="66" y="1399"/>
                    </a:lnTo>
                    <a:lnTo>
                      <a:pt x="72" y="1414"/>
                    </a:lnTo>
                    <a:lnTo>
                      <a:pt x="78" y="1431"/>
                    </a:lnTo>
                    <a:lnTo>
                      <a:pt x="83" y="1444"/>
                    </a:lnTo>
                    <a:lnTo>
                      <a:pt x="89" y="1461"/>
                    </a:lnTo>
                    <a:lnTo>
                      <a:pt x="95" y="1477"/>
                    </a:lnTo>
                    <a:lnTo>
                      <a:pt x="102" y="1492"/>
                    </a:lnTo>
                    <a:lnTo>
                      <a:pt x="121" y="1532"/>
                    </a:lnTo>
                    <a:lnTo>
                      <a:pt x="140" y="1574"/>
                    </a:lnTo>
                    <a:lnTo>
                      <a:pt x="161" y="1610"/>
                    </a:lnTo>
                    <a:lnTo>
                      <a:pt x="184" y="1646"/>
                    </a:lnTo>
                    <a:lnTo>
                      <a:pt x="207" y="1680"/>
                    </a:lnTo>
                    <a:lnTo>
                      <a:pt x="231" y="1712"/>
                    </a:lnTo>
                    <a:lnTo>
                      <a:pt x="254" y="1743"/>
                    </a:lnTo>
                    <a:lnTo>
                      <a:pt x="283" y="1773"/>
                    </a:lnTo>
                    <a:lnTo>
                      <a:pt x="308" y="1800"/>
                    </a:lnTo>
                    <a:lnTo>
                      <a:pt x="336" y="1825"/>
                    </a:lnTo>
                    <a:lnTo>
                      <a:pt x="365" y="1849"/>
                    </a:lnTo>
                    <a:lnTo>
                      <a:pt x="393" y="1872"/>
                    </a:lnTo>
                    <a:lnTo>
                      <a:pt x="422" y="1893"/>
                    </a:lnTo>
                    <a:lnTo>
                      <a:pt x="452" y="1914"/>
                    </a:lnTo>
                    <a:lnTo>
                      <a:pt x="484" y="1931"/>
                    </a:lnTo>
                    <a:lnTo>
                      <a:pt x="515" y="1950"/>
                    </a:lnTo>
                    <a:lnTo>
                      <a:pt x="547" y="1965"/>
                    </a:lnTo>
                    <a:lnTo>
                      <a:pt x="577" y="1979"/>
                    </a:lnTo>
                    <a:lnTo>
                      <a:pt x="610" y="1992"/>
                    </a:lnTo>
                    <a:lnTo>
                      <a:pt x="644" y="2005"/>
                    </a:lnTo>
                    <a:lnTo>
                      <a:pt x="676" y="2015"/>
                    </a:lnTo>
                    <a:lnTo>
                      <a:pt x="709" y="2026"/>
                    </a:lnTo>
                    <a:lnTo>
                      <a:pt x="743" y="2034"/>
                    </a:lnTo>
                    <a:lnTo>
                      <a:pt x="777" y="2041"/>
                    </a:lnTo>
                    <a:lnTo>
                      <a:pt x="809" y="2047"/>
                    </a:lnTo>
                    <a:lnTo>
                      <a:pt x="843" y="2055"/>
                    </a:lnTo>
                    <a:lnTo>
                      <a:pt x="876" y="2058"/>
                    </a:lnTo>
                    <a:lnTo>
                      <a:pt x="910" y="2064"/>
                    </a:lnTo>
                    <a:lnTo>
                      <a:pt x="942" y="2066"/>
                    </a:lnTo>
                    <a:lnTo>
                      <a:pt x="976" y="2070"/>
                    </a:lnTo>
                    <a:lnTo>
                      <a:pt x="1009" y="2072"/>
                    </a:lnTo>
                    <a:lnTo>
                      <a:pt x="1043" y="2074"/>
                    </a:lnTo>
                    <a:lnTo>
                      <a:pt x="1075" y="2072"/>
                    </a:lnTo>
                    <a:lnTo>
                      <a:pt x="1106" y="2072"/>
                    </a:lnTo>
                    <a:lnTo>
                      <a:pt x="1138" y="2070"/>
                    </a:lnTo>
                    <a:lnTo>
                      <a:pt x="1170" y="2070"/>
                    </a:lnTo>
                    <a:lnTo>
                      <a:pt x="1201" y="2066"/>
                    </a:lnTo>
                    <a:lnTo>
                      <a:pt x="1231" y="2064"/>
                    </a:lnTo>
                    <a:lnTo>
                      <a:pt x="1262" y="2062"/>
                    </a:lnTo>
                    <a:lnTo>
                      <a:pt x="1292" y="2060"/>
                    </a:lnTo>
                    <a:lnTo>
                      <a:pt x="1319" y="2055"/>
                    </a:lnTo>
                    <a:lnTo>
                      <a:pt x="1347" y="2051"/>
                    </a:lnTo>
                    <a:lnTo>
                      <a:pt x="1374" y="2047"/>
                    </a:lnTo>
                    <a:lnTo>
                      <a:pt x="1400" y="2045"/>
                    </a:lnTo>
                    <a:lnTo>
                      <a:pt x="1425" y="2039"/>
                    </a:lnTo>
                    <a:lnTo>
                      <a:pt x="1450" y="2036"/>
                    </a:lnTo>
                    <a:lnTo>
                      <a:pt x="1474" y="2030"/>
                    </a:lnTo>
                    <a:lnTo>
                      <a:pt x="1497" y="2026"/>
                    </a:lnTo>
                    <a:lnTo>
                      <a:pt x="1518" y="2020"/>
                    </a:lnTo>
                    <a:lnTo>
                      <a:pt x="1539" y="2015"/>
                    </a:lnTo>
                    <a:lnTo>
                      <a:pt x="1558" y="2011"/>
                    </a:lnTo>
                    <a:lnTo>
                      <a:pt x="1577" y="2005"/>
                    </a:lnTo>
                    <a:lnTo>
                      <a:pt x="1594" y="2001"/>
                    </a:lnTo>
                    <a:lnTo>
                      <a:pt x="1611" y="1998"/>
                    </a:lnTo>
                    <a:lnTo>
                      <a:pt x="1625" y="1992"/>
                    </a:lnTo>
                    <a:lnTo>
                      <a:pt x="1640" y="1990"/>
                    </a:lnTo>
                    <a:lnTo>
                      <a:pt x="1651" y="1986"/>
                    </a:lnTo>
                    <a:lnTo>
                      <a:pt x="1661" y="1982"/>
                    </a:lnTo>
                    <a:lnTo>
                      <a:pt x="1668" y="1979"/>
                    </a:lnTo>
                    <a:lnTo>
                      <a:pt x="1678" y="1977"/>
                    </a:lnTo>
                    <a:lnTo>
                      <a:pt x="1683" y="1975"/>
                    </a:lnTo>
                    <a:lnTo>
                      <a:pt x="1687" y="1975"/>
                    </a:lnTo>
                    <a:lnTo>
                      <a:pt x="1689" y="1975"/>
                    </a:lnTo>
                    <a:lnTo>
                      <a:pt x="1691" y="1975"/>
                    </a:lnTo>
                    <a:lnTo>
                      <a:pt x="1630" y="1870"/>
                    </a:lnTo>
                    <a:lnTo>
                      <a:pt x="1571" y="1899"/>
                    </a:lnTo>
                    <a:lnTo>
                      <a:pt x="1602" y="1952"/>
                    </a:lnTo>
                    <a:lnTo>
                      <a:pt x="1600" y="1952"/>
                    </a:lnTo>
                    <a:lnTo>
                      <a:pt x="1596" y="1952"/>
                    </a:lnTo>
                    <a:lnTo>
                      <a:pt x="1590" y="1956"/>
                    </a:lnTo>
                    <a:lnTo>
                      <a:pt x="1585" y="1956"/>
                    </a:lnTo>
                    <a:lnTo>
                      <a:pt x="1577" y="1960"/>
                    </a:lnTo>
                    <a:lnTo>
                      <a:pt x="1568" y="1961"/>
                    </a:lnTo>
                    <a:lnTo>
                      <a:pt x="1560" y="1965"/>
                    </a:lnTo>
                    <a:lnTo>
                      <a:pt x="1552" y="1965"/>
                    </a:lnTo>
                    <a:lnTo>
                      <a:pt x="1547" y="1967"/>
                    </a:lnTo>
                    <a:lnTo>
                      <a:pt x="1541" y="1969"/>
                    </a:lnTo>
                    <a:lnTo>
                      <a:pt x="1535" y="1971"/>
                    </a:lnTo>
                    <a:lnTo>
                      <a:pt x="1530" y="1971"/>
                    </a:lnTo>
                    <a:lnTo>
                      <a:pt x="1524" y="1975"/>
                    </a:lnTo>
                    <a:lnTo>
                      <a:pt x="1516" y="1977"/>
                    </a:lnTo>
                    <a:lnTo>
                      <a:pt x="1511" y="1979"/>
                    </a:lnTo>
                    <a:lnTo>
                      <a:pt x="1501" y="1980"/>
                    </a:lnTo>
                    <a:lnTo>
                      <a:pt x="1493" y="1982"/>
                    </a:lnTo>
                    <a:lnTo>
                      <a:pt x="1486" y="1984"/>
                    </a:lnTo>
                    <a:lnTo>
                      <a:pt x="1478" y="1986"/>
                    </a:lnTo>
                    <a:lnTo>
                      <a:pt x="1471" y="1988"/>
                    </a:lnTo>
                    <a:lnTo>
                      <a:pt x="1461" y="1990"/>
                    </a:lnTo>
                    <a:lnTo>
                      <a:pt x="1453" y="1992"/>
                    </a:lnTo>
                    <a:lnTo>
                      <a:pt x="1444" y="1996"/>
                    </a:lnTo>
                    <a:lnTo>
                      <a:pt x="1434" y="1996"/>
                    </a:lnTo>
                    <a:lnTo>
                      <a:pt x="1425" y="1998"/>
                    </a:lnTo>
                    <a:lnTo>
                      <a:pt x="1415" y="2000"/>
                    </a:lnTo>
                    <a:lnTo>
                      <a:pt x="1406" y="2003"/>
                    </a:lnTo>
                    <a:lnTo>
                      <a:pt x="1395" y="2003"/>
                    </a:lnTo>
                    <a:lnTo>
                      <a:pt x="1385" y="2005"/>
                    </a:lnTo>
                    <a:lnTo>
                      <a:pt x="1374" y="2007"/>
                    </a:lnTo>
                    <a:lnTo>
                      <a:pt x="1364" y="2011"/>
                    </a:lnTo>
                    <a:lnTo>
                      <a:pt x="1355" y="2011"/>
                    </a:lnTo>
                    <a:lnTo>
                      <a:pt x="1343" y="2013"/>
                    </a:lnTo>
                    <a:lnTo>
                      <a:pt x="1332" y="2015"/>
                    </a:lnTo>
                    <a:lnTo>
                      <a:pt x="1320" y="2017"/>
                    </a:lnTo>
                    <a:lnTo>
                      <a:pt x="1307" y="2017"/>
                    </a:lnTo>
                    <a:lnTo>
                      <a:pt x="1296" y="2019"/>
                    </a:lnTo>
                    <a:lnTo>
                      <a:pt x="1286" y="2020"/>
                    </a:lnTo>
                    <a:lnTo>
                      <a:pt x="1275" y="2022"/>
                    </a:lnTo>
                    <a:lnTo>
                      <a:pt x="1262" y="2024"/>
                    </a:lnTo>
                    <a:lnTo>
                      <a:pt x="1248" y="2024"/>
                    </a:lnTo>
                    <a:lnTo>
                      <a:pt x="1237" y="2026"/>
                    </a:lnTo>
                    <a:lnTo>
                      <a:pt x="1225" y="2026"/>
                    </a:lnTo>
                    <a:lnTo>
                      <a:pt x="1212" y="2028"/>
                    </a:lnTo>
                    <a:lnTo>
                      <a:pt x="1199" y="2028"/>
                    </a:lnTo>
                    <a:lnTo>
                      <a:pt x="1186" y="2030"/>
                    </a:lnTo>
                    <a:lnTo>
                      <a:pt x="1174" y="2030"/>
                    </a:lnTo>
                    <a:lnTo>
                      <a:pt x="1161" y="2030"/>
                    </a:lnTo>
                    <a:lnTo>
                      <a:pt x="1148" y="2030"/>
                    </a:lnTo>
                    <a:lnTo>
                      <a:pt x="1134" y="2030"/>
                    </a:lnTo>
                    <a:lnTo>
                      <a:pt x="1121" y="2030"/>
                    </a:lnTo>
                    <a:lnTo>
                      <a:pt x="1108" y="2030"/>
                    </a:lnTo>
                    <a:lnTo>
                      <a:pt x="1096" y="2030"/>
                    </a:lnTo>
                    <a:lnTo>
                      <a:pt x="1083" y="2030"/>
                    </a:lnTo>
                    <a:lnTo>
                      <a:pt x="1070" y="2030"/>
                    </a:lnTo>
                    <a:lnTo>
                      <a:pt x="1052" y="2028"/>
                    </a:lnTo>
                    <a:lnTo>
                      <a:pt x="1037" y="2028"/>
                    </a:lnTo>
                    <a:lnTo>
                      <a:pt x="1022" y="2026"/>
                    </a:lnTo>
                    <a:lnTo>
                      <a:pt x="1007" y="2026"/>
                    </a:lnTo>
                    <a:lnTo>
                      <a:pt x="990" y="2022"/>
                    </a:lnTo>
                    <a:lnTo>
                      <a:pt x="975" y="2022"/>
                    </a:lnTo>
                    <a:lnTo>
                      <a:pt x="957" y="2019"/>
                    </a:lnTo>
                    <a:lnTo>
                      <a:pt x="942" y="2019"/>
                    </a:lnTo>
                    <a:lnTo>
                      <a:pt x="925" y="2015"/>
                    </a:lnTo>
                    <a:lnTo>
                      <a:pt x="910" y="2013"/>
                    </a:lnTo>
                    <a:lnTo>
                      <a:pt x="895" y="2009"/>
                    </a:lnTo>
                    <a:lnTo>
                      <a:pt x="878" y="2007"/>
                    </a:lnTo>
                    <a:lnTo>
                      <a:pt x="862" y="2003"/>
                    </a:lnTo>
                    <a:lnTo>
                      <a:pt x="847" y="2000"/>
                    </a:lnTo>
                    <a:lnTo>
                      <a:pt x="830" y="1996"/>
                    </a:lnTo>
                    <a:lnTo>
                      <a:pt x="815" y="1992"/>
                    </a:lnTo>
                    <a:lnTo>
                      <a:pt x="798" y="1988"/>
                    </a:lnTo>
                    <a:lnTo>
                      <a:pt x="783" y="1982"/>
                    </a:lnTo>
                    <a:lnTo>
                      <a:pt x="766" y="1979"/>
                    </a:lnTo>
                    <a:lnTo>
                      <a:pt x="750" y="1975"/>
                    </a:lnTo>
                    <a:lnTo>
                      <a:pt x="733" y="1969"/>
                    </a:lnTo>
                    <a:lnTo>
                      <a:pt x="718" y="1963"/>
                    </a:lnTo>
                    <a:lnTo>
                      <a:pt x="701" y="1958"/>
                    </a:lnTo>
                    <a:lnTo>
                      <a:pt x="686" y="1952"/>
                    </a:lnTo>
                    <a:lnTo>
                      <a:pt x="669" y="1944"/>
                    </a:lnTo>
                    <a:lnTo>
                      <a:pt x="655" y="1939"/>
                    </a:lnTo>
                    <a:lnTo>
                      <a:pt x="638" y="1931"/>
                    </a:lnTo>
                    <a:lnTo>
                      <a:pt x="623" y="1925"/>
                    </a:lnTo>
                    <a:lnTo>
                      <a:pt x="608" y="1918"/>
                    </a:lnTo>
                    <a:lnTo>
                      <a:pt x="593" y="1910"/>
                    </a:lnTo>
                    <a:lnTo>
                      <a:pt x="577" y="1903"/>
                    </a:lnTo>
                    <a:lnTo>
                      <a:pt x="562" y="1895"/>
                    </a:lnTo>
                    <a:lnTo>
                      <a:pt x="547" y="1885"/>
                    </a:lnTo>
                    <a:lnTo>
                      <a:pt x="532" y="1878"/>
                    </a:lnTo>
                    <a:lnTo>
                      <a:pt x="517" y="1868"/>
                    </a:lnTo>
                    <a:lnTo>
                      <a:pt x="501" y="1859"/>
                    </a:lnTo>
                    <a:lnTo>
                      <a:pt x="488" y="1847"/>
                    </a:lnTo>
                    <a:lnTo>
                      <a:pt x="473" y="1838"/>
                    </a:lnTo>
                    <a:lnTo>
                      <a:pt x="458" y="1828"/>
                    </a:lnTo>
                    <a:lnTo>
                      <a:pt x="444" y="1817"/>
                    </a:lnTo>
                    <a:lnTo>
                      <a:pt x="429" y="1806"/>
                    </a:lnTo>
                    <a:lnTo>
                      <a:pt x="416" y="1794"/>
                    </a:lnTo>
                    <a:lnTo>
                      <a:pt x="401" y="1783"/>
                    </a:lnTo>
                    <a:lnTo>
                      <a:pt x="387" y="1771"/>
                    </a:lnTo>
                    <a:lnTo>
                      <a:pt x="374" y="1758"/>
                    </a:lnTo>
                    <a:lnTo>
                      <a:pt x="361" y="1745"/>
                    </a:lnTo>
                    <a:lnTo>
                      <a:pt x="347" y="1731"/>
                    </a:lnTo>
                    <a:lnTo>
                      <a:pt x="336" y="1720"/>
                    </a:lnTo>
                    <a:lnTo>
                      <a:pt x="321" y="1705"/>
                    </a:lnTo>
                    <a:lnTo>
                      <a:pt x="309" y="1692"/>
                    </a:lnTo>
                    <a:lnTo>
                      <a:pt x="296" y="1676"/>
                    </a:lnTo>
                    <a:lnTo>
                      <a:pt x="285" y="1661"/>
                    </a:lnTo>
                    <a:lnTo>
                      <a:pt x="273" y="1646"/>
                    </a:lnTo>
                    <a:lnTo>
                      <a:pt x="262" y="1631"/>
                    </a:lnTo>
                    <a:lnTo>
                      <a:pt x="250" y="1615"/>
                    </a:lnTo>
                    <a:lnTo>
                      <a:pt x="239" y="1598"/>
                    </a:lnTo>
                    <a:lnTo>
                      <a:pt x="228" y="1581"/>
                    </a:lnTo>
                    <a:lnTo>
                      <a:pt x="216" y="1564"/>
                    </a:lnTo>
                    <a:lnTo>
                      <a:pt x="207" y="1547"/>
                    </a:lnTo>
                    <a:lnTo>
                      <a:pt x="197" y="1530"/>
                    </a:lnTo>
                    <a:lnTo>
                      <a:pt x="186" y="1511"/>
                    </a:lnTo>
                    <a:lnTo>
                      <a:pt x="178" y="1492"/>
                    </a:lnTo>
                    <a:lnTo>
                      <a:pt x="169" y="1473"/>
                    </a:lnTo>
                    <a:lnTo>
                      <a:pt x="159" y="1454"/>
                    </a:lnTo>
                    <a:lnTo>
                      <a:pt x="154" y="1441"/>
                    </a:lnTo>
                    <a:lnTo>
                      <a:pt x="148" y="1429"/>
                    </a:lnTo>
                    <a:lnTo>
                      <a:pt x="142" y="1416"/>
                    </a:lnTo>
                    <a:lnTo>
                      <a:pt x="136" y="1404"/>
                    </a:lnTo>
                    <a:lnTo>
                      <a:pt x="131" y="1391"/>
                    </a:lnTo>
                    <a:lnTo>
                      <a:pt x="125" y="1378"/>
                    </a:lnTo>
                    <a:lnTo>
                      <a:pt x="121" y="1366"/>
                    </a:lnTo>
                    <a:lnTo>
                      <a:pt x="117" y="1355"/>
                    </a:lnTo>
                    <a:lnTo>
                      <a:pt x="112" y="1342"/>
                    </a:lnTo>
                    <a:lnTo>
                      <a:pt x="108" y="1328"/>
                    </a:lnTo>
                    <a:lnTo>
                      <a:pt x="104" y="1315"/>
                    </a:lnTo>
                    <a:lnTo>
                      <a:pt x="100" y="1304"/>
                    </a:lnTo>
                    <a:lnTo>
                      <a:pt x="97" y="1292"/>
                    </a:lnTo>
                    <a:lnTo>
                      <a:pt x="93" y="1281"/>
                    </a:lnTo>
                    <a:lnTo>
                      <a:pt x="91" y="1268"/>
                    </a:lnTo>
                    <a:lnTo>
                      <a:pt x="87" y="1256"/>
                    </a:lnTo>
                    <a:lnTo>
                      <a:pt x="83" y="1245"/>
                    </a:lnTo>
                    <a:lnTo>
                      <a:pt x="81" y="1233"/>
                    </a:lnTo>
                    <a:lnTo>
                      <a:pt x="78" y="1220"/>
                    </a:lnTo>
                    <a:lnTo>
                      <a:pt x="76" y="1209"/>
                    </a:lnTo>
                    <a:lnTo>
                      <a:pt x="74" y="1197"/>
                    </a:lnTo>
                    <a:lnTo>
                      <a:pt x="70" y="1184"/>
                    </a:lnTo>
                    <a:lnTo>
                      <a:pt x="68" y="1173"/>
                    </a:lnTo>
                    <a:lnTo>
                      <a:pt x="68" y="1163"/>
                    </a:lnTo>
                    <a:lnTo>
                      <a:pt x="64" y="1150"/>
                    </a:lnTo>
                    <a:lnTo>
                      <a:pt x="64" y="1138"/>
                    </a:lnTo>
                    <a:lnTo>
                      <a:pt x="62" y="1127"/>
                    </a:lnTo>
                    <a:lnTo>
                      <a:pt x="60" y="1115"/>
                    </a:lnTo>
                    <a:lnTo>
                      <a:pt x="60" y="1106"/>
                    </a:lnTo>
                    <a:lnTo>
                      <a:pt x="59" y="1095"/>
                    </a:lnTo>
                    <a:lnTo>
                      <a:pt x="59" y="1083"/>
                    </a:lnTo>
                    <a:lnTo>
                      <a:pt x="59" y="1072"/>
                    </a:lnTo>
                    <a:lnTo>
                      <a:pt x="59" y="1060"/>
                    </a:lnTo>
                    <a:lnTo>
                      <a:pt x="57" y="1049"/>
                    </a:lnTo>
                    <a:lnTo>
                      <a:pt x="57" y="1038"/>
                    </a:lnTo>
                    <a:lnTo>
                      <a:pt x="57" y="1026"/>
                    </a:lnTo>
                    <a:lnTo>
                      <a:pt x="57" y="1015"/>
                    </a:lnTo>
                    <a:lnTo>
                      <a:pt x="57" y="1003"/>
                    </a:lnTo>
                    <a:lnTo>
                      <a:pt x="57" y="992"/>
                    </a:lnTo>
                    <a:lnTo>
                      <a:pt x="57" y="982"/>
                    </a:lnTo>
                    <a:lnTo>
                      <a:pt x="57" y="971"/>
                    </a:lnTo>
                    <a:lnTo>
                      <a:pt x="57" y="960"/>
                    </a:lnTo>
                    <a:lnTo>
                      <a:pt x="59" y="950"/>
                    </a:lnTo>
                    <a:lnTo>
                      <a:pt x="59" y="939"/>
                    </a:lnTo>
                    <a:lnTo>
                      <a:pt x="59" y="927"/>
                    </a:lnTo>
                    <a:lnTo>
                      <a:pt x="60" y="918"/>
                    </a:lnTo>
                    <a:lnTo>
                      <a:pt x="60" y="906"/>
                    </a:lnTo>
                    <a:lnTo>
                      <a:pt x="62" y="899"/>
                    </a:lnTo>
                    <a:lnTo>
                      <a:pt x="62" y="887"/>
                    </a:lnTo>
                    <a:lnTo>
                      <a:pt x="64" y="876"/>
                    </a:lnTo>
                    <a:lnTo>
                      <a:pt x="66" y="866"/>
                    </a:lnTo>
                    <a:lnTo>
                      <a:pt x="68" y="855"/>
                    </a:lnTo>
                    <a:lnTo>
                      <a:pt x="70" y="846"/>
                    </a:lnTo>
                    <a:lnTo>
                      <a:pt x="72" y="836"/>
                    </a:lnTo>
                    <a:lnTo>
                      <a:pt x="74" y="825"/>
                    </a:lnTo>
                    <a:lnTo>
                      <a:pt x="76" y="815"/>
                    </a:lnTo>
                    <a:lnTo>
                      <a:pt x="78" y="806"/>
                    </a:lnTo>
                    <a:lnTo>
                      <a:pt x="79" y="796"/>
                    </a:lnTo>
                    <a:lnTo>
                      <a:pt x="81" y="785"/>
                    </a:lnTo>
                    <a:lnTo>
                      <a:pt x="85" y="775"/>
                    </a:lnTo>
                    <a:lnTo>
                      <a:pt x="87" y="766"/>
                    </a:lnTo>
                    <a:lnTo>
                      <a:pt x="91" y="758"/>
                    </a:lnTo>
                    <a:lnTo>
                      <a:pt x="93" y="747"/>
                    </a:lnTo>
                    <a:lnTo>
                      <a:pt x="97" y="739"/>
                    </a:lnTo>
                    <a:lnTo>
                      <a:pt x="100" y="718"/>
                    </a:lnTo>
                    <a:lnTo>
                      <a:pt x="106" y="699"/>
                    </a:lnTo>
                    <a:lnTo>
                      <a:pt x="112" y="682"/>
                    </a:lnTo>
                    <a:lnTo>
                      <a:pt x="117" y="665"/>
                    </a:lnTo>
                    <a:lnTo>
                      <a:pt x="123" y="646"/>
                    </a:lnTo>
                    <a:lnTo>
                      <a:pt x="131" y="629"/>
                    </a:lnTo>
                    <a:lnTo>
                      <a:pt x="136" y="612"/>
                    </a:lnTo>
                    <a:lnTo>
                      <a:pt x="146" y="595"/>
                    </a:lnTo>
                    <a:lnTo>
                      <a:pt x="152" y="577"/>
                    </a:lnTo>
                    <a:lnTo>
                      <a:pt x="159" y="562"/>
                    </a:lnTo>
                    <a:lnTo>
                      <a:pt x="169" y="545"/>
                    </a:lnTo>
                    <a:lnTo>
                      <a:pt x="176" y="530"/>
                    </a:lnTo>
                    <a:lnTo>
                      <a:pt x="184" y="513"/>
                    </a:lnTo>
                    <a:lnTo>
                      <a:pt x="192" y="498"/>
                    </a:lnTo>
                    <a:lnTo>
                      <a:pt x="201" y="482"/>
                    </a:lnTo>
                    <a:lnTo>
                      <a:pt x="211" y="469"/>
                    </a:lnTo>
                    <a:lnTo>
                      <a:pt x="218" y="454"/>
                    </a:lnTo>
                    <a:lnTo>
                      <a:pt x="228" y="439"/>
                    </a:lnTo>
                    <a:lnTo>
                      <a:pt x="235" y="425"/>
                    </a:lnTo>
                    <a:lnTo>
                      <a:pt x="245" y="412"/>
                    </a:lnTo>
                    <a:lnTo>
                      <a:pt x="252" y="397"/>
                    </a:lnTo>
                    <a:lnTo>
                      <a:pt x="262" y="384"/>
                    </a:lnTo>
                    <a:lnTo>
                      <a:pt x="271" y="370"/>
                    </a:lnTo>
                    <a:lnTo>
                      <a:pt x="281" y="359"/>
                    </a:lnTo>
                    <a:lnTo>
                      <a:pt x="290" y="346"/>
                    </a:lnTo>
                    <a:lnTo>
                      <a:pt x="300" y="334"/>
                    </a:lnTo>
                    <a:lnTo>
                      <a:pt x="308" y="321"/>
                    </a:lnTo>
                    <a:lnTo>
                      <a:pt x="317" y="309"/>
                    </a:lnTo>
                    <a:lnTo>
                      <a:pt x="327" y="300"/>
                    </a:lnTo>
                    <a:lnTo>
                      <a:pt x="336" y="288"/>
                    </a:lnTo>
                    <a:lnTo>
                      <a:pt x="346" y="277"/>
                    </a:lnTo>
                    <a:lnTo>
                      <a:pt x="355" y="268"/>
                    </a:lnTo>
                    <a:lnTo>
                      <a:pt x="365" y="256"/>
                    </a:lnTo>
                    <a:lnTo>
                      <a:pt x="372" y="245"/>
                    </a:lnTo>
                    <a:lnTo>
                      <a:pt x="380" y="235"/>
                    </a:lnTo>
                    <a:lnTo>
                      <a:pt x="389" y="226"/>
                    </a:lnTo>
                    <a:lnTo>
                      <a:pt x="397" y="218"/>
                    </a:lnTo>
                    <a:lnTo>
                      <a:pt x="404" y="209"/>
                    </a:lnTo>
                    <a:lnTo>
                      <a:pt x="414" y="199"/>
                    </a:lnTo>
                    <a:lnTo>
                      <a:pt x="422" y="192"/>
                    </a:lnTo>
                    <a:lnTo>
                      <a:pt x="429" y="184"/>
                    </a:lnTo>
                    <a:lnTo>
                      <a:pt x="435" y="176"/>
                    </a:lnTo>
                    <a:lnTo>
                      <a:pt x="442" y="169"/>
                    </a:lnTo>
                    <a:lnTo>
                      <a:pt x="450" y="161"/>
                    </a:lnTo>
                    <a:lnTo>
                      <a:pt x="458" y="155"/>
                    </a:lnTo>
                    <a:lnTo>
                      <a:pt x="465" y="150"/>
                    </a:lnTo>
                    <a:lnTo>
                      <a:pt x="471" y="144"/>
                    </a:lnTo>
                    <a:lnTo>
                      <a:pt x="479" y="138"/>
                    </a:lnTo>
                    <a:lnTo>
                      <a:pt x="482" y="133"/>
                    </a:lnTo>
                    <a:lnTo>
                      <a:pt x="488" y="127"/>
                    </a:lnTo>
                    <a:lnTo>
                      <a:pt x="494" y="123"/>
                    </a:lnTo>
                    <a:lnTo>
                      <a:pt x="499" y="119"/>
                    </a:lnTo>
                    <a:lnTo>
                      <a:pt x="507" y="110"/>
                    </a:lnTo>
                    <a:lnTo>
                      <a:pt x="517" y="104"/>
                    </a:lnTo>
                    <a:lnTo>
                      <a:pt x="522" y="98"/>
                    </a:lnTo>
                    <a:lnTo>
                      <a:pt x="526" y="96"/>
                    </a:lnTo>
                    <a:lnTo>
                      <a:pt x="530" y="95"/>
                    </a:lnTo>
                    <a:lnTo>
                      <a:pt x="532" y="95"/>
                    </a:lnTo>
                    <a:lnTo>
                      <a:pt x="562" y="138"/>
                    </a:lnTo>
                    <a:lnTo>
                      <a:pt x="621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Line 84"/>
            <p:cNvSpPr/>
            <p:nvPr/>
          </p:nvSpPr>
          <p:spPr>
            <a:xfrm>
              <a:off x="4190760" y="4419720"/>
              <a:ext cx="914400" cy="16765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88"/>
          <p:cNvGrpSpPr/>
          <p:nvPr/>
        </p:nvGrpSpPr>
        <p:grpSpPr>
          <a:xfrm>
            <a:off x="6929280" y="4267080"/>
            <a:ext cx="2214720" cy="2214360"/>
            <a:chOff x="6929280" y="4267080"/>
            <a:chExt cx="2214720" cy="2214360"/>
          </a:xfrm>
        </p:grpSpPr>
        <p:pic>
          <p:nvPicPr>
            <p:cNvPr id="146" name="Picture 7" descr="j0335112"/>
            <p:cNvPicPr/>
            <p:nvPr/>
          </p:nvPicPr>
          <p:blipFill>
            <a:blip r:embed="rId1"/>
            <a:stretch/>
          </p:blipFill>
          <p:spPr>
            <a:xfrm>
              <a:off x="6929280" y="4267080"/>
              <a:ext cx="2214720" cy="22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Line 86"/>
            <p:cNvSpPr/>
            <p:nvPr/>
          </p:nvSpPr>
          <p:spPr>
            <a:xfrm>
              <a:off x="8072280" y="4800240"/>
              <a:ext cx="0" cy="12193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Straight Connector 83"/>
          <p:cNvSpPr/>
          <p:nvPr/>
        </p:nvSpPr>
        <p:spPr>
          <a:xfrm flipH="1">
            <a:off x="3352680" y="1440"/>
            <a:ext cx="77760" cy="6856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84"/>
          <p:cNvSpPr/>
          <p:nvPr/>
        </p:nvSpPr>
        <p:spPr>
          <a:xfrm>
            <a:off x="3657600" y="10666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ted 23 ½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28195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th keeps its tilt as it revo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24"/>
          <p:cNvGrpSpPr/>
          <p:nvPr/>
        </p:nvGrpSpPr>
        <p:grpSpPr>
          <a:xfrm>
            <a:off x="5562720" y="4114800"/>
            <a:ext cx="2259000" cy="2743200"/>
            <a:chOff x="5562720" y="4114800"/>
            <a:chExt cx="2259000" cy="2743200"/>
          </a:xfrm>
        </p:grpSpPr>
        <p:sp>
          <p:nvSpPr>
            <p:cNvPr id="152" name="Line 12"/>
            <p:cNvSpPr/>
            <p:nvPr/>
          </p:nvSpPr>
          <p:spPr>
            <a:xfrm>
              <a:off x="6629400" y="5715000"/>
              <a:ext cx="763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 flipH="1">
              <a:off x="7162560" y="4876560"/>
              <a:ext cx="60948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>
              <a:off x="5638680" y="4952880"/>
              <a:ext cx="5335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5"/>
            <p:cNvSpPr/>
            <p:nvPr/>
          </p:nvSpPr>
          <p:spPr>
            <a:xfrm flipH="1">
              <a:off x="6629040" y="4114800"/>
              <a:ext cx="1522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0" descr="j0237272"/>
            <p:cNvPicPr/>
            <p:nvPr/>
          </p:nvPicPr>
          <p:blipFill>
            <a:blip r:embed="rId1"/>
            <a:stretch/>
          </p:blipFill>
          <p:spPr>
            <a:xfrm>
              <a:off x="5562720" y="4267080"/>
              <a:ext cx="2259000" cy="226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 Box 21"/>
          <p:cNvSpPr/>
          <p:nvPr/>
        </p:nvSpPr>
        <p:spPr>
          <a:xfrm>
            <a:off x="6019920" y="31240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1"/>
          <p:cNvGrpSpPr/>
          <p:nvPr/>
        </p:nvGrpSpPr>
        <p:grpSpPr>
          <a:xfrm>
            <a:off x="5486400" y="380880"/>
            <a:ext cx="2259000" cy="2438280"/>
            <a:chOff x="5486400" y="380880"/>
            <a:chExt cx="2259000" cy="2438280"/>
          </a:xfrm>
        </p:grpSpPr>
        <p:pic>
          <p:nvPicPr>
            <p:cNvPr id="159" name="Picture 25" descr="j0237272"/>
            <p:cNvPicPr/>
            <p:nvPr/>
          </p:nvPicPr>
          <p:blipFill>
            <a:blip r:embed="rId2"/>
            <a:stretch/>
          </p:blipFill>
          <p:spPr>
            <a:xfrm>
              <a:off x="5486400" y="457200"/>
              <a:ext cx="2259000" cy="22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Line 27"/>
            <p:cNvSpPr/>
            <p:nvPr/>
          </p:nvSpPr>
          <p:spPr>
            <a:xfrm>
              <a:off x="6400800" y="380880"/>
              <a:ext cx="3808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8"/>
            <p:cNvSpPr/>
            <p:nvPr/>
          </p:nvSpPr>
          <p:spPr>
            <a:xfrm>
              <a:off x="7238880" y="129528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9"/>
            <p:cNvSpPr/>
            <p:nvPr/>
          </p:nvSpPr>
          <p:spPr>
            <a:xfrm>
              <a:off x="5562360" y="1218960"/>
              <a:ext cx="381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0"/>
            <p:cNvSpPr/>
            <p:nvPr/>
          </p:nvSpPr>
          <p:spPr>
            <a:xfrm>
              <a:off x="6400800" y="2057400"/>
              <a:ext cx="4572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Straight Connector 18"/>
          <p:cNvSpPr/>
          <p:nvPr/>
        </p:nvSpPr>
        <p:spPr>
          <a:xfrm flipH="1">
            <a:off x="3200400" y="0"/>
            <a:ext cx="7632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26668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ted toward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800600" y="4568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isphere gets more direc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7"/>
          <p:cNvSpPr/>
          <p:nvPr/>
        </p:nvSpPr>
        <p:spPr>
          <a:xfrm flipH="1">
            <a:off x="3047760" y="0"/>
            <a:ext cx="7596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07seasons-closeup-summer-flashlight"/>
          <p:cNvPicPr/>
          <p:nvPr/>
        </p:nvPicPr>
        <p:blipFill>
          <a:blip r:embed="rId1"/>
          <a:stretch/>
        </p:blipFill>
        <p:spPr>
          <a:xfrm>
            <a:off x="685800" y="2514600"/>
            <a:ext cx="705816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2743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ted away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isphere gets less direc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7"/>
          <p:cNvSpPr/>
          <p:nvPr/>
        </p:nvSpPr>
        <p:spPr>
          <a:xfrm flipH="1">
            <a:off x="3198960" y="1440"/>
            <a:ext cx="2880" cy="6858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07seasons-closeup-winter-flashlight"/>
          <p:cNvPicPr/>
          <p:nvPr/>
        </p:nvPicPr>
        <p:blipFill>
          <a:blip r:embed="rId1"/>
          <a:stretch/>
        </p:blipFill>
        <p:spPr>
          <a:xfrm>
            <a:off x="838080" y="2514600"/>
            <a:ext cx="72867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19:14:50Z</dcterms:created>
  <dc:creator>Jean Kavanagh</dc:creator>
  <dc:description/>
  <dc:language>en-US</dc:language>
  <cp:lastModifiedBy>Jean Kavanagh</cp:lastModifiedBy>
  <dcterms:modified xsi:type="dcterms:W3CDTF">2010-02-18T17:55:48Z</dcterms:modified>
  <cp:revision>27</cp:revision>
  <dc:subject/>
  <dc:title>The Revolution of the Earth</dc:title>
</cp:coreProperties>
</file>